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F06-33B1-4D5E-9220-B1835A32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998-3308-4A6D-893B-B72DCCD4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82A-A603-4403-ABBB-F82A0669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E50-AC63-42DA-9EC3-5E828F0E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0DCE-13C8-43DD-9574-70CE1F41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57A4-174B-4C4B-A6D4-008C97D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D79-92BA-43CD-B71E-BD46A2E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F34A-E88F-4F3C-B4B9-FAADBF2C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CF21-2CC0-48A6-9B75-00CA9057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4F5B-D962-4F43-927E-D0268D75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09C0-0126-4F1B-AE6F-67CA16A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05A-EA52-4021-8C08-2B1C6BB2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6910-DEB7-446D-AC9B-DA545C5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BF03-2BB9-40DC-9912-7074FDB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6F5-3A58-434B-9324-5A95BEEA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9C7-631F-4C0B-A01A-A98C09CD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21C0-F475-470B-BC75-807B5D8A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EE20-F3DB-4B68-B6DB-2664B859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8FB0-BA79-4CE9-9A8B-C2EC88F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D855-2BE9-404D-8305-B4B65E5E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BFE5-C2AE-4AB4-97C2-00FDCAE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4FC1-F587-4FD9-9420-33BD439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4D6-52DD-45A1-AB0D-D8F12E29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7376-47A4-46B0-8430-79718D7A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BC27-66F6-4BEA-AF9B-66A67A0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6839-D8CD-4D8D-AAEC-82D6296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5409-02BF-4089-8F92-D65C5B1C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B831-F414-4BEE-93E0-F2CE8B78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F593-F941-44AA-A763-E72642D7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EDE2-BCA6-49A8-BD38-37CA6B29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E37F-8B84-4A70-B479-80146F53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10B73-DBDF-4C84-B1A8-144CDA75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5E5D-4118-4CBC-8450-862A5E5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7C8-CC0C-460B-940C-D0DFD51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CAF8F-51E9-4E93-8BF4-89CFD6E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5376-4A96-442A-A81B-D700E890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4A85-9415-4030-81F7-93162146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72E1-81EB-4DDF-B784-B9E112B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B400-88FE-4936-94C4-AF7AB28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C8AD-EEEC-4E45-BB6C-9F1E92F9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8A53-50DD-4FA2-ADB1-301ECAF6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2DF2-172C-43DC-9EBF-3729AFCD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769D2-B77F-4935-B79A-BFF491B8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95BB-5A4C-4787-9E3A-A099835B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DA5-F407-434B-80D7-1F9249C1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6977-8B62-4B4D-854D-CC0D0A64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E715-87AE-4AF1-AD2D-6810B48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6263-2D3C-41A3-8145-A561F6DE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EF18D-9323-4754-9AC4-621296F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7CEA-81F4-40AD-8555-237BEC0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E0B5-0E86-426B-8E8C-76A6659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32C3-E8B7-450C-A3D2-A7FB967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C5C2-6BFE-49D1-8DD4-9220C6F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EC40-796B-4FF9-BB95-A5F8D1F3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A0688-3B7D-4145-8713-FF44AE89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70B-43E5-47C3-8987-1F4BBFDB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E286-C7F8-48BE-A34E-DF7BAED3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B356-A891-492E-A672-74DD8A93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7B2D-A9E5-40CA-82A8-6A35DF77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D475-5A52-4F53-B06E-B2D3CA3C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B788-BB1C-4298-9339-AF04DDB7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C673-1771-49A1-A8C9-6848EF33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AA6A-EFD9-4D35-AA91-7E8986B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2CFB-3BF7-409C-B248-F98C849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9EB2-7825-4AD1-8C2A-E7519E8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E0662-3EB4-4D7B-B620-FF4E570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6CF-800B-4DFB-ACE6-82089C9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66911-C212-4558-8A32-B2564735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BAC69-F924-4944-B2E1-728496AF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7970E-8DAE-42ED-9ADD-D8ADD898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E1ED-C78C-4F6C-997E-AE27C18E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B6A7-3F31-4F58-9D16-4DFB8A1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3731-4CCC-4D29-8ADB-CE44BD9F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C6479-D3B0-4AC3-931F-9DDBD339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CF670-3B81-42E4-849D-97C9417A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1E94-9F2D-490C-9DE7-81D60FC7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8238C-0EFA-4F54-9E0F-72EB277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749-287A-435F-B2E5-AB85781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3F7F-29BA-4126-BFE2-E499CCB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E033-36BE-4EC6-93E7-6C6422A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C8B2-FB24-4D6A-B04E-E42C578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6C146-CC66-4A39-8242-64012DB7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C5585-69E9-4C5C-9DB4-63AE6C91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636-0DA2-47FA-8A4F-99C7B801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13CF0-344D-4248-94DB-CE2F98CC50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5B93E-BCF4-455A-A0AE-37E61278DA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ABBC6-C351-4292-AF9F-3284580BF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5FD2E-6FE5-4ACE-BFBD-739ED7C070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6F284-4AB5-4029-9CEF-18E931E44764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9A653-DEE3-4A26-B279-BA252FD9DC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B8F3D-1CDA-4A5E-B97C-FC8433CBFB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3" descr=""/>
          <p:cNvPicPr/>
          <p:nvPr/>
        </p:nvPicPr>
        <p:blipFill>
          <a:blip r:embed="rId1"/>
          <a:stretch/>
        </p:blipFill>
        <p:spPr>
          <a:xfrm>
            <a:off x="0" y="19080"/>
            <a:ext cx="12192120" cy="6819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7052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44680" y="1736280"/>
            <a:ext cx="1141704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 имён прилагательных»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знать, как определить род имени прилагательного;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учиться определять род имени прилагательного.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27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096920" y="1846440"/>
            <a:ext cx="1061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алая,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еточка нетканая,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танчик рябенький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цвет,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ный вкус,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ое сердце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3398760" y="1957320"/>
            <a:ext cx="443160" cy="38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5" descr=""/>
          <p:cNvPicPr/>
          <p:nvPr/>
        </p:nvPicPr>
        <p:blipFill>
          <a:blip r:embed="rId1"/>
          <a:stretch/>
        </p:blipFill>
        <p:spPr>
          <a:xfrm>
            <a:off x="4648320" y="263376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6" descr=""/>
          <p:cNvPicPr/>
          <p:nvPr/>
        </p:nvPicPr>
        <p:blipFill>
          <a:blip r:embed="rId2"/>
          <a:stretch/>
        </p:blipFill>
        <p:spPr>
          <a:xfrm>
            <a:off x="4876920" y="3262320"/>
            <a:ext cx="527040" cy="4078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7" descr=""/>
          <p:cNvPicPr/>
          <p:nvPr/>
        </p:nvPicPr>
        <p:blipFill>
          <a:blip r:embed="rId3"/>
          <a:stretch/>
        </p:blipFill>
        <p:spPr>
          <a:xfrm>
            <a:off x="7294680" y="4495680"/>
            <a:ext cx="574560" cy="4255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8" descr=""/>
          <p:cNvPicPr/>
          <p:nvPr/>
        </p:nvPicPr>
        <p:blipFill>
          <a:blip r:embed="rId4"/>
          <a:stretch/>
        </p:blipFill>
        <p:spPr>
          <a:xfrm>
            <a:off x="7128000" y="5164200"/>
            <a:ext cx="582480" cy="43344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9" descr=""/>
          <p:cNvPicPr/>
          <p:nvPr/>
        </p:nvPicPr>
        <p:blipFill>
          <a:blip r:embed="rId5"/>
          <a:stretch/>
        </p:blipFill>
        <p:spPr>
          <a:xfrm>
            <a:off x="7621560" y="58388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0"/>
          <p:cNvSpPr/>
          <p:nvPr/>
        </p:nvSpPr>
        <p:spPr>
          <a:xfrm>
            <a:off x="2954160" y="156060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Рисунок 12" descr=""/>
          <p:cNvPicPr/>
          <p:nvPr/>
        </p:nvPicPr>
        <p:blipFill>
          <a:blip r:embed="rId6"/>
          <a:stretch/>
        </p:blipFill>
        <p:spPr>
          <a:xfrm>
            <a:off x="3740040" y="2238480"/>
            <a:ext cx="1092240" cy="68256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4"/>
          <p:cNvSpPr/>
          <p:nvPr/>
        </p:nvSpPr>
        <p:spPr>
          <a:xfrm>
            <a:off x="3823560" y="2905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Рисунок 15" descr=""/>
          <p:cNvPicPr/>
          <p:nvPr/>
        </p:nvPicPr>
        <p:blipFill>
          <a:blip r:embed="rId7"/>
          <a:stretch/>
        </p:blipFill>
        <p:spPr>
          <a:xfrm>
            <a:off x="6632640" y="4097160"/>
            <a:ext cx="988920" cy="6829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6" descr=""/>
          <p:cNvPicPr/>
          <p:nvPr/>
        </p:nvPicPr>
        <p:blipFill>
          <a:blip r:embed="rId8"/>
          <a:stretch/>
        </p:blipFill>
        <p:spPr>
          <a:xfrm>
            <a:off x="6502320" y="4759200"/>
            <a:ext cx="987480" cy="6829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17"/>
          <p:cNvSpPr/>
          <p:nvPr/>
        </p:nvSpPr>
        <p:spPr>
          <a:xfrm>
            <a:off x="6599520" y="5521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Рисунок 18" descr=""/>
          <p:cNvPicPr/>
          <p:nvPr/>
        </p:nvPicPr>
        <p:blipFill>
          <a:blip r:embed="rId9"/>
          <a:stretch/>
        </p:blipFill>
        <p:spPr>
          <a:xfrm>
            <a:off x="6811920" y="1806480"/>
            <a:ext cx="1868400" cy="21495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9" descr=""/>
          <p:cNvPicPr/>
          <p:nvPr/>
        </p:nvPicPr>
        <p:blipFill>
          <a:blip r:embed="rId10"/>
          <a:stretch/>
        </p:blipFill>
        <p:spPr>
          <a:xfrm>
            <a:off x="2852640" y="3784680"/>
            <a:ext cx="2170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30400" y="12240"/>
            <a:ext cx="100584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30080" y="979560"/>
            <a:ext cx="1090800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ют листья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парк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ёпл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ень. Чуть сыровато. 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рач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тинках вися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желтевш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точки. Как хороши они! Долго падаю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д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. Трава уже пожелтела и напомина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от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вёр. Я провожаю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уб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зами листок. Он падает 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р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вер осен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3846600" y="2038320"/>
            <a:ext cx="377640" cy="295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Рисунок 5" descr=""/>
          <p:cNvPicPr/>
          <p:nvPr/>
        </p:nvPicPr>
        <p:blipFill>
          <a:blip r:embed="rId1"/>
          <a:stretch/>
        </p:blipFill>
        <p:spPr>
          <a:xfrm>
            <a:off x="9563040" y="1932120"/>
            <a:ext cx="484200" cy="4014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6" descr=""/>
          <p:cNvPicPr/>
          <p:nvPr/>
        </p:nvPicPr>
        <p:blipFill>
          <a:blip r:embed="rId2"/>
          <a:stretch/>
        </p:blipFill>
        <p:spPr>
          <a:xfrm>
            <a:off x="3433680" y="2863800"/>
            <a:ext cx="384120" cy="32076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"/>
          <p:cNvPicPr/>
          <p:nvPr/>
        </p:nvPicPr>
        <p:blipFill>
          <a:blip r:embed="rId3"/>
          <a:stretch/>
        </p:blipFill>
        <p:spPr>
          <a:xfrm>
            <a:off x="2027160" y="3703680"/>
            <a:ext cx="397080" cy="3301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8" descr=""/>
          <p:cNvPicPr/>
          <p:nvPr/>
        </p:nvPicPr>
        <p:blipFill>
          <a:blip r:embed="rId4"/>
          <a:stretch/>
        </p:blipFill>
        <p:spPr>
          <a:xfrm>
            <a:off x="9901080" y="3701880"/>
            <a:ext cx="397080" cy="32868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9" descr=""/>
          <p:cNvPicPr/>
          <p:nvPr/>
        </p:nvPicPr>
        <p:blipFill>
          <a:blip r:embed="rId5"/>
          <a:stretch/>
        </p:blipFill>
        <p:spPr>
          <a:xfrm>
            <a:off x="3287880" y="4519440"/>
            <a:ext cx="677520" cy="387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0" descr=""/>
          <p:cNvPicPr/>
          <p:nvPr/>
        </p:nvPicPr>
        <p:blipFill>
          <a:blip r:embed="rId6"/>
          <a:stretch/>
        </p:blipFill>
        <p:spPr>
          <a:xfrm>
            <a:off x="9082080" y="454032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" descr=""/>
          <p:cNvPicPr/>
          <p:nvPr/>
        </p:nvPicPr>
        <p:blipFill>
          <a:blip r:embed="rId7"/>
          <a:stretch/>
        </p:blipFill>
        <p:spPr>
          <a:xfrm>
            <a:off x="3133800" y="1531800"/>
            <a:ext cx="1090440" cy="682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1" descr=""/>
          <p:cNvPicPr/>
          <p:nvPr/>
        </p:nvPicPr>
        <p:blipFill>
          <a:blip r:embed="rId8"/>
          <a:stretch/>
        </p:blipFill>
        <p:spPr>
          <a:xfrm>
            <a:off x="8380440" y="1590840"/>
            <a:ext cx="1090440" cy="6825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2" descr=""/>
          <p:cNvPicPr/>
          <p:nvPr/>
        </p:nvPicPr>
        <p:blipFill>
          <a:blip r:embed="rId9"/>
          <a:stretch/>
        </p:blipFill>
        <p:spPr>
          <a:xfrm>
            <a:off x="2293920" y="2341440"/>
            <a:ext cx="987480" cy="6829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3" descr=""/>
          <p:cNvPicPr/>
          <p:nvPr/>
        </p:nvPicPr>
        <p:blipFill>
          <a:blip r:embed="rId10"/>
          <a:stretch/>
        </p:blipFill>
        <p:spPr>
          <a:xfrm>
            <a:off x="1306440" y="318456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"/>
          <p:cNvPicPr/>
          <p:nvPr/>
        </p:nvPicPr>
        <p:blipFill>
          <a:blip r:embed="rId11"/>
          <a:stretch/>
        </p:blipFill>
        <p:spPr>
          <a:xfrm>
            <a:off x="9310680" y="325764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5" descr=""/>
          <p:cNvPicPr/>
          <p:nvPr/>
        </p:nvPicPr>
        <p:blipFill>
          <a:blip r:embed="rId12"/>
          <a:stretch/>
        </p:blipFill>
        <p:spPr>
          <a:xfrm>
            <a:off x="2735280" y="3941640"/>
            <a:ext cx="987480" cy="6843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6" descr=""/>
          <p:cNvPicPr/>
          <p:nvPr/>
        </p:nvPicPr>
        <p:blipFill>
          <a:blip r:embed="rId13"/>
          <a:stretch/>
        </p:blipFill>
        <p:spPr>
          <a:xfrm>
            <a:off x="8628120" y="4033800"/>
            <a:ext cx="9874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96920" y="-360"/>
            <a:ext cx="100584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98240" y="988560"/>
            <a:ext cx="11250360" cy="5689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человек по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имнему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у. На деревьях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ежны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пки снега.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яжёлы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и выпрямились.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ловы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пы держат снег. А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нки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рёзы согнулись дугой. Человек стукнул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бово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лкой по берёзе.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шисты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ег с вершины свалился. </a:t>
            </a:r>
            <a:r>
              <a:rPr b="0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авица свободно вздохнула, выпрямилась. 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3" name="Рисунок 3" descr=""/>
          <p:cNvPicPr/>
          <p:nvPr/>
        </p:nvPicPr>
        <p:blipFill>
          <a:blip r:embed="rId1"/>
          <a:stretch/>
        </p:blipFill>
        <p:spPr>
          <a:xfrm>
            <a:off x="8529480" y="2338560"/>
            <a:ext cx="438480" cy="3492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" descr=""/>
          <p:cNvPicPr/>
          <p:nvPr/>
        </p:nvPicPr>
        <p:blipFill>
          <a:blip r:embed="rId2"/>
          <a:stretch/>
        </p:blipFill>
        <p:spPr>
          <a:xfrm>
            <a:off x="1565280" y="3233880"/>
            <a:ext cx="466560" cy="3729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5" descr=""/>
          <p:cNvPicPr/>
          <p:nvPr/>
        </p:nvPicPr>
        <p:blipFill>
          <a:blip r:embed="rId3"/>
          <a:stretch/>
        </p:blipFill>
        <p:spPr>
          <a:xfrm>
            <a:off x="5786280" y="3233880"/>
            <a:ext cx="466920" cy="37296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"/>
          <p:cNvPicPr/>
          <p:nvPr/>
        </p:nvPicPr>
        <p:blipFill>
          <a:blip r:embed="rId4"/>
          <a:stretch/>
        </p:blipFill>
        <p:spPr>
          <a:xfrm>
            <a:off x="8132760" y="4054320"/>
            <a:ext cx="469800" cy="3780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7" descr=""/>
          <p:cNvPicPr/>
          <p:nvPr/>
        </p:nvPicPr>
        <p:blipFill>
          <a:blip r:embed="rId5"/>
          <a:stretch/>
        </p:blipFill>
        <p:spPr>
          <a:xfrm>
            <a:off x="1798560" y="4952880"/>
            <a:ext cx="469800" cy="3780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8" descr=""/>
          <p:cNvPicPr/>
          <p:nvPr/>
        </p:nvPicPr>
        <p:blipFill>
          <a:blip r:embed="rId6"/>
          <a:stretch/>
        </p:blipFill>
        <p:spPr>
          <a:xfrm>
            <a:off x="7385040" y="5037120"/>
            <a:ext cx="401760" cy="2937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"/>
          <p:cNvPicPr/>
          <p:nvPr/>
        </p:nvPicPr>
        <p:blipFill>
          <a:blip r:embed="rId7"/>
          <a:stretch/>
        </p:blipFill>
        <p:spPr>
          <a:xfrm>
            <a:off x="3998880" y="2303640"/>
            <a:ext cx="684360" cy="3841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0" descr=""/>
          <p:cNvPicPr/>
          <p:nvPr/>
        </p:nvPicPr>
        <p:blipFill>
          <a:blip r:embed="rId8"/>
          <a:stretch/>
        </p:blipFill>
        <p:spPr>
          <a:xfrm>
            <a:off x="7637400" y="1838160"/>
            <a:ext cx="1092240" cy="6829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1" descr=""/>
          <p:cNvPicPr/>
          <p:nvPr/>
        </p:nvPicPr>
        <p:blipFill>
          <a:blip r:embed="rId9"/>
          <a:stretch/>
        </p:blipFill>
        <p:spPr>
          <a:xfrm>
            <a:off x="733320" y="2736720"/>
            <a:ext cx="1090800" cy="6829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2" descr=""/>
          <p:cNvPicPr/>
          <p:nvPr/>
        </p:nvPicPr>
        <p:blipFill>
          <a:blip r:embed="rId10"/>
          <a:stretch/>
        </p:blipFill>
        <p:spPr>
          <a:xfrm>
            <a:off x="5032440" y="2736720"/>
            <a:ext cx="1090440" cy="6829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3" descr=""/>
          <p:cNvPicPr/>
          <p:nvPr/>
        </p:nvPicPr>
        <p:blipFill>
          <a:blip r:embed="rId11"/>
          <a:stretch/>
        </p:blipFill>
        <p:spPr>
          <a:xfrm>
            <a:off x="9462960" y="2809800"/>
            <a:ext cx="1090800" cy="684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4" descr=""/>
          <p:cNvPicPr/>
          <p:nvPr/>
        </p:nvPicPr>
        <p:blipFill>
          <a:blip r:embed="rId12"/>
          <a:stretch/>
        </p:blipFill>
        <p:spPr>
          <a:xfrm>
            <a:off x="7240680" y="3645000"/>
            <a:ext cx="1090440" cy="6825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5" descr=""/>
          <p:cNvPicPr/>
          <p:nvPr/>
        </p:nvPicPr>
        <p:blipFill>
          <a:blip r:embed="rId13"/>
          <a:stretch/>
        </p:blipFill>
        <p:spPr>
          <a:xfrm>
            <a:off x="6546960" y="4568760"/>
            <a:ext cx="1090440" cy="6825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6" descr=""/>
          <p:cNvPicPr/>
          <p:nvPr/>
        </p:nvPicPr>
        <p:blipFill>
          <a:blip r:embed="rId14"/>
          <a:stretch/>
        </p:blipFill>
        <p:spPr>
          <a:xfrm>
            <a:off x="3422520" y="181296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7" descr=""/>
          <p:cNvPicPr/>
          <p:nvPr/>
        </p:nvPicPr>
        <p:blipFill>
          <a:blip r:embed="rId15"/>
          <a:stretch/>
        </p:blipFill>
        <p:spPr>
          <a:xfrm>
            <a:off x="792000" y="4533840"/>
            <a:ext cx="9892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06640" y="0"/>
            <a:ext cx="10058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29720" y="933480"/>
            <a:ext cx="11082600" cy="531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мк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л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ёпл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нь. Странный шум доносился из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ьника. Мы осторожно раздвину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юч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ёлочки. На земле сидел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уп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треб. Своим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тист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ами он прижимал к земле кусок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чели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т. Пчёлы атакова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нат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бойника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Рисунок 3" descr=""/>
          <p:cNvPicPr/>
          <p:nvPr/>
        </p:nvPicPr>
        <p:blipFill>
          <a:blip r:embed="rId1"/>
          <a:stretch/>
        </p:blipFill>
        <p:spPr>
          <a:xfrm>
            <a:off x="2478240" y="2198520"/>
            <a:ext cx="438120" cy="3542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"/>
          <p:cNvPicPr/>
          <p:nvPr/>
        </p:nvPicPr>
        <p:blipFill>
          <a:blip r:embed="rId2"/>
          <a:stretch/>
        </p:blipFill>
        <p:spPr>
          <a:xfrm>
            <a:off x="5284800" y="3095640"/>
            <a:ext cx="439560" cy="3524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5" descr=""/>
          <p:cNvPicPr/>
          <p:nvPr/>
        </p:nvPicPr>
        <p:blipFill>
          <a:blip r:embed="rId3"/>
          <a:stretch/>
        </p:blipFill>
        <p:spPr>
          <a:xfrm>
            <a:off x="10280520" y="3095640"/>
            <a:ext cx="462240" cy="3715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"/>
          <p:cNvPicPr/>
          <p:nvPr/>
        </p:nvPicPr>
        <p:blipFill>
          <a:blip r:embed="rId4"/>
          <a:stretch/>
        </p:blipFill>
        <p:spPr>
          <a:xfrm>
            <a:off x="1895400" y="4896000"/>
            <a:ext cx="439920" cy="3538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7" descr=""/>
          <p:cNvPicPr/>
          <p:nvPr/>
        </p:nvPicPr>
        <p:blipFill>
          <a:blip r:embed="rId5"/>
          <a:stretch/>
        </p:blipFill>
        <p:spPr>
          <a:xfrm>
            <a:off x="9275760" y="2203560"/>
            <a:ext cx="496800" cy="3999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"/>
          <p:cNvPicPr/>
          <p:nvPr/>
        </p:nvPicPr>
        <p:blipFill>
          <a:blip r:embed="rId6"/>
          <a:stretch/>
        </p:blipFill>
        <p:spPr>
          <a:xfrm>
            <a:off x="4389480" y="3938760"/>
            <a:ext cx="690480" cy="4665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9" descr=""/>
          <p:cNvPicPr/>
          <p:nvPr/>
        </p:nvPicPr>
        <p:blipFill>
          <a:blip r:embed="rId7"/>
          <a:stretch/>
        </p:blipFill>
        <p:spPr>
          <a:xfrm>
            <a:off x="6735600" y="4848120"/>
            <a:ext cx="493920" cy="40176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0" descr=""/>
          <p:cNvPicPr/>
          <p:nvPr/>
        </p:nvPicPr>
        <p:blipFill>
          <a:blip r:embed="rId8"/>
          <a:stretch/>
        </p:blipFill>
        <p:spPr>
          <a:xfrm>
            <a:off x="1841400" y="169380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1" descr=""/>
          <p:cNvPicPr/>
          <p:nvPr/>
        </p:nvPicPr>
        <p:blipFill>
          <a:blip r:embed="rId9"/>
          <a:stretch/>
        </p:blipFill>
        <p:spPr>
          <a:xfrm>
            <a:off x="8427960" y="175896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2" descr=""/>
          <p:cNvPicPr/>
          <p:nvPr/>
        </p:nvPicPr>
        <p:blipFill>
          <a:blip r:embed="rId10"/>
          <a:stretch/>
        </p:blipFill>
        <p:spPr>
          <a:xfrm>
            <a:off x="9461520" y="2647800"/>
            <a:ext cx="987480" cy="6829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3" descr=""/>
          <p:cNvPicPr/>
          <p:nvPr/>
        </p:nvPicPr>
        <p:blipFill>
          <a:blip r:embed="rId11"/>
          <a:stretch/>
        </p:blipFill>
        <p:spPr>
          <a:xfrm>
            <a:off x="5951520" y="4459320"/>
            <a:ext cx="987480" cy="6843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4" descr=""/>
          <p:cNvPicPr/>
          <p:nvPr/>
        </p:nvPicPr>
        <p:blipFill>
          <a:blip r:embed="rId12"/>
          <a:stretch/>
        </p:blipFill>
        <p:spPr>
          <a:xfrm>
            <a:off x="4459320" y="2603520"/>
            <a:ext cx="1090440" cy="68256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5" descr=""/>
          <p:cNvPicPr/>
          <p:nvPr/>
        </p:nvPicPr>
        <p:blipFill>
          <a:blip r:embed="rId13"/>
          <a:stretch/>
        </p:blipFill>
        <p:spPr>
          <a:xfrm>
            <a:off x="3517920" y="3587760"/>
            <a:ext cx="1092240" cy="68256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16"/>
          <p:cNvSpPr/>
          <p:nvPr/>
        </p:nvSpPr>
        <p:spPr>
          <a:xfrm>
            <a:off x="1042560" y="44593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.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96920" y="-360"/>
            <a:ext cx="100584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руппа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63040" y="923400"/>
            <a:ext cx="1118556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 лесу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нь, там в дупл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юч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ж устроил гнездо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р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м он спал, 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дн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чером выходил на охоту. Однажд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н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чером еж проснулся и пошел искать пищу. Вдруг он увидел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нист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мею. Змея зашипела и бросилась на ежа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6" name="Рисунок 3" descr=""/>
          <p:cNvPicPr/>
          <p:nvPr/>
        </p:nvPicPr>
        <p:blipFill>
          <a:blip r:embed="rId1"/>
          <a:stretch/>
        </p:blipFill>
        <p:spPr>
          <a:xfrm>
            <a:off x="977760" y="4444920"/>
            <a:ext cx="1092240" cy="6825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"/>
          <p:cNvPicPr/>
          <p:nvPr/>
        </p:nvPicPr>
        <p:blipFill>
          <a:blip r:embed="rId2"/>
          <a:stretch/>
        </p:blipFill>
        <p:spPr>
          <a:xfrm>
            <a:off x="2489040" y="191448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"/>
          <p:cNvPicPr/>
          <p:nvPr/>
        </p:nvPicPr>
        <p:blipFill>
          <a:blip r:embed="rId3"/>
          <a:stretch/>
        </p:blipFill>
        <p:spPr>
          <a:xfrm>
            <a:off x="6516720" y="191448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6" descr=""/>
          <p:cNvPicPr/>
          <p:nvPr/>
        </p:nvPicPr>
        <p:blipFill>
          <a:blip r:embed="rId4"/>
          <a:stretch/>
        </p:blipFill>
        <p:spPr>
          <a:xfrm>
            <a:off x="873000" y="271296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7" descr=""/>
          <p:cNvPicPr/>
          <p:nvPr/>
        </p:nvPicPr>
        <p:blipFill>
          <a:blip r:embed="rId5"/>
          <a:stretch/>
        </p:blipFill>
        <p:spPr>
          <a:xfrm>
            <a:off x="4494240" y="271296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8" descr=""/>
          <p:cNvPicPr/>
          <p:nvPr/>
        </p:nvPicPr>
        <p:blipFill>
          <a:blip r:embed="rId6"/>
          <a:stretch/>
        </p:blipFill>
        <p:spPr>
          <a:xfrm>
            <a:off x="781200" y="3579840"/>
            <a:ext cx="987120" cy="6825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9" descr=""/>
          <p:cNvPicPr/>
          <p:nvPr/>
        </p:nvPicPr>
        <p:blipFill>
          <a:blip r:embed="rId7"/>
          <a:stretch/>
        </p:blipFill>
        <p:spPr>
          <a:xfrm>
            <a:off x="3038400" y="2360520"/>
            <a:ext cx="438120" cy="3524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0" descr=""/>
          <p:cNvPicPr/>
          <p:nvPr/>
        </p:nvPicPr>
        <p:blipFill>
          <a:blip r:embed="rId8"/>
          <a:stretch/>
        </p:blipFill>
        <p:spPr>
          <a:xfrm>
            <a:off x="7223040" y="2360520"/>
            <a:ext cx="500040" cy="3524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11" descr=""/>
          <p:cNvPicPr/>
          <p:nvPr/>
        </p:nvPicPr>
        <p:blipFill>
          <a:blip r:embed="rId9"/>
          <a:stretch/>
        </p:blipFill>
        <p:spPr>
          <a:xfrm>
            <a:off x="1496880" y="3233880"/>
            <a:ext cx="466920" cy="3538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2" descr=""/>
          <p:cNvPicPr/>
          <p:nvPr/>
        </p:nvPicPr>
        <p:blipFill>
          <a:blip r:embed="rId10"/>
          <a:stretch/>
        </p:blipFill>
        <p:spPr>
          <a:xfrm>
            <a:off x="5259240" y="3240000"/>
            <a:ext cx="439920" cy="3542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3" descr=""/>
          <p:cNvPicPr/>
          <p:nvPr/>
        </p:nvPicPr>
        <p:blipFill>
          <a:blip r:embed="rId11"/>
          <a:stretch/>
        </p:blipFill>
        <p:spPr>
          <a:xfrm>
            <a:off x="1328760" y="4102200"/>
            <a:ext cx="439560" cy="3538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4" descr=""/>
          <p:cNvPicPr/>
          <p:nvPr/>
        </p:nvPicPr>
        <p:blipFill>
          <a:blip r:embed="rId12"/>
          <a:stretch/>
        </p:blipFill>
        <p:spPr>
          <a:xfrm>
            <a:off x="1860480" y="4959360"/>
            <a:ext cx="439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100584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руппа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91920" y="858600"/>
            <a:ext cx="1099188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л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с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ода. Потом вдруг подул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тер. Небо закры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. Три дня лил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пл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ждь. Утром выглянул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рко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. Зеленел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. Надулись почки калины 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пк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ы. Пришл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оя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сна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Рисунок 3" descr=""/>
          <p:cNvPicPr/>
          <p:nvPr/>
        </p:nvPicPr>
        <p:blipFill>
          <a:blip r:embed="rId1"/>
          <a:stretch/>
        </p:blipFill>
        <p:spPr>
          <a:xfrm>
            <a:off x="2422440" y="2300400"/>
            <a:ext cx="438120" cy="3538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"/>
          <p:cNvPicPr/>
          <p:nvPr/>
        </p:nvPicPr>
        <p:blipFill>
          <a:blip r:embed="rId2"/>
          <a:stretch/>
        </p:blipFill>
        <p:spPr>
          <a:xfrm>
            <a:off x="7880400" y="2300400"/>
            <a:ext cx="439560" cy="3538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"/>
          <p:cNvPicPr/>
          <p:nvPr/>
        </p:nvPicPr>
        <p:blipFill>
          <a:blip r:embed="rId3"/>
          <a:stretch/>
        </p:blipFill>
        <p:spPr>
          <a:xfrm>
            <a:off x="1276200" y="3187800"/>
            <a:ext cx="439920" cy="3524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6" descr=""/>
          <p:cNvPicPr/>
          <p:nvPr/>
        </p:nvPicPr>
        <p:blipFill>
          <a:blip r:embed="rId4"/>
          <a:stretch/>
        </p:blipFill>
        <p:spPr>
          <a:xfrm>
            <a:off x="5238720" y="3187800"/>
            <a:ext cx="439920" cy="35244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7" descr=""/>
          <p:cNvPicPr/>
          <p:nvPr/>
        </p:nvPicPr>
        <p:blipFill>
          <a:blip r:embed="rId5"/>
          <a:stretch/>
        </p:blipFill>
        <p:spPr>
          <a:xfrm>
            <a:off x="10125000" y="3187800"/>
            <a:ext cx="439920" cy="3524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8" descr=""/>
          <p:cNvPicPr/>
          <p:nvPr/>
        </p:nvPicPr>
        <p:blipFill>
          <a:blip r:embed="rId6"/>
          <a:stretch/>
        </p:blipFill>
        <p:spPr>
          <a:xfrm>
            <a:off x="4352760" y="4027320"/>
            <a:ext cx="438480" cy="3542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9" descr=""/>
          <p:cNvPicPr/>
          <p:nvPr/>
        </p:nvPicPr>
        <p:blipFill>
          <a:blip r:embed="rId7"/>
          <a:stretch/>
        </p:blipFill>
        <p:spPr>
          <a:xfrm>
            <a:off x="4572000" y="4849920"/>
            <a:ext cx="439560" cy="3538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0" descr=""/>
          <p:cNvPicPr/>
          <p:nvPr/>
        </p:nvPicPr>
        <p:blipFill>
          <a:blip r:embed="rId8"/>
          <a:stretch/>
        </p:blipFill>
        <p:spPr>
          <a:xfrm>
            <a:off x="10533240" y="4027320"/>
            <a:ext cx="438120" cy="3542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1" descr=""/>
          <p:cNvPicPr/>
          <p:nvPr/>
        </p:nvPicPr>
        <p:blipFill>
          <a:blip r:embed="rId9"/>
          <a:stretch/>
        </p:blipFill>
        <p:spPr>
          <a:xfrm>
            <a:off x="7199280" y="1844640"/>
            <a:ext cx="988920" cy="68256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2" descr=""/>
          <p:cNvPicPr/>
          <p:nvPr/>
        </p:nvPicPr>
        <p:blipFill>
          <a:blip r:embed="rId10"/>
          <a:stretch/>
        </p:blipFill>
        <p:spPr>
          <a:xfrm>
            <a:off x="4583160" y="2703600"/>
            <a:ext cx="987480" cy="6825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14" descr=""/>
          <p:cNvPicPr/>
          <p:nvPr/>
        </p:nvPicPr>
        <p:blipFill>
          <a:blip r:embed="rId11"/>
          <a:stretch/>
        </p:blipFill>
        <p:spPr>
          <a:xfrm>
            <a:off x="1876320" y="1795320"/>
            <a:ext cx="1090800" cy="6829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5" descr=""/>
          <p:cNvPicPr/>
          <p:nvPr/>
        </p:nvPicPr>
        <p:blipFill>
          <a:blip r:embed="rId12"/>
          <a:stretch/>
        </p:blipFill>
        <p:spPr>
          <a:xfrm>
            <a:off x="808200" y="2662200"/>
            <a:ext cx="1091880" cy="6825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6" descr=""/>
          <p:cNvPicPr/>
          <p:nvPr/>
        </p:nvPicPr>
        <p:blipFill>
          <a:blip r:embed="rId13"/>
          <a:stretch/>
        </p:blipFill>
        <p:spPr>
          <a:xfrm>
            <a:off x="3632040" y="3540240"/>
            <a:ext cx="1092240" cy="684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7" descr=""/>
          <p:cNvPicPr/>
          <p:nvPr/>
        </p:nvPicPr>
        <p:blipFill>
          <a:blip r:embed="rId14"/>
          <a:stretch/>
        </p:blipFill>
        <p:spPr>
          <a:xfrm>
            <a:off x="9699480" y="3587760"/>
            <a:ext cx="1092240" cy="6825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8" descr=""/>
          <p:cNvPicPr/>
          <p:nvPr/>
        </p:nvPicPr>
        <p:blipFill>
          <a:blip r:embed="rId15"/>
          <a:stretch/>
        </p:blipFill>
        <p:spPr>
          <a:xfrm>
            <a:off x="3632040" y="4416480"/>
            <a:ext cx="1092240" cy="68256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9"/>
          <p:cNvSpPr/>
          <p:nvPr/>
        </p:nvSpPr>
        <p:spPr>
          <a:xfrm>
            <a:off x="9604080" y="270972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96920" y="-360"/>
            <a:ext cx="100584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групп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90040" y="831960"/>
            <a:ext cx="1113948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гулк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е небо 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еже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ыхание ветерка так и манили меня на прогулку. Я отправился 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едню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щу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ення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са еще покрывала траву, и в воздухе чувствовалась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ння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ырость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точки деревьев были точно покрыты лаком. На траве сверка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уп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пли росы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8" name="Рисунок 3" descr=""/>
          <p:cNvPicPr/>
          <p:nvPr/>
        </p:nvPicPr>
        <p:blipFill>
          <a:blip r:embed="rId1"/>
          <a:stretch/>
        </p:blipFill>
        <p:spPr>
          <a:xfrm>
            <a:off x="3511440" y="2282760"/>
            <a:ext cx="439920" cy="3524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4" descr=""/>
          <p:cNvPicPr/>
          <p:nvPr/>
        </p:nvPicPr>
        <p:blipFill>
          <a:blip r:embed="rId2"/>
          <a:stretch/>
        </p:blipFill>
        <p:spPr>
          <a:xfrm>
            <a:off x="3768840" y="3173400"/>
            <a:ext cx="563400" cy="35388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5" descr=""/>
          <p:cNvPicPr/>
          <p:nvPr/>
        </p:nvPicPr>
        <p:blipFill>
          <a:blip r:embed="rId3"/>
          <a:stretch/>
        </p:blipFill>
        <p:spPr>
          <a:xfrm>
            <a:off x="6448320" y="3173400"/>
            <a:ext cx="378000" cy="3538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6" descr=""/>
          <p:cNvPicPr/>
          <p:nvPr/>
        </p:nvPicPr>
        <p:blipFill>
          <a:blip r:embed="rId4"/>
          <a:stretch/>
        </p:blipFill>
        <p:spPr>
          <a:xfrm>
            <a:off x="4878360" y="3990960"/>
            <a:ext cx="439920" cy="3538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7" descr=""/>
          <p:cNvPicPr/>
          <p:nvPr/>
        </p:nvPicPr>
        <p:blipFill>
          <a:blip r:embed="rId5"/>
          <a:stretch/>
        </p:blipFill>
        <p:spPr>
          <a:xfrm>
            <a:off x="7723080" y="3990960"/>
            <a:ext cx="439920" cy="3538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8" descr=""/>
          <p:cNvPicPr/>
          <p:nvPr/>
        </p:nvPicPr>
        <p:blipFill>
          <a:blip r:embed="rId6"/>
          <a:stretch/>
        </p:blipFill>
        <p:spPr>
          <a:xfrm>
            <a:off x="8777160" y="4859280"/>
            <a:ext cx="438120" cy="3542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9" descr=""/>
          <p:cNvPicPr/>
          <p:nvPr/>
        </p:nvPicPr>
        <p:blipFill>
          <a:blip r:embed="rId7"/>
          <a:stretch/>
        </p:blipFill>
        <p:spPr>
          <a:xfrm>
            <a:off x="6956280" y="3527280"/>
            <a:ext cx="987480" cy="6829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0" descr=""/>
          <p:cNvPicPr/>
          <p:nvPr/>
        </p:nvPicPr>
        <p:blipFill>
          <a:blip r:embed="rId8"/>
          <a:stretch/>
        </p:blipFill>
        <p:spPr>
          <a:xfrm>
            <a:off x="2967120" y="2666880"/>
            <a:ext cx="1090440" cy="6829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1" descr=""/>
          <p:cNvPicPr/>
          <p:nvPr/>
        </p:nvPicPr>
        <p:blipFill>
          <a:blip r:embed="rId9"/>
          <a:stretch/>
        </p:blipFill>
        <p:spPr>
          <a:xfrm>
            <a:off x="5546880" y="2666880"/>
            <a:ext cx="1090440" cy="6829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2" descr=""/>
          <p:cNvPicPr/>
          <p:nvPr/>
        </p:nvPicPr>
        <p:blipFill>
          <a:blip r:embed="rId10"/>
          <a:stretch/>
        </p:blipFill>
        <p:spPr>
          <a:xfrm>
            <a:off x="4156200" y="3557520"/>
            <a:ext cx="1092240" cy="6825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3" descr=""/>
          <p:cNvPicPr/>
          <p:nvPr/>
        </p:nvPicPr>
        <p:blipFill>
          <a:blip r:embed="rId11"/>
          <a:stretch/>
        </p:blipFill>
        <p:spPr>
          <a:xfrm>
            <a:off x="7954920" y="4378320"/>
            <a:ext cx="1092240" cy="6825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4" descr=""/>
          <p:cNvPicPr/>
          <p:nvPr/>
        </p:nvPicPr>
        <p:blipFill>
          <a:blip r:embed="rId12"/>
          <a:stretch/>
        </p:blipFill>
        <p:spPr>
          <a:xfrm>
            <a:off x="2843280" y="1730520"/>
            <a:ext cx="1206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1:11:21Z</dcterms:created>
  <dc:creator>Ольга Уржумова</dc:creator>
  <dc:description/>
  <dc:language>en-US</dc:language>
  <cp:lastModifiedBy>Ольга Уржумова</cp:lastModifiedBy>
  <dcterms:modified xsi:type="dcterms:W3CDTF">2019-03-04T16:19:54Z</dcterms:modified>
  <cp:revision>15</cp:revision>
  <dc:subject/>
  <dc:title>Презентация PowerPoint</dc:title>
</cp:coreProperties>
</file>