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r>
              <a:rPr b="0" lang="en-US" sz="72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FBF8-4630-4F8C-ACC1-2652F31C0146}" type="datetime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76C9-A251-4654-8D0F-02C06FF65E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382680" y="685800"/>
            <a:ext cx="609264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A6A1-3F8E-43CF-B120-49B11CDAAF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3BA-7E16-4013-9432-59469E59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822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5510160"/>
            <a:ext cx="822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A54-06A9-41CD-B270-B5AB48BE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3948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551016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39480" y="551016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3A48-E13B-4109-BDC1-379149D8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4880" y="495288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87320" y="495288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551016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04880" y="551016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87320" y="5510160"/>
            <a:ext cx="264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A086-55E6-45B9-A8D8-51005996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8000" indent="0" algn="ctr">
              <a:lnSpc>
                <a:spcPct val="90000"/>
              </a:lnSpc>
              <a:spcBef>
                <a:spcPts val="14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4B1C-0A1E-4217-83BB-3B25E1E8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27DA-BFFF-4561-A0C7-43EE1760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4015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39480" y="4952880"/>
            <a:ext cx="4015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A3E-29E2-4C23-A856-66C5B625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6576-E8FC-46B2-ACED-25A3ACA9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1371240"/>
            <a:ext cx="9144000" cy="162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8000" algn="ctr">
              <a:lnSpc>
                <a:spcPct val="90000"/>
              </a:lnSpc>
              <a:spcBef>
                <a:spcPts val="14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42C3-5C9D-413E-A82B-3D7AAD6A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39480" y="4952880"/>
            <a:ext cx="4015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551016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241-C075-4077-B2CC-EAAB49AC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40158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3948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39480" y="551016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8DB-9C14-40A4-8516-6560384E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39480" y="4952880"/>
            <a:ext cx="40158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5510160"/>
            <a:ext cx="82296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7FC-4752-44A5-B1AE-3B9D28F4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517400" y="6172200"/>
            <a:ext cx="68626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8609040" y="6172200"/>
            <a:ext cx="131904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Palatino Linotype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7EFF-C17F-4414-9CB0-2CD6C798E002}" type="datetime">
              <a:rPr b="0" lang="ru-RU" sz="1100" spc="-1" strike="noStrike">
                <a:solidFill>
                  <a:srgbClr val="000000"/>
                </a:solidFill>
                <a:latin typeface="Palatino Linotype"/>
                <a:ea typeface="Segoe U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10132920" y="6172200"/>
            <a:ext cx="990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Palatino Linotype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727C-C8CE-4212-9CD2-C44264281C30}" type="slidenum">
              <a:rPr b="0" lang="ru-RU" sz="1100" spc="-1" strike="noStrike">
                <a:solidFill>
                  <a:srgbClr val="000000"/>
                </a:solidFill>
                <a:latin typeface="Palatino Linotype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6992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63640" indent="-32400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95280" indent="-28728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727280" indent="-21600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158920" indent="-21564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158920" indent="-21564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158920" indent="-215640">
              <a:lnSpc>
                <a:spcPct val="90000"/>
              </a:lnSpc>
              <a:spcBef>
                <a:spcPts val="1412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695160" y="5230800"/>
            <a:ext cx="10655640" cy="15606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памятник.jpg"/>
          <p:cNvPicPr/>
          <p:nvPr/>
        </p:nvPicPr>
        <p:blipFill>
          <a:blip r:embed="rId2"/>
          <a:stretch/>
        </p:blipFill>
        <p:spPr>
          <a:xfrm>
            <a:off x="1846440" y="549360"/>
            <a:ext cx="842472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одзаголовок 2" descr=""/>
          <p:cNvPicPr/>
          <p:nvPr/>
        </p:nvPicPr>
        <p:blipFill>
          <a:blip r:embed="rId1"/>
          <a:stretch/>
        </p:blipFill>
        <p:spPr>
          <a:xfrm>
            <a:off x="1828800" y="5205240"/>
            <a:ext cx="8528040" cy="1408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флаг.jpg"/>
          <p:cNvPicPr/>
          <p:nvPr/>
        </p:nvPicPr>
        <p:blipFill>
          <a:blip r:embed="rId2"/>
          <a:stretch/>
        </p:blipFill>
        <p:spPr>
          <a:xfrm>
            <a:off x="5950080" y="333360"/>
            <a:ext cx="4608360" cy="4908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карта нижегородской области.gif"/>
          <p:cNvPicPr/>
          <p:nvPr/>
        </p:nvPicPr>
        <p:blipFill>
          <a:blip r:embed="rId3"/>
          <a:stretch/>
        </p:blipFill>
        <p:spPr>
          <a:xfrm>
            <a:off x="1270080" y="115920"/>
            <a:ext cx="4392360" cy="51991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одзаголовок 2" descr=""/>
          <p:cNvPicPr/>
          <p:nvPr/>
        </p:nvPicPr>
        <p:blipFill>
          <a:blip r:embed="rId1"/>
          <a:stretch/>
        </p:blipFill>
        <p:spPr>
          <a:xfrm>
            <a:off x="334800" y="5572080"/>
            <a:ext cx="11661840" cy="13222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Слияние двух рек.jpg"/>
          <p:cNvPicPr/>
          <p:nvPr/>
        </p:nvPicPr>
        <p:blipFill>
          <a:blip r:embed="rId2"/>
          <a:stretch/>
        </p:blipFill>
        <p:spPr>
          <a:xfrm>
            <a:off x="2494080" y="189000"/>
            <a:ext cx="7272360" cy="5459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Подзаголовок 2" descr=""/>
          <p:cNvPicPr/>
          <p:nvPr/>
        </p:nvPicPr>
        <p:blipFill>
          <a:blip r:embed="rId1"/>
          <a:stretch/>
        </p:blipFill>
        <p:spPr>
          <a:xfrm>
            <a:off x="365040" y="5919840"/>
            <a:ext cx="11820600" cy="8589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3 миллиона.jpg"/>
          <p:cNvPicPr/>
          <p:nvPr/>
        </p:nvPicPr>
        <p:blipFill>
          <a:blip r:embed="rId2"/>
          <a:stretch/>
        </p:blipFill>
        <p:spPr>
          <a:xfrm>
            <a:off x="1557360" y="260280"/>
            <a:ext cx="8640720" cy="580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одзаголовок 2" descr=""/>
          <p:cNvPicPr/>
          <p:nvPr/>
        </p:nvPicPr>
        <p:blipFill>
          <a:blip r:embed="rId1"/>
          <a:stretch/>
        </p:blipFill>
        <p:spPr>
          <a:xfrm>
            <a:off x="414360" y="5492880"/>
            <a:ext cx="11717280" cy="1407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национальности.JPG"/>
          <p:cNvPicPr/>
          <p:nvPr/>
        </p:nvPicPr>
        <p:blipFill>
          <a:blip r:embed="rId2"/>
          <a:stretch/>
        </p:blipFill>
        <p:spPr>
          <a:xfrm>
            <a:off x="1846440" y="189000"/>
            <a:ext cx="824832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Подзаголовок 2" descr=""/>
          <p:cNvPicPr/>
          <p:nvPr/>
        </p:nvPicPr>
        <p:blipFill>
          <a:blip r:embed="rId1"/>
          <a:stretch/>
        </p:blipFill>
        <p:spPr>
          <a:xfrm>
            <a:off x="549360" y="5778360"/>
            <a:ext cx="11447280" cy="963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3" descr="салют.JPG"/>
          <p:cNvPicPr/>
          <p:nvPr/>
        </p:nvPicPr>
        <p:blipFill>
          <a:blip r:embed="rId2"/>
          <a:stretch/>
        </p:blipFill>
        <p:spPr>
          <a:xfrm>
            <a:off x="2206800" y="260280"/>
            <a:ext cx="7920000" cy="539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6T08:56:07Z</dcterms:created>
  <dc:creator>Балашова Екатерина А.</dc:creator>
  <dc:description/>
  <dc:language>en-US</dc:language>
  <cp:lastModifiedBy>Пользователь Windows</cp:lastModifiedBy>
  <dcterms:modified xsi:type="dcterms:W3CDTF">2020-02-08T08:50:35Z</dcterms:modified>
  <cp:revision>5</cp:revision>
  <dc:subject/>
  <dc:title>Nizhny Novgorod reg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11</vt:r8>
  </property>
  <property fmtid="{D5CDD505-2E9C-101B-9397-08002B2CF9AE}" pid="7" name="PresentationFormat">
    <vt:lpwstr>Произвольный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11</vt:r8>
  </property>
</Properties>
</file>