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4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media/image11.png" ContentType="image/png"/>
  <Override PartName="/ppt/media/image13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12188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4920" cy="40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r>
              <a:rPr b="0" lang="en-US" sz="7200" spc="-1" strike="noStrike">
                <a:solidFill>
                  <a:srgbClr val="000000"/>
                </a:solidFill>
                <a:latin typeface="Palatino Linotype"/>
              </a:rPr>
              <a:t>Click to move the slide</a:t>
            </a:r>
            <a:endParaRPr b="0" lang="en-US" sz="7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281400" cy="5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81400" cy="5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7C1C7-C771-477E-AAAB-AF9E9A90FE01}" type="datetime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02ACF-BA78-4476-A26C-A52C35D87F8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382680" y="685800"/>
            <a:ext cx="609264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C8569-7840-4E58-A3C1-E72E4B91E37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1DC3-524E-42BE-AA72-A8BD8A076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440" y="137124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440" y="4952880"/>
            <a:ext cx="82296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2440" y="5510160"/>
            <a:ext cx="82296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77CF-CAFF-4920-A256-EE39A0079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2440" y="137124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2440" y="4952880"/>
            <a:ext cx="40158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739480" y="4952880"/>
            <a:ext cx="40158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2440" y="5510160"/>
            <a:ext cx="40158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739480" y="5510160"/>
            <a:ext cx="40158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0267-66F3-4AEC-83C6-797709BCF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440" y="137124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2440" y="4952880"/>
            <a:ext cx="26496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04880" y="4952880"/>
            <a:ext cx="26496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087320" y="4952880"/>
            <a:ext cx="26496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2440" y="5510160"/>
            <a:ext cx="26496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04880" y="5510160"/>
            <a:ext cx="26496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087320" y="5510160"/>
            <a:ext cx="26496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0BE0-F49D-46AB-A278-CD40EA690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2440" y="137124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244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08000" indent="0" algn="ctr">
              <a:lnSpc>
                <a:spcPct val="90000"/>
              </a:lnSpc>
              <a:spcBef>
                <a:spcPts val="14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A367-A275-4339-A2E5-BCFC9F642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2440" y="137124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244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8D1E-341B-4C81-A053-6A7D756D0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440" y="137124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2440" y="4952880"/>
            <a:ext cx="401580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739480" y="4952880"/>
            <a:ext cx="401580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01CB-FA59-45D1-966B-BF9058586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440" y="137124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8080-4F9A-4A8C-9469-387C8836B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2440" y="1371240"/>
            <a:ext cx="9144000" cy="1625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08000" algn="ctr">
              <a:lnSpc>
                <a:spcPct val="90000"/>
              </a:lnSpc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7C3B-FDC4-44FE-A1F1-FC39259BE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440" y="137124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2440" y="4952880"/>
            <a:ext cx="40158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739480" y="4952880"/>
            <a:ext cx="401580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2440" y="5510160"/>
            <a:ext cx="40158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8ACE-1FEC-4AE4-ADBD-66AA308A1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440" y="137124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440" y="4952880"/>
            <a:ext cx="401580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739480" y="4952880"/>
            <a:ext cx="40158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739480" y="5510160"/>
            <a:ext cx="40158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C4B2-192A-4C1E-9CDC-0768274DE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440" y="137124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440" y="4952880"/>
            <a:ext cx="40158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739480" y="4952880"/>
            <a:ext cx="40158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2440" y="5510160"/>
            <a:ext cx="82296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792E-6204-48B3-B2A0-7857B6446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440" y="137124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Palatino Linotype"/>
              </a:rPr>
              <a:t>Click to edit the title text format</a:t>
            </a:r>
            <a:endParaRPr b="0" lang="en-US" sz="7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1517400" y="6172200"/>
            <a:ext cx="686268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2"/>
          </p:nvPr>
        </p:nvSpPr>
        <p:spPr>
          <a:xfrm>
            <a:off x="8609040" y="6172200"/>
            <a:ext cx="131904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000000"/>
                </a:solidFill>
                <a:latin typeface="Palatino Linotype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8277D-07F3-45F3-8B00-502BD7BF55C1}" type="datetime">
              <a:rPr b="0" lang="ru-RU" sz="1100" spc="-1" strike="noStrike">
                <a:solidFill>
                  <a:srgbClr val="000000"/>
                </a:solidFill>
                <a:latin typeface="Palatino Linotype"/>
                <a:ea typeface="Segoe UI"/>
              </a:rPr>
              <a:t>31.07.26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10132920" y="6172200"/>
            <a:ext cx="9907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000000"/>
                </a:solidFill>
                <a:latin typeface="Palatino Linotype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B0E19-7B4E-46D1-B780-0617A44DE51C}" type="slidenum">
              <a:rPr b="0" lang="ru-RU" sz="1100" spc="-1" strike="noStrike">
                <a:solidFill>
                  <a:srgbClr val="000000"/>
                </a:solidFill>
                <a:latin typeface="Palatino Linotype"/>
                <a:ea typeface="Segoe U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6992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0000"/>
              </a:lnSpc>
              <a:spcBef>
                <a:spcPts val="1412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1" marL="863640" indent="-324000">
              <a:lnSpc>
                <a:spcPct val="90000"/>
              </a:lnSpc>
              <a:spcBef>
                <a:spcPts val="1412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295280" indent="-287280">
              <a:lnSpc>
                <a:spcPct val="90000"/>
              </a:lnSpc>
              <a:spcBef>
                <a:spcPts val="1412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3" marL="1727280" indent="-216000">
              <a:lnSpc>
                <a:spcPct val="90000"/>
              </a:lnSpc>
              <a:spcBef>
                <a:spcPts val="1412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4" marL="2158920" indent="-215640">
              <a:lnSpc>
                <a:spcPct val="90000"/>
              </a:lnSpc>
              <a:spcBef>
                <a:spcPts val="1412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5" marL="2158920" indent="-215640">
              <a:lnSpc>
                <a:spcPct val="90000"/>
              </a:lnSpc>
              <a:spcBef>
                <a:spcPts val="1412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6" marL="2158920" indent="-215640">
              <a:lnSpc>
                <a:spcPct val="90000"/>
              </a:lnSpc>
              <a:spcBef>
                <a:spcPts val="1412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Заголовок 1" descr=""/>
          <p:cNvPicPr/>
          <p:nvPr/>
        </p:nvPicPr>
        <p:blipFill>
          <a:blip r:embed="rId1"/>
          <a:stretch/>
        </p:blipFill>
        <p:spPr>
          <a:xfrm>
            <a:off x="695160" y="5230800"/>
            <a:ext cx="10655640" cy="156060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3" descr="памятник.jpg"/>
          <p:cNvPicPr/>
          <p:nvPr/>
        </p:nvPicPr>
        <p:blipFill>
          <a:blip r:embed="rId2"/>
          <a:stretch/>
        </p:blipFill>
        <p:spPr>
          <a:xfrm>
            <a:off x="1846440" y="549360"/>
            <a:ext cx="8424720" cy="46800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Подзаголовок 2" descr=""/>
          <p:cNvPicPr/>
          <p:nvPr/>
        </p:nvPicPr>
        <p:blipFill>
          <a:blip r:embed="rId1"/>
          <a:stretch/>
        </p:blipFill>
        <p:spPr>
          <a:xfrm>
            <a:off x="1828800" y="5205240"/>
            <a:ext cx="8528040" cy="140832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5" descr="флаг.jpg"/>
          <p:cNvPicPr/>
          <p:nvPr/>
        </p:nvPicPr>
        <p:blipFill>
          <a:blip r:embed="rId2"/>
          <a:stretch/>
        </p:blipFill>
        <p:spPr>
          <a:xfrm>
            <a:off x="5950080" y="333360"/>
            <a:ext cx="4608360" cy="490860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6" descr="карта нижегородской области.gif"/>
          <p:cNvPicPr/>
          <p:nvPr/>
        </p:nvPicPr>
        <p:blipFill>
          <a:blip r:embed="rId3"/>
          <a:stretch/>
        </p:blipFill>
        <p:spPr>
          <a:xfrm>
            <a:off x="1270080" y="115920"/>
            <a:ext cx="4392360" cy="519912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Подзаголовок 2" descr=""/>
          <p:cNvPicPr/>
          <p:nvPr/>
        </p:nvPicPr>
        <p:blipFill>
          <a:blip r:embed="rId1"/>
          <a:stretch/>
        </p:blipFill>
        <p:spPr>
          <a:xfrm>
            <a:off x="334800" y="5572080"/>
            <a:ext cx="11661840" cy="132228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3" descr="Слияние двух рек.jpg"/>
          <p:cNvPicPr/>
          <p:nvPr/>
        </p:nvPicPr>
        <p:blipFill>
          <a:blip r:embed="rId2"/>
          <a:stretch/>
        </p:blipFill>
        <p:spPr>
          <a:xfrm>
            <a:off x="2494080" y="189000"/>
            <a:ext cx="7272360" cy="54594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Подзаголовок 2" descr=""/>
          <p:cNvPicPr/>
          <p:nvPr/>
        </p:nvPicPr>
        <p:blipFill>
          <a:blip r:embed="rId1"/>
          <a:stretch/>
        </p:blipFill>
        <p:spPr>
          <a:xfrm>
            <a:off x="365040" y="5919840"/>
            <a:ext cx="11820600" cy="85896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3" descr="3 миллиона.jpg"/>
          <p:cNvPicPr/>
          <p:nvPr/>
        </p:nvPicPr>
        <p:blipFill>
          <a:blip r:embed="rId2"/>
          <a:stretch/>
        </p:blipFill>
        <p:spPr>
          <a:xfrm>
            <a:off x="1557360" y="260280"/>
            <a:ext cx="8640720" cy="58024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Подзаголовок 2" descr=""/>
          <p:cNvPicPr/>
          <p:nvPr/>
        </p:nvPicPr>
        <p:blipFill>
          <a:blip r:embed="rId1"/>
          <a:stretch/>
        </p:blipFill>
        <p:spPr>
          <a:xfrm>
            <a:off x="414360" y="5492880"/>
            <a:ext cx="11717280" cy="140796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4" descr="национальности.JPG"/>
          <p:cNvPicPr/>
          <p:nvPr/>
        </p:nvPicPr>
        <p:blipFill>
          <a:blip r:embed="rId2"/>
          <a:stretch/>
        </p:blipFill>
        <p:spPr>
          <a:xfrm>
            <a:off x="1846440" y="189000"/>
            <a:ext cx="8248320" cy="549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Подзаголовок 2" descr=""/>
          <p:cNvPicPr/>
          <p:nvPr/>
        </p:nvPicPr>
        <p:blipFill>
          <a:blip r:embed="rId1"/>
          <a:stretch/>
        </p:blipFill>
        <p:spPr>
          <a:xfrm>
            <a:off x="549360" y="5778360"/>
            <a:ext cx="11447280" cy="96372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3" descr="салют.JPG"/>
          <p:cNvPicPr/>
          <p:nvPr/>
        </p:nvPicPr>
        <p:blipFill>
          <a:blip r:embed="rId2"/>
          <a:stretch/>
        </p:blipFill>
        <p:spPr>
          <a:xfrm>
            <a:off x="2206800" y="260280"/>
            <a:ext cx="7920000" cy="53942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16T08:56:07Z</dcterms:created>
  <dc:creator>Балашова Екатерина А.</dc:creator>
  <dc:description/>
  <dc:language>en-US</dc:language>
  <cp:lastModifiedBy>Пользователь Windows</cp:lastModifiedBy>
  <dcterms:modified xsi:type="dcterms:W3CDTF">2020-02-08T08:50:35Z</dcterms:modified>
  <cp:revision>5</cp:revision>
  <dc:subject/>
  <dc:title>Nizhny Novgorod reg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HiddenSlides">
    <vt:r8>0</vt:r8>
  </property>
  <property fmtid="{D5CDD505-2E9C-101B-9397-08002B2CF9AE}" pid="3" name="HyperlinksChanged">
    <vt:bool>0</vt:bool>
  </property>
  <property fmtid="{D5CDD505-2E9C-101B-9397-08002B2CF9AE}" pid="4" name="LinksUpToDate">
    <vt:bool>0</vt:bool>
  </property>
  <property fmtid="{D5CDD505-2E9C-101B-9397-08002B2CF9AE}" pid="5" name="MMClips">
    <vt:r8>0</vt:r8>
  </property>
  <property fmtid="{D5CDD505-2E9C-101B-9397-08002B2CF9AE}" pid="6" name="Notes">
    <vt:r8>11</vt:r8>
  </property>
  <property fmtid="{D5CDD505-2E9C-101B-9397-08002B2CF9AE}" pid="7" name="PresentationFormat">
    <vt:lpwstr>Произвольный</vt:lpwstr>
  </property>
  <property fmtid="{D5CDD505-2E9C-101B-9397-08002B2CF9AE}" pid="8" name="ScaleCrop">
    <vt:bool>0</vt:bool>
  </property>
  <property fmtid="{D5CDD505-2E9C-101B-9397-08002B2CF9AE}" pid="9" name="ShareDoc">
    <vt:bool>0</vt:bool>
  </property>
  <property fmtid="{D5CDD505-2E9C-101B-9397-08002B2CF9AE}" pid="10" name="Slides">
    <vt:r8>11</vt:r8>
  </property>
</Properties>
</file>