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r>
              <a:rPr b="0" lang="en-US" sz="72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AD50-1EFC-4A38-AF80-16CBDD23C646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58E-1D9F-481D-8A30-3B72802F5F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5D3F-017D-4948-A2D7-CD04BCFB65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F60-7169-4994-913F-85CCB92C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822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5510160"/>
            <a:ext cx="822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256-8F8A-4F6E-9439-9913737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3948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FAD-16AB-4B78-816E-68594256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4880" y="495288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87320" y="495288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551016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4880" y="551016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87320" y="551016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7A1-77ED-4427-B5F7-CC438B73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8000" indent="0" algn="ctr">
              <a:lnSpc>
                <a:spcPct val="9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F04-9AA9-4249-84F4-A50A28AB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01E-D684-4B66-84AA-ABF7147D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17A-9158-4FF7-8BE7-59156D5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418-2FBD-433B-BD77-79CF46B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1371240"/>
            <a:ext cx="9144000" cy="162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8000" algn="ctr">
              <a:lnSpc>
                <a:spcPct val="9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61B-854C-4D50-99F9-D2A2C94F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930-AC74-4D19-BD6B-8A073359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3948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007-7901-4BAA-B5B0-A3DA4137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5510160"/>
            <a:ext cx="822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D7B-3B19-4962-B884-0463CC3F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8609040" y="6172200"/>
            <a:ext cx="13190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D2DC-AD03-4C60-8322-484D039EB5BA}" type="datetime">
              <a: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E755-5894-4BDE-AA78-8D50D0D57E93}" type="slidenum">
              <a: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6992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63640" indent="-32400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95280" indent="-28728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27280" indent="-21600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158920" indent="-215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158920" indent="-215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158920" indent="-215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95160" y="5230800"/>
            <a:ext cx="10655640" cy="1560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памятник.jpg"/>
          <p:cNvPicPr/>
          <p:nvPr/>
        </p:nvPicPr>
        <p:blipFill>
          <a:blip r:embed="rId2"/>
          <a:stretch/>
        </p:blipFill>
        <p:spPr>
          <a:xfrm>
            <a:off x="1846440" y="549360"/>
            <a:ext cx="8424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одзаголовок 2" descr=""/>
          <p:cNvPicPr/>
          <p:nvPr/>
        </p:nvPicPr>
        <p:blipFill>
          <a:blip r:embed="rId1"/>
          <a:stretch/>
        </p:blipFill>
        <p:spPr>
          <a:xfrm>
            <a:off x="1828800" y="5205240"/>
            <a:ext cx="8528040" cy="1408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флаг.jpg"/>
          <p:cNvPicPr/>
          <p:nvPr/>
        </p:nvPicPr>
        <p:blipFill>
          <a:blip r:embed="rId2"/>
          <a:stretch/>
        </p:blipFill>
        <p:spPr>
          <a:xfrm>
            <a:off x="5950080" y="333360"/>
            <a:ext cx="4608360" cy="4908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карта нижегородской области.gif"/>
          <p:cNvPicPr/>
          <p:nvPr/>
        </p:nvPicPr>
        <p:blipFill>
          <a:blip r:embed="rId3"/>
          <a:stretch/>
        </p:blipFill>
        <p:spPr>
          <a:xfrm>
            <a:off x="1270080" y="115920"/>
            <a:ext cx="4392360" cy="5199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одзаголовок 2" descr=""/>
          <p:cNvPicPr/>
          <p:nvPr/>
        </p:nvPicPr>
        <p:blipFill>
          <a:blip r:embed="rId1"/>
          <a:stretch/>
        </p:blipFill>
        <p:spPr>
          <a:xfrm>
            <a:off x="334800" y="5572080"/>
            <a:ext cx="11661840" cy="13222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Слияние двух рек.jpg"/>
          <p:cNvPicPr/>
          <p:nvPr/>
        </p:nvPicPr>
        <p:blipFill>
          <a:blip r:embed="rId2"/>
          <a:stretch/>
        </p:blipFill>
        <p:spPr>
          <a:xfrm>
            <a:off x="2494080" y="189000"/>
            <a:ext cx="7272360" cy="545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одзаголовок 2" descr=""/>
          <p:cNvPicPr/>
          <p:nvPr/>
        </p:nvPicPr>
        <p:blipFill>
          <a:blip r:embed="rId1"/>
          <a:stretch/>
        </p:blipFill>
        <p:spPr>
          <a:xfrm>
            <a:off x="365040" y="5919840"/>
            <a:ext cx="11820600" cy="85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3 миллиона.jpg"/>
          <p:cNvPicPr/>
          <p:nvPr/>
        </p:nvPicPr>
        <p:blipFill>
          <a:blip r:embed="rId2"/>
          <a:stretch/>
        </p:blipFill>
        <p:spPr>
          <a:xfrm>
            <a:off x="1557360" y="260280"/>
            <a:ext cx="8640720" cy="580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одзаголовок 2" descr=""/>
          <p:cNvPicPr/>
          <p:nvPr/>
        </p:nvPicPr>
        <p:blipFill>
          <a:blip r:embed="rId1"/>
          <a:stretch/>
        </p:blipFill>
        <p:spPr>
          <a:xfrm>
            <a:off x="414360" y="5492880"/>
            <a:ext cx="11717280" cy="1407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национальности.JPG"/>
          <p:cNvPicPr/>
          <p:nvPr/>
        </p:nvPicPr>
        <p:blipFill>
          <a:blip r:embed="rId2"/>
          <a:stretch/>
        </p:blipFill>
        <p:spPr>
          <a:xfrm>
            <a:off x="1846440" y="189000"/>
            <a:ext cx="824832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одзаголовок 2" descr=""/>
          <p:cNvPicPr/>
          <p:nvPr/>
        </p:nvPicPr>
        <p:blipFill>
          <a:blip r:embed="rId1"/>
          <a:stretch/>
        </p:blipFill>
        <p:spPr>
          <a:xfrm>
            <a:off x="549360" y="5778360"/>
            <a:ext cx="1144728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салют.JPG"/>
          <p:cNvPicPr/>
          <p:nvPr/>
        </p:nvPicPr>
        <p:blipFill>
          <a:blip r:embed="rId2"/>
          <a:stretch/>
        </p:blipFill>
        <p:spPr>
          <a:xfrm>
            <a:off x="2206800" y="260280"/>
            <a:ext cx="7920000" cy="539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08:56:07Z</dcterms:created>
  <dc:creator>Балашова Екатерина А.</dc:creator>
  <dc:description/>
  <dc:language>en-US</dc:language>
  <cp:lastModifiedBy>Пользователь Windows</cp:lastModifiedBy>
  <dcterms:modified xsi:type="dcterms:W3CDTF">2020-02-08T08:50:35Z</dcterms:modified>
  <cp:revision>5</cp:revision>
  <dc:subject/>
  <dc:title>Nizhny Novgorod reg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1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1</vt:r8>
  </property>
</Properties>
</file>