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9.png" ContentType="image/png"/>
  <Override PartName="/ppt/media/image38.jpeg" ContentType="image/jpeg"/>
  <Override PartName="/ppt/media/image34.png" ContentType="image/png"/>
  <Override PartName="/ppt/media/image40.jpeg" ContentType="image/jpeg"/>
  <Override PartName="/ppt/media/image33.jpeg" ContentType="image/jpeg"/>
  <Override PartName="/ppt/media/image43.jpeg" ContentType="image/jpeg"/>
  <Override PartName="/ppt/media/image12.png" ContentType="image/png"/>
  <Override PartName="/ppt/media/image20.jpeg" ContentType="image/jpeg"/>
  <Override PartName="/ppt/media/image44.gif" ContentType="image/gif"/>
  <Override PartName="/ppt/media/image7.png" ContentType="image/pn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535052-171C-46D9-9D66-619FFE6C58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65D380-D11B-4ED0-9A4C-13E5261A15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3231F3-329B-4942-91E9-99A81D4C85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F23D82-D178-4509-B231-267B410FA2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74C40B-C326-405A-A4FF-A0C200289F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BCEFFC-BDC7-4C32-A870-C80D624628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C75DC7-79E9-4524-B569-C55AF8F7BB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D6EF5A-32AA-4B9B-9837-157E60245C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74F31A-AC75-4CEB-82B3-85D28C4A05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ADAACF-FDF4-426E-8BD9-19CC9B32C9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BDEC93-2C7D-4CD8-80B2-EC8AD3568C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FC6D39-D3DB-47CD-9BC3-E818C8CE24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0E1D5C-AD6E-4163-94B2-62CB373A53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CAA31F-ABC9-42C2-A190-C747B3A17D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2215C-DFC8-4CB8-9B5D-B38C68ECB3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9C92C-0BEC-4544-BC34-8F8FB996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C4B84-1363-4BA4-A37E-1A0574DB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0CBC6-D9D4-4FFC-9A51-41FE7E9192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A2DF8-9AC3-466F-8CF4-D767AF0A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0239B-2146-4399-97EE-C658E2CD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BAE50-EFD5-4C0A-9638-55649C7E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C55D3-3C21-4BC2-BED0-B426051B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6CF87-CB01-43CC-A625-FFBD4C5F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8BA6A-1EE0-4FBD-9D7A-B6E149F0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D19B4-2AF1-4DAA-84ED-DDA6FCED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56959-9DD3-4E7E-9A67-221B99E2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04C65C-27AE-4A95-A1ED-C6E1EE62D9D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48720" cy="6311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684360" y="1125360"/>
            <a:ext cx="1871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042920" y="907920"/>
            <a:ext cx="424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д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г. Калинингр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л. Д. Донского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ский сад №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уппа «Солнышко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660840" y="2492280"/>
            <a:ext cx="2403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116000" y="429264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куд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Аф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 кого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Слонё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5364000" y="1125360"/>
            <a:ext cx="2953080" cy="374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900000" y="62064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826920" y="335772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4788000" y="333360"/>
            <a:ext cx="3851280" cy="2637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041720" cy="2563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684360" y="3429000"/>
            <a:ext cx="3822480" cy="3095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4"/>
          <a:stretch/>
        </p:blipFill>
        <p:spPr>
          <a:xfrm>
            <a:off x="5076720" y="3500280"/>
            <a:ext cx="3548160" cy="285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rcRect l="0" t="18527" r="0" b="16644"/>
          <a:stretch/>
        </p:blipFill>
        <p:spPr>
          <a:xfrm>
            <a:off x="539640" y="549360"/>
            <a:ext cx="3321000" cy="24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rcRect l="0" t="0" r="0" b="10521"/>
          <a:stretch/>
        </p:blipFill>
        <p:spPr>
          <a:xfrm>
            <a:off x="4716360" y="0"/>
            <a:ext cx="4103640" cy="2952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3"/>
          <a:srcRect l="9316" t="0" r="9185" b="22586"/>
          <a:stretch/>
        </p:blipFill>
        <p:spPr>
          <a:xfrm>
            <a:off x="755640" y="4076640"/>
            <a:ext cx="2016000" cy="1959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4"/>
          <a:srcRect l="5265" t="2633" r="5278" b="2646"/>
          <a:stretch/>
        </p:blipFill>
        <p:spPr>
          <a:xfrm>
            <a:off x="3203640" y="3573360"/>
            <a:ext cx="2448000" cy="259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5"/>
          <a:srcRect l="12670" t="0" r="0" b="0"/>
          <a:stretch/>
        </p:blipFill>
        <p:spPr>
          <a:xfrm>
            <a:off x="6156360" y="3573360"/>
            <a:ext cx="2489040" cy="2613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rcRect l="0" t="14695" r="0" b="9028"/>
          <a:stretch/>
        </p:blipFill>
        <p:spPr>
          <a:xfrm>
            <a:off x="900000" y="549360"/>
            <a:ext cx="3114720" cy="237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rcRect l="0" t="0" r="9441" b="0"/>
          <a:stretch/>
        </p:blipFill>
        <p:spPr>
          <a:xfrm>
            <a:off x="5076720" y="333360"/>
            <a:ext cx="3167280" cy="286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3"/>
          <a:srcRect l="18482" t="0" r="22894" b="0"/>
          <a:stretch/>
        </p:blipFill>
        <p:spPr>
          <a:xfrm>
            <a:off x="539640" y="3357720"/>
            <a:ext cx="1656000" cy="316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4"/>
          <a:srcRect l="26081" t="2195" r="26103" b="0"/>
          <a:stretch/>
        </p:blipFill>
        <p:spPr>
          <a:xfrm>
            <a:off x="3348000" y="3429000"/>
            <a:ext cx="1728720" cy="3249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5"/>
          <a:srcRect l="26368" t="0" r="27097" b="5702"/>
          <a:stretch/>
        </p:blipFill>
        <p:spPr>
          <a:xfrm>
            <a:off x="6443640" y="3282840"/>
            <a:ext cx="1944720" cy="3353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1908000" y="692280"/>
            <a:ext cx="4824720" cy="5661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157320" y="6119640"/>
            <a:ext cx="185868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7451640" y="5727600"/>
            <a:ext cx="1692360" cy="1130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4"/>
          <a:stretch/>
        </p:blipFill>
        <p:spPr>
          <a:xfrm>
            <a:off x="5616720" y="3024360"/>
            <a:ext cx="3605040" cy="1295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5"/>
          <a:stretch/>
        </p:blipFill>
        <p:spPr>
          <a:xfrm>
            <a:off x="2700360" y="5921280"/>
            <a:ext cx="3219480" cy="93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6"/>
          <a:stretch/>
        </p:blipFill>
        <p:spPr>
          <a:xfrm>
            <a:off x="1116000" y="4149720"/>
            <a:ext cx="1008000" cy="28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7"/>
          <a:stretch/>
        </p:blipFill>
        <p:spPr>
          <a:xfrm>
            <a:off x="7236000" y="4365720"/>
            <a:ext cx="61272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8"/>
          <a:stretch/>
        </p:blipFill>
        <p:spPr>
          <a:xfrm>
            <a:off x="7558200" y="5067360"/>
            <a:ext cx="938160" cy="260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9"/>
          <a:stretch/>
        </p:blipFill>
        <p:spPr>
          <a:xfrm>
            <a:off x="6624720" y="214200"/>
            <a:ext cx="2087640" cy="208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6" descr="https://st3.depositphotos.com/1533030/18440/v/950/depositphotos_184406984-stock-illustration-collection-seagull-icons-sea-waves.jpg"/>
          <p:cNvPicPr/>
          <p:nvPr/>
        </p:nvPicPr>
        <p:blipFill>
          <a:blip r:embed="rId1"/>
          <a:stretch/>
        </p:blipFill>
        <p:spPr>
          <a:xfrm>
            <a:off x="755640" y="708120"/>
            <a:ext cx="1655640" cy="13748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6" descr="https://st3.depositphotos.com/1533030/18440/v/950/depositphotos_184406984-stock-illustration-collection-seagull-icons-sea-waves.jpg"/>
          <p:cNvPicPr/>
          <p:nvPr/>
        </p:nvPicPr>
        <p:blipFill>
          <a:blip r:embed="rId2"/>
          <a:stretch/>
        </p:blipFill>
        <p:spPr>
          <a:xfrm>
            <a:off x="3348000" y="620640"/>
            <a:ext cx="1800360" cy="1501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4" descr="https://avatars.mds.yandex.net/get-pdb/1016956/4e5e85ca-85e8-4263-989a-467a1b260089/s1200?webp=false"/>
          <p:cNvPicPr/>
          <p:nvPr/>
        </p:nvPicPr>
        <p:blipFill>
          <a:blip r:embed="rId3"/>
          <a:stretch/>
        </p:blipFill>
        <p:spPr>
          <a:xfrm>
            <a:off x="3564000" y="1557360"/>
            <a:ext cx="1295280" cy="7063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9" descr="https://2.bp.blogspot.com/-E7Plm1yHnag/VztiZEFdEbI/AAAAAAABGz4/opLqjD4hAdwnT1sBm9voP5PZbLfadj1UQCLcB/w1200-h630-p-k-no-nu/AAEAAQAAAAAAAAI1AAAAJDQxNWE1ZWVjLTk5MGUtNGJjOC04N2RmLTgxMTgxMjM2MTk5OA.png"/>
          <p:cNvPicPr/>
          <p:nvPr/>
        </p:nvPicPr>
        <p:blipFill>
          <a:blip r:embed="rId4"/>
          <a:stretch/>
        </p:blipFill>
        <p:spPr>
          <a:xfrm>
            <a:off x="6227640" y="836640"/>
            <a:ext cx="2173320" cy="1144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a-clipart-tidal-wave-24"/>
          <p:cNvPicPr/>
          <p:nvPr/>
        </p:nvPicPr>
        <p:blipFill>
          <a:blip r:embed="rId5"/>
          <a:stretch/>
        </p:blipFill>
        <p:spPr>
          <a:xfrm>
            <a:off x="611280" y="3141720"/>
            <a:ext cx="2520720" cy="1258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https://im0-tub-ru.yandex.net/i?id=398991ef8eb70ed0b3582d6962c1d07a-l&amp;n=13"/>
          <p:cNvPicPr/>
          <p:nvPr/>
        </p:nvPicPr>
        <p:blipFill>
          <a:blip r:embed="rId6"/>
          <a:stretch/>
        </p:blipFill>
        <p:spPr>
          <a:xfrm>
            <a:off x="971640" y="2708280"/>
            <a:ext cx="1655640" cy="917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www.snzadm.ru/files/article_data/article_ico/15661_article.jpg?t=1511178199"/>
          <p:cNvPicPr/>
          <p:nvPr/>
        </p:nvPicPr>
        <p:blipFill>
          <a:blip r:embed="rId7"/>
          <a:stretch/>
        </p:blipFill>
        <p:spPr>
          <a:xfrm>
            <a:off x="3276720" y="2708280"/>
            <a:ext cx="2962080" cy="1297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4" descr="Detsad-1024x616"/>
          <p:cNvPicPr/>
          <p:nvPr/>
        </p:nvPicPr>
        <p:blipFill>
          <a:blip r:embed="rId8"/>
          <a:stretch/>
        </p:blipFill>
        <p:spPr>
          <a:xfrm>
            <a:off x="6227640" y="2349360"/>
            <a:ext cx="2495520" cy="1224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2" descr="http://rusticker.ru/p/7f43dabbd5526a44dd31130911a57322.png?t=1482872400"/>
          <p:cNvPicPr/>
          <p:nvPr/>
        </p:nvPicPr>
        <p:blipFill>
          <a:blip r:embed="rId9"/>
          <a:stretch/>
        </p:blipFill>
        <p:spPr>
          <a:xfrm>
            <a:off x="971640" y="4797360"/>
            <a:ext cx="2508120" cy="129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2" descr="http://trikky.ru/wp-content/blogs.dir/1/files/2018/02/8izngbEbT.png"/>
          <p:cNvPicPr/>
          <p:nvPr/>
        </p:nvPicPr>
        <p:blipFill>
          <a:blip r:embed="rId10"/>
          <a:stretch/>
        </p:blipFill>
        <p:spPr>
          <a:xfrm>
            <a:off x="4211640" y="4653000"/>
            <a:ext cx="190800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s://im0-tub-ru.yandex.net/i?id=5f5173819c497189e93dea3da808ecda-l&amp;n=13"/>
          <p:cNvPicPr/>
          <p:nvPr/>
        </p:nvPicPr>
        <p:blipFill>
          <a:blip r:embed="rId1"/>
          <a:stretch/>
        </p:blipFill>
        <p:spPr>
          <a:xfrm>
            <a:off x="0" y="0"/>
            <a:ext cx="1005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-23760" y="-1764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rcRect l="0" t="0" r="0" b="14038"/>
          <a:stretch/>
        </p:blipFill>
        <p:spPr>
          <a:xfrm>
            <a:off x="0" y="-198360"/>
            <a:ext cx="9144000" cy="705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3:24:40Z</dcterms:created>
  <dc:creator>Test</dc:creator>
  <dc:description/>
  <dc:language>en-US</dc:language>
  <cp:lastModifiedBy>samsung</cp:lastModifiedBy>
  <dcterms:modified xsi:type="dcterms:W3CDTF">2020-02-12T18:50:13Z</dcterms:modified>
  <cp:revision>358</cp:revision>
  <dc:subject/>
  <dc:title>Слайд 1</dc:title>
</cp:coreProperties>
</file>