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624E-0445-4113-B844-FC1E4F6173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C561-DEDE-458E-97DC-9C93D25904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9086-7EFF-4B4E-8EFC-2E0241376A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6D8C-D43C-49C8-9943-62BB76D94E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238-0F83-45FA-9E04-4AC419BE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2EE-2F30-4857-B4E5-2F92DDCE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D10-20C2-43FA-B906-A8606CD0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96C-24FF-49E7-8222-64AEA159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2AF3E-2FB7-480D-863A-4D79BCFAF5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41A45-2340-4A1E-BAA5-83DBF4582A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1652C-1432-418E-95A8-2BAE0F3EFF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95080-B123-47A8-8728-8CD44B4B3E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BB6CD-1F74-4069-BAFA-2738940708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08062-8AA3-4250-ACDF-F86D8F3009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7BCFD-F220-4C94-B722-FEFA389096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315-1475-4951-B0C8-A12A2D8C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00546-0B26-4C75-B4F7-2270E33830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3AFF9-FE57-42D1-8874-91A13EB090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6CD04-2756-48AC-BCA9-BF49A17961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91C37-5B2B-4CDA-A844-7A3D0B9A51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A7A55-8618-4155-A6EB-4EDADF8629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A3B-D72B-4574-946D-DA42F5FA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522B-6E26-496C-9F97-C21669CC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76D-9C46-42F3-BEF7-7D41B92E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4DD-F112-4F32-BDB9-EB7FDB86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8AD-01E2-4190-BD7A-909A2774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8A5-6359-4B81-86B3-4186950D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662-277D-4365-AA53-9DC53588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6699-917B-43AF-B687-21047DF670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27000"/>
          <a:ext cx="9144000" cy="93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1440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3428640" y="6446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463C-A60E-4E5F-88CC-4C6176FE700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4178160" y="595800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НЕ с различными частям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213984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2440" y="214776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70080" y="421164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70080" y="217008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963800" y="1832040"/>
            <a:ext cx="642960" cy="642960"/>
            <a:chOff x="1963800" y="1832040"/>
            <a:chExt cx="642960" cy="642960"/>
          </a:xfrm>
        </p:grpSpPr>
        <p:sp>
          <p:nvSpPr>
            <p:cNvPr id="133" name=""/>
            <p:cNvSpPr/>
            <p:nvPr/>
          </p:nvSpPr>
          <p:spPr>
            <a:xfrm>
              <a:off x="196380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0280" y="183672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78200" y="184068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4680" y="184644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18520" y="186192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103840" y="1924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5938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, которые с НЕ всегда пишу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213984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14760" y="214776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2040" y="421164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2040" y="217008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25760" y="183204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32240" y="183672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40160" y="183996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46640" y="184644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81560" y="1862280"/>
            <a:ext cx="512640" cy="460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66160" y="1924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25938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, которые с НЕ всегда пишу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ли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13984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77080" y="214776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94360" y="421164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94360" y="217008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688080" y="1832040"/>
            <a:ext cx="642960" cy="642960"/>
            <a:chOff x="6688080" y="1832040"/>
            <a:chExt cx="642960" cy="642960"/>
          </a:xfrm>
        </p:grpSpPr>
        <p:sp>
          <p:nvSpPr>
            <p:cNvPr id="156" name=""/>
            <p:cNvSpPr/>
            <p:nvPr/>
          </p:nvSpPr>
          <p:spPr>
            <a:xfrm>
              <a:off x="668808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94560" y="183672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02480" y="184068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08960" y="184644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42800" y="186192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28120" y="1924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25938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, которые с НЕ пишу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о слитно, то разд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2"/>
          <p:cNvSpPr/>
          <p:nvPr/>
        </p:nvSpPr>
        <p:spPr>
          <a:xfrm>
            <a:off x="0" y="1773360"/>
            <a:ext cx="9144000" cy="521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407196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mbria"/>
              </a:rPr>
              <a:t>некто , неск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ambria"/>
              </a:rPr>
              <a:t>Вот уже несколько дней идет холодный, неприятный дож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Горизонтальный свиток 11" descr=""/>
          <p:cNvPicPr/>
          <p:nvPr/>
        </p:nvPicPr>
        <p:blipFill>
          <a:blip r:embed="rId1"/>
          <a:stretch/>
        </p:blipFill>
        <p:spPr>
          <a:xfrm>
            <a:off x="179280" y="0"/>
            <a:ext cx="8753760" cy="183528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15"/>
          <p:cNvSpPr/>
          <p:nvPr/>
        </p:nvSpPr>
        <p:spPr>
          <a:xfrm>
            <a:off x="142920" y="2500200"/>
            <a:ext cx="2214360" cy="142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Н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21"/>
          <p:cNvSpPr/>
          <p:nvPr/>
        </p:nvSpPr>
        <p:spPr>
          <a:xfrm>
            <a:off x="3429000" y="2500200"/>
            <a:ext cx="2214720" cy="142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естоим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22"/>
          <p:cNvSpPr/>
          <p:nvPr/>
        </p:nvSpPr>
        <p:spPr>
          <a:xfrm>
            <a:off x="6786720" y="2500200"/>
            <a:ext cx="2214360" cy="142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иши слит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люс 24"/>
          <p:cNvSpPr/>
          <p:nvPr/>
        </p:nvSpPr>
        <p:spPr>
          <a:xfrm>
            <a:off x="2428920" y="2714760"/>
            <a:ext cx="914400" cy="914400"/>
          </a:xfrm>
          <a:prstGeom prst="pie">
            <a:avLst/>
          </a:prstGeom>
          <a:solidFill>
            <a:srgbClr val="6600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Равно 25"/>
          <p:cNvSpPr/>
          <p:nvPr/>
        </p:nvSpPr>
        <p:spPr>
          <a:xfrm>
            <a:off x="5786280" y="2786040"/>
            <a:ext cx="914400" cy="914400"/>
          </a:xfrm>
          <a:prstGeom prst="pie">
            <a:avLst/>
          </a:prstGeom>
          <a:solidFill>
            <a:srgbClr val="6600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31"/>
          <p:cNvSpPr/>
          <p:nvPr/>
        </p:nvSpPr>
        <p:spPr>
          <a:xfrm flipV="1">
            <a:off x="3202920" y="4581360"/>
            <a:ext cx="142920" cy="21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34"/>
          <p:cNvSpPr/>
          <p:nvPr/>
        </p:nvSpPr>
        <p:spPr>
          <a:xfrm flipV="1">
            <a:off x="1714680" y="2714400"/>
            <a:ext cx="14256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37"/>
          <p:cNvSpPr/>
          <p:nvPr/>
        </p:nvSpPr>
        <p:spPr>
          <a:xfrm flipV="1">
            <a:off x="4715640" y="4581360"/>
            <a:ext cx="142920" cy="21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38"/>
          <p:cNvSpPr/>
          <p:nvPr/>
        </p:nvSpPr>
        <p:spPr>
          <a:xfrm flipV="1">
            <a:off x="2626560" y="5229000"/>
            <a:ext cx="14292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Содержимое 9" descr=""/>
          <p:cNvPicPr/>
          <p:nvPr/>
        </p:nvPicPr>
        <p:blipFill>
          <a:blip r:embed="rId1"/>
          <a:stretch/>
        </p:blipFill>
        <p:spPr>
          <a:xfrm>
            <a:off x="539640" y="2279520"/>
            <a:ext cx="8375760" cy="4578480"/>
          </a:xfrm>
          <a:prstGeom prst="rect">
            <a:avLst/>
          </a:prstGeom>
          <a:ln w="0">
            <a:noFill/>
          </a:ln>
        </p:spPr>
      </p:pic>
      <p:pic>
        <p:nvPicPr>
          <p:cNvPr id="377" name="Заголовок 14" descr=""/>
          <p:cNvPicPr/>
          <p:nvPr/>
        </p:nvPicPr>
        <p:blipFill>
          <a:blip r:embed="rId2"/>
          <a:stretch/>
        </p:blipFill>
        <p:spPr>
          <a:xfrm>
            <a:off x="622440" y="-231840"/>
            <a:ext cx="8253360" cy="261000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ая соединительная линия 11"/>
          <p:cNvSpPr/>
          <p:nvPr/>
        </p:nvSpPr>
        <p:spPr>
          <a:xfrm flipH="1">
            <a:off x="3131640" y="3645000"/>
            <a:ext cx="7164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ая соединительная линия 15"/>
          <p:cNvSpPr/>
          <p:nvPr/>
        </p:nvSpPr>
        <p:spPr>
          <a:xfrm flipH="1">
            <a:off x="3357720" y="4214880"/>
            <a:ext cx="61920" cy="152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17"/>
          <p:cNvSpPr/>
          <p:nvPr/>
        </p:nvSpPr>
        <p:spPr>
          <a:xfrm flipH="1">
            <a:off x="2857680" y="4786200"/>
            <a:ext cx="7128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ая соединительная линия 19"/>
          <p:cNvSpPr/>
          <p:nvPr/>
        </p:nvSpPr>
        <p:spPr>
          <a:xfrm>
            <a:off x="2000160" y="3714840"/>
            <a:ext cx="500040" cy="1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ая соединительная линия 22"/>
          <p:cNvSpPr/>
          <p:nvPr/>
        </p:nvSpPr>
        <p:spPr>
          <a:xfrm>
            <a:off x="2500200" y="3714840"/>
            <a:ext cx="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24"/>
          <p:cNvSpPr/>
          <p:nvPr/>
        </p:nvSpPr>
        <p:spPr>
          <a:xfrm>
            <a:off x="2000160" y="4286160"/>
            <a:ext cx="500040" cy="1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25"/>
          <p:cNvSpPr/>
          <p:nvPr/>
        </p:nvSpPr>
        <p:spPr>
          <a:xfrm>
            <a:off x="2500200" y="4286160"/>
            <a:ext cx="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ая соединительная линия 26"/>
          <p:cNvSpPr/>
          <p:nvPr/>
        </p:nvSpPr>
        <p:spPr>
          <a:xfrm>
            <a:off x="2500200" y="4786200"/>
            <a:ext cx="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28"/>
          <p:cNvSpPr/>
          <p:nvPr/>
        </p:nvSpPr>
        <p:spPr>
          <a:xfrm>
            <a:off x="2000160" y="4786200"/>
            <a:ext cx="500040" cy="1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29"/>
          <p:cNvSpPr/>
          <p:nvPr/>
        </p:nvSpPr>
        <p:spPr>
          <a:xfrm>
            <a:off x="5857920" y="3714840"/>
            <a:ext cx="500040" cy="1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30"/>
          <p:cNvSpPr/>
          <p:nvPr/>
        </p:nvSpPr>
        <p:spPr>
          <a:xfrm>
            <a:off x="5857920" y="4286160"/>
            <a:ext cx="500040" cy="1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31"/>
          <p:cNvSpPr/>
          <p:nvPr/>
        </p:nvSpPr>
        <p:spPr>
          <a:xfrm>
            <a:off x="5857920" y="4857840"/>
            <a:ext cx="500040" cy="1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32"/>
          <p:cNvSpPr/>
          <p:nvPr/>
        </p:nvSpPr>
        <p:spPr>
          <a:xfrm flipH="1">
            <a:off x="6357960" y="3714840"/>
            <a:ext cx="144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38"/>
          <p:cNvSpPr/>
          <p:nvPr/>
        </p:nvSpPr>
        <p:spPr>
          <a:xfrm flipH="1">
            <a:off x="6357960" y="4286160"/>
            <a:ext cx="144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39"/>
          <p:cNvSpPr/>
          <p:nvPr/>
        </p:nvSpPr>
        <p:spPr>
          <a:xfrm flipH="1">
            <a:off x="6357960" y="4857840"/>
            <a:ext cx="144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40"/>
          <p:cNvSpPr/>
          <p:nvPr/>
        </p:nvSpPr>
        <p:spPr>
          <a:xfrm flipH="1">
            <a:off x="6286680" y="3714840"/>
            <a:ext cx="80640" cy="1332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42"/>
          <p:cNvSpPr/>
          <p:nvPr/>
        </p:nvSpPr>
        <p:spPr>
          <a:xfrm flipH="1">
            <a:off x="6286680" y="4286160"/>
            <a:ext cx="7128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43"/>
          <p:cNvSpPr/>
          <p:nvPr/>
        </p:nvSpPr>
        <p:spPr>
          <a:xfrm flipH="1">
            <a:off x="6286680" y="4857840"/>
            <a:ext cx="7128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44"/>
          <p:cNvSpPr/>
          <p:nvPr/>
        </p:nvSpPr>
        <p:spPr>
          <a:xfrm>
            <a:off x="2357280" y="5786280"/>
            <a:ext cx="428760" cy="1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47"/>
          <p:cNvSpPr/>
          <p:nvPr/>
        </p:nvSpPr>
        <p:spPr>
          <a:xfrm>
            <a:off x="2786040" y="5786280"/>
            <a:ext cx="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49"/>
          <p:cNvSpPr/>
          <p:nvPr/>
        </p:nvSpPr>
        <p:spPr>
          <a:xfrm>
            <a:off x="5286240" y="6357960"/>
            <a:ext cx="0" cy="73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50"/>
          <p:cNvSpPr/>
          <p:nvPr/>
        </p:nvSpPr>
        <p:spPr>
          <a:xfrm>
            <a:off x="4929120" y="6286680"/>
            <a:ext cx="428760" cy="1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51"/>
          <p:cNvSpPr/>
          <p:nvPr/>
        </p:nvSpPr>
        <p:spPr>
          <a:xfrm flipV="1">
            <a:off x="3348000" y="5805000"/>
            <a:ext cx="0" cy="7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65"/>
          <p:cNvSpPr/>
          <p:nvPr/>
        </p:nvSpPr>
        <p:spPr>
          <a:xfrm flipH="1">
            <a:off x="5357880" y="6286680"/>
            <a:ext cx="1440" cy="142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4" descr=""/>
          <p:cNvPicPr/>
          <p:nvPr/>
        </p:nvPicPr>
        <p:blipFill>
          <a:blip r:embed="rId1"/>
          <a:stretch/>
        </p:blipFill>
        <p:spPr>
          <a:xfrm>
            <a:off x="611280" y="0"/>
            <a:ext cx="7704000" cy="1943280"/>
          </a:xfrm>
          <a:prstGeom prst="rect">
            <a:avLst/>
          </a:prstGeom>
          <a:ln w="0">
            <a:noFill/>
          </a:ln>
        </p:spPr>
      </p:pic>
      <p:pic>
        <p:nvPicPr>
          <p:cNvPr id="403" name="Таблица 3" descr=""/>
          <p:cNvPicPr/>
          <p:nvPr/>
        </p:nvPicPr>
        <p:blipFill>
          <a:blip r:embed="rId2"/>
          <a:stretch/>
        </p:blipFill>
        <p:spPr>
          <a:xfrm>
            <a:off x="250920" y="2041560"/>
            <a:ext cx="8375400" cy="481644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ая соединительная линия 6"/>
          <p:cNvSpPr/>
          <p:nvPr/>
        </p:nvSpPr>
        <p:spPr>
          <a:xfrm>
            <a:off x="1476360" y="3716280"/>
            <a:ext cx="719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7"/>
          <p:cNvSpPr/>
          <p:nvPr/>
        </p:nvSpPr>
        <p:spPr>
          <a:xfrm>
            <a:off x="1547640" y="4221000"/>
            <a:ext cx="576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8"/>
          <p:cNvSpPr/>
          <p:nvPr/>
        </p:nvSpPr>
        <p:spPr>
          <a:xfrm>
            <a:off x="1619280" y="4797360"/>
            <a:ext cx="500040" cy="1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9"/>
          <p:cNvSpPr/>
          <p:nvPr/>
        </p:nvSpPr>
        <p:spPr>
          <a:xfrm>
            <a:off x="2195640" y="3716280"/>
            <a:ext cx="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11"/>
          <p:cNvSpPr/>
          <p:nvPr/>
        </p:nvSpPr>
        <p:spPr>
          <a:xfrm>
            <a:off x="2124000" y="4221000"/>
            <a:ext cx="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13"/>
          <p:cNvSpPr/>
          <p:nvPr/>
        </p:nvSpPr>
        <p:spPr>
          <a:xfrm>
            <a:off x="2124000" y="4797360"/>
            <a:ext cx="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20"/>
          <p:cNvSpPr/>
          <p:nvPr/>
        </p:nvSpPr>
        <p:spPr>
          <a:xfrm>
            <a:off x="2916360" y="5300640"/>
            <a:ext cx="500040" cy="1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22"/>
          <p:cNvSpPr/>
          <p:nvPr/>
        </p:nvSpPr>
        <p:spPr>
          <a:xfrm>
            <a:off x="3419640" y="5300640"/>
            <a:ext cx="0" cy="142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27"/>
          <p:cNvSpPr/>
          <p:nvPr/>
        </p:nvSpPr>
        <p:spPr>
          <a:xfrm>
            <a:off x="1928880" y="4143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29"/>
          <p:cNvSpPr/>
          <p:nvPr/>
        </p:nvSpPr>
        <p:spPr>
          <a:xfrm>
            <a:off x="1857240" y="47149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30"/>
          <p:cNvSpPr/>
          <p:nvPr/>
        </p:nvSpPr>
        <p:spPr>
          <a:xfrm>
            <a:off x="1928880" y="5286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31"/>
          <p:cNvSpPr/>
          <p:nvPr/>
        </p:nvSpPr>
        <p:spPr>
          <a:xfrm>
            <a:off x="5857920" y="4143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32"/>
          <p:cNvSpPr/>
          <p:nvPr/>
        </p:nvSpPr>
        <p:spPr>
          <a:xfrm>
            <a:off x="6500880" y="4143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33"/>
          <p:cNvSpPr/>
          <p:nvPr/>
        </p:nvSpPr>
        <p:spPr>
          <a:xfrm>
            <a:off x="5786280" y="47149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34"/>
          <p:cNvSpPr/>
          <p:nvPr/>
        </p:nvSpPr>
        <p:spPr>
          <a:xfrm>
            <a:off x="6215040" y="47149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35"/>
          <p:cNvSpPr/>
          <p:nvPr/>
        </p:nvSpPr>
        <p:spPr>
          <a:xfrm>
            <a:off x="5929200" y="5286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36"/>
          <p:cNvSpPr/>
          <p:nvPr/>
        </p:nvSpPr>
        <p:spPr>
          <a:xfrm>
            <a:off x="7286760" y="528624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37"/>
          <p:cNvSpPr/>
          <p:nvPr/>
        </p:nvSpPr>
        <p:spPr>
          <a:xfrm>
            <a:off x="3143160" y="578628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38"/>
          <p:cNvSpPr/>
          <p:nvPr/>
        </p:nvSpPr>
        <p:spPr>
          <a:xfrm>
            <a:off x="4786200" y="5715000"/>
            <a:ext cx="21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40"/>
          <p:cNvSpPr/>
          <p:nvPr/>
        </p:nvSpPr>
        <p:spPr>
          <a:xfrm>
            <a:off x="5143680" y="571500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Содержимое 9" descr=""/>
          <p:cNvPicPr/>
          <p:nvPr/>
        </p:nvPicPr>
        <p:blipFill>
          <a:blip r:embed="rId1"/>
          <a:stretch/>
        </p:blipFill>
        <p:spPr>
          <a:xfrm>
            <a:off x="533520" y="2279520"/>
            <a:ext cx="8375400" cy="4578480"/>
          </a:xfrm>
          <a:prstGeom prst="rect">
            <a:avLst/>
          </a:prstGeom>
          <a:ln w="0">
            <a:noFill/>
          </a:ln>
        </p:spPr>
      </p:pic>
      <p:pic>
        <p:nvPicPr>
          <p:cNvPr id="425" name="Заголовок 14" descr=""/>
          <p:cNvPicPr/>
          <p:nvPr/>
        </p:nvPicPr>
        <p:blipFill>
          <a:blip r:embed="rId2"/>
          <a:stretch/>
        </p:blipFill>
        <p:spPr>
          <a:xfrm>
            <a:off x="609480" y="0"/>
            <a:ext cx="8253360" cy="21337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2819520" y="1371600"/>
            <a:ext cx="4495680" cy="4572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нареч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09480" y="3657600"/>
            <a:ext cx="8229600" cy="3200400"/>
            <a:chOff x="609480" y="3657600"/>
            <a:chExt cx="8229600" cy="3200400"/>
          </a:xfrm>
        </p:grpSpPr>
        <p:sp>
          <p:nvSpPr>
            <p:cNvPr id="428" name=""/>
            <p:cNvSpPr/>
            <p:nvPr/>
          </p:nvSpPr>
          <p:spPr>
            <a:xfrm>
              <a:off x="609480" y="3657600"/>
              <a:ext cx="8229600" cy="32004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46840" y="4343400"/>
              <a:ext cx="2364480" cy="204372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Ника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Нискольк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Ниотку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38680" y="4114800"/>
              <a:ext cx="1892160" cy="204372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Н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заче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Н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гд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Н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r>
                <a:rPr b="1" lang="en-US" sz="3200" spc="-1" strike="noStrike">
                  <a:solidFill>
                    <a:srgbClr val="9900cc"/>
                  </a:solidFill>
                  <a:latin typeface="Arial"/>
                </a:rPr>
                <a:t>ку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-242244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1e1e1"/>
              </a:gs>
              <a:gs pos="50000">
                <a:srgbClr val="c0c0c0"/>
              </a:gs>
              <a:gs pos="100000">
                <a:srgbClr val="e1e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1b9ad9">
                  <a:alpha val="36078"/>
                </a:srgbClr>
              </a:gs>
              <a:gs pos="100000">
                <a:srgbClr val="b1dc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9640" y="5084640"/>
            <a:ext cx="5342040" cy="4906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был в гостях,  НЕ думая о последст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1280" y="4292640"/>
            <a:ext cx="6431040" cy="5256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о-товарищески поступил, НЕ сегодня, НЕ все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я, НЕ твой, НЕ другой, НЕ эт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2708280"/>
            <a:ext cx="4878360" cy="5047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два, НЕ тридцать тре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119700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кастрюля, а сков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172" name="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79" name="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86" name="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050920" y="4365720"/>
            <a:ext cx="381240" cy="380880"/>
            <a:chOff x="2050920" y="4365720"/>
            <a:chExt cx="381240" cy="380880"/>
          </a:xfrm>
        </p:grpSpPr>
        <p:sp>
          <p:nvSpPr>
            <p:cNvPr id="193" name=""/>
            <p:cNvSpPr/>
            <p:nvPr/>
          </p:nvSpPr>
          <p:spPr>
            <a:xfrm>
              <a:off x="2050920" y="43657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72520" y="43869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92320" y="44071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92320" y="44071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12120" y="44265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12120" y="44265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619280" y="5157720"/>
            <a:ext cx="355680" cy="381240"/>
            <a:chOff x="1619280" y="5157720"/>
            <a:chExt cx="355680" cy="381240"/>
          </a:xfrm>
        </p:grpSpPr>
        <p:sp>
          <p:nvSpPr>
            <p:cNvPr id="200" name=""/>
            <p:cNvSpPr/>
            <p:nvPr/>
          </p:nvSpPr>
          <p:spPr>
            <a:xfrm>
              <a:off x="1619280" y="5157720"/>
              <a:ext cx="3556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39440" y="5178960"/>
              <a:ext cx="31500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57800" y="519912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57800" y="519912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76160" y="5218560"/>
              <a:ext cx="241560" cy="25920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76160" y="5218560"/>
              <a:ext cx="241560" cy="25920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50920" y="3429000"/>
            <a:ext cx="91440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11280" y="1341360"/>
            <a:ext cx="380880" cy="381240"/>
            <a:chOff x="611280" y="1341360"/>
            <a:chExt cx="380880" cy="381240"/>
          </a:xfrm>
        </p:grpSpPr>
        <p:sp>
          <p:nvSpPr>
            <p:cNvPr id="208" name=""/>
            <p:cNvSpPr/>
            <p:nvPr/>
          </p:nvSpPr>
          <p:spPr>
            <a:xfrm>
              <a:off x="611280" y="13413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2880" y="136260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2680" y="138276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2680" y="138276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120" y="140220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120" y="140220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763640" y="1844640"/>
            <a:ext cx="5904000" cy="64764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 НЕ деревянный, краска НЕ синяя, не ум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Всегда раздельно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00000" y="5805360"/>
            <a:ext cx="355680" cy="381240"/>
            <a:chOff x="900000" y="5805360"/>
            <a:chExt cx="355680" cy="381240"/>
          </a:xfrm>
        </p:grpSpPr>
        <p:sp>
          <p:nvSpPr>
            <p:cNvPr id="217" name=""/>
            <p:cNvSpPr/>
            <p:nvPr/>
          </p:nvSpPr>
          <p:spPr>
            <a:xfrm>
              <a:off x="900000" y="5805360"/>
              <a:ext cx="3556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20160" y="5826600"/>
              <a:ext cx="31500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38520" y="584676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38520" y="584676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56880" y="5866200"/>
              <a:ext cx="241560" cy="25920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56880" y="5866200"/>
              <a:ext cx="241560" cy="259200"/>
            </a:xfrm>
            <a:prstGeom prst="ellipse">
              <a:avLst/>
            </a:prstGeom>
            <a:solidFill>
              <a:srgbClr val="1db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187280" y="5805360"/>
            <a:ext cx="5342040" cy="63504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рочитана, НЕ переписана, НЕ упаков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85080" y="3573360"/>
            <a:ext cx="2158920" cy="84312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роме нар. с су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о, -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72360" y="5661000"/>
            <a:ext cx="151128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ат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час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64360" y="4869000"/>
            <a:ext cx="151128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88360" y="5661000"/>
            <a:ext cx="755640" cy="0"/>
          </a:xfrm>
          <a:prstGeom prst="line">
            <a:avLst/>
          </a:prstGeom>
          <a:ln w="572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528d"/>
                </a:solidFill>
                <a:latin typeface="Verdana"/>
              </a:rPr>
              <a:t>Всегда слитно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5219640" y="3500280"/>
            <a:ext cx="1800360" cy="2738520"/>
          </a:xfrm>
          <a:custGeom>
            <a:avLst/>
            <a:gdLst>
              <a:gd name="textAreaLeft" fmla="*/ 72360 w 1800360"/>
              <a:gd name="textAreaRight" fmla="*/ 1728000 w 1800360"/>
              <a:gd name="textAreaTop" fmla="*/ 72360 h 2738520"/>
              <a:gd name="textAreaBottom" fmla="*/ 2666160 h 2738520"/>
            </a:gdLst>
            <a:ahLst/>
            <a:rect l="textAreaLeft" t="textAreaTop" r="textAreaRight" b="textAreaBottom"/>
            <a:pathLst>
              <a:path w="21600" h="32853">
                <a:moveTo>
                  <a:pt x="2969" y="0"/>
                </a:moveTo>
                <a:arcTo wR="2969" hR="2969" stAng="16200000" swAng="-5400000"/>
                <a:lnTo>
                  <a:pt x="0" y="29884"/>
                </a:lnTo>
                <a:arcTo wR="2969" hR="2969" stAng="10800000" swAng="-5400000"/>
                <a:lnTo>
                  <a:pt x="18631" y="3285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93080" y="3500280"/>
            <a:ext cx="1800000" cy="2808360"/>
          </a:xfrm>
          <a:custGeom>
            <a:avLst/>
            <a:gdLst>
              <a:gd name="textAreaLeft" fmla="*/ 72360 w 1800000"/>
              <a:gd name="textAreaRight" fmla="*/ 1727640 w 1800000"/>
              <a:gd name="textAreaTop" fmla="*/ 72360 h 2808360"/>
              <a:gd name="textAreaBottom" fmla="*/ 2736000 h 2808360"/>
            </a:gdLst>
            <a:ahLst/>
            <a:rect l="textAreaLeft" t="textAreaTop" r="textAreaRight" b="textAreaBottom"/>
            <a:pathLst>
              <a:path w="21600" h="33698">
                <a:moveTo>
                  <a:pt x="2969" y="0"/>
                </a:moveTo>
                <a:arcTo wR="2969" hR="2969" stAng="16200000" swAng="-5400000"/>
                <a:lnTo>
                  <a:pt x="0" y="30729"/>
                </a:lnTo>
                <a:arcTo wR="2969" hR="2969" stAng="10800000" swAng="-5400000"/>
                <a:lnTo>
                  <a:pt x="18631" y="3369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5002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9280" y="3429000"/>
            <a:ext cx="1584360" cy="2808360"/>
          </a:xfrm>
          <a:custGeom>
            <a:avLst/>
            <a:gdLst>
              <a:gd name="textAreaLeft" fmla="*/ 63720 w 1584360"/>
              <a:gd name="textAreaRight" fmla="*/ 1520640 w 1584360"/>
              <a:gd name="textAreaTop" fmla="*/ 63720 h 2808360"/>
              <a:gd name="textAreaBottom" fmla="*/ 2744640 h 2808360"/>
            </a:gdLst>
            <a:ahLst/>
            <a:rect l="textAreaLeft" t="textAreaTop" r="textAreaRight" b="textAreaBottom"/>
            <a:pathLst>
              <a:path w="21600" h="38283">
                <a:moveTo>
                  <a:pt x="2969" y="0"/>
                </a:moveTo>
                <a:arcTo wR="2969" hR="2969" stAng="16200000" swAng="-5400000"/>
                <a:lnTo>
                  <a:pt x="0" y="35314"/>
                </a:lnTo>
                <a:arcTo wR="2969" hR="2969" stAng="10800000" swAng="-5400000"/>
                <a:lnTo>
                  <a:pt x="18631" y="3828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59000" y="2244600"/>
            <a:ext cx="901440" cy="125280"/>
            <a:chOff x="2259000" y="2244600"/>
            <a:chExt cx="901440" cy="125280"/>
          </a:xfrm>
        </p:grpSpPr>
        <p:sp>
          <p:nvSpPr>
            <p:cNvPr id="234" name=""/>
            <p:cNvSpPr/>
            <p:nvPr/>
          </p:nvSpPr>
          <p:spPr>
            <a:xfrm>
              <a:off x="2259000" y="2244600"/>
              <a:ext cx="151920" cy="12456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45400" y="2245320"/>
              <a:ext cx="747720" cy="124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23640" y="2246400"/>
              <a:ext cx="136800" cy="1206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97080" y="22856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922560" y="2244600"/>
            <a:ext cx="901440" cy="125280"/>
            <a:chOff x="3922560" y="2244600"/>
            <a:chExt cx="901440" cy="125280"/>
          </a:xfrm>
        </p:grpSpPr>
        <p:sp>
          <p:nvSpPr>
            <p:cNvPr id="239" name=""/>
            <p:cNvSpPr/>
            <p:nvPr/>
          </p:nvSpPr>
          <p:spPr>
            <a:xfrm>
              <a:off x="3922560" y="2244600"/>
              <a:ext cx="151920" cy="12456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08960" y="2245320"/>
              <a:ext cx="747720" cy="124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87200" y="2246400"/>
              <a:ext cx="136800" cy="1206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60640" y="22856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0" y="2421000"/>
            <a:ext cx="8744400" cy="144360"/>
            <a:chOff x="0" y="2421000"/>
            <a:chExt cx="8744400" cy="144360"/>
          </a:xfrm>
        </p:grpSpPr>
        <p:sp>
          <p:nvSpPr>
            <p:cNvPr id="244" name=""/>
            <p:cNvSpPr/>
            <p:nvPr/>
          </p:nvSpPr>
          <p:spPr>
            <a:xfrm>
              <a:off x="0" y="2421000"/>
              <a:ext cx="1474920" cy="143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9160" y="2422080"/>
              <a:ext cx="7252560" cy="1432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17800" y="2423160"/>
              <a:ext cx="1326600" cy="1386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29880" y="2468160"/>
              <a:ext cx="372960" cy="406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 rot="3418800">
            <a:off x="5556600" y="1940400"/>
            <a:ext cx="874800" cy="971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аг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727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0720" y="22766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6944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1960" y="2205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4160" y="3716280"/>
            <a:ext cx="136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леп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в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нас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бы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вид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3789360"/>
            <a:ext cx="1669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леп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вежест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на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64000" y="378936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ле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веж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нас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избе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222520" y="3860640"/>
            <a:ext cx="180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Негод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Ненавид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Нездоров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3418800">
            <a:off x="7356600" y="1940400"/>
            <a:ext cx="874800" cy="97164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198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аст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е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64000" y="35002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167960" y="3716280"/>
            <a:ext cx="16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году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году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3418800">
            <a:off x="3827160" y="1941120"/>
            <a:ext cx="874800" cy="96984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198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3261600">
            <a:off x="2098080" y="1941480"/>
            <a:ext cx="874800" cy="97020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3418800">
            <a:off x="371880" y="1940400"/>
            <a:ext cx="874800" cy="97128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198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93080" y="4437000"/>
            <a:ext cx="187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навид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нави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0"/>
            <a:ext cx="91440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95640" y="836640"/>
            <a:ext cx="432108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з НЕ не употребляют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… 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то слитно, то раздельно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0" y="3357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8000" y="3357720"/>
            <a:ext cx="3095640" cy="2663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3573360"/>
            <a:ext cx="31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уществ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9ad9"/>
                </a:solidFill>
                <a:latin typeface="Arial"/>
              </a:rPr>
              <a:t>Прилаг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9ad9"/>
                </a:solidFill>
                <a:latin typeface="Arial"/>
              </a:rPr>
              <a:t>полные и крат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Нареч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с суф – о, - 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cdc9"/>
              </a:gs>
              <a:gs pos="100000">
                <a:srgbClr val="1db3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73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74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a4a7b"/>
                  </a:gs>
                  <a:gs pos="100000">
                    <a:srgbClr val="99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d0d0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9ad9"/>
                </a:gs>
                <a:gs pos="100000">
                  <a:srgbClr val="0c46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aedaf0"/>
                </a:gs>
                <a:gs pos="100000">
                  <a:srgbClr val="1b9ad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1b9ad9">
                    <a:alpha val="48235"/>
                  </a:srgbClr>
                </a:gs>
                <a:gs pos="100000">
                  <a:srgbClr val="1579a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1b9ad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284720" y="1916280"/>
            <a:ext cx="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34080" y="3581280"/>
            <a:ext cx="20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олные причас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71640" y="4797360"/>
            <a:ext cx="91440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9640" y="4797360"/>
            <a:ext cx="91440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ПИШИ  </a:t>
            </a:r>
            <a:r>
              <a:rPr b="1" lang="ru-RU" sz="2400" spc="-1" strike="noStrike">
                <a:solidFill>
                  <a:srgbClr val="a31607"/>
                </a:solidFill>
                <a:latin typeface="Verdana"/>
              </a:rPr>
              <a:t>РАЗДЕЛЬНО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012000" y="907920"/>
            <a:ext cx="2736720" cy="4399200"/>
            <a:chOff x="6012000" y="907920"/>
            <a:chExt cx="2736720" cy="4399200"/>
          </a:xfrm>
        </p:grpSpPr>
        <p:sp>
          <p:nvSpPr>
            <p:cNvPr id="286" name=""/>
            <p:cNvSpPr/>
            <p:nvPr/>
          </p:nvSpPr>
          <p:spPr>
            <a:xfrm>
              <a:off x="6012000" y="1413000"/>
              <a:ext cx="2736720" cy="3894120"/>
            </a:xfrm>
            <a:custGeom>
              <a:avLst/>
              <a:gdLst>
                <a:gd name="textAreaLeft" fmla="*/ 37440 w 2736720"/>
                <a:gd name="textAreaRight" fmla="*/ 2699280 w 2736720"/>
                <a:gd name="textAreaTop" fmla="*/ 37440 h 3894120"/>
                <a:gd name="textAreaBottom" fmla="*/ 3856680 h 3894120"/>
              </a:gdLst>
              <a:ahLst/>
              <a:rect l="textAreaLeft" t="textAreaTop" r="textAreaRight" b="textAreaBottom"/>
              <a:pathLst>
                <a:path w="21600" h="30734">
                  <a:moveTo>
                    <a:pt x="1013" y="0"/>
                  </a:moveTo>
                  <a:arcTo wR="1013" hR="1013" stAng="16200000" swAng="-5400000"/>
                  <a:lnTo>
                    <a:pt x="0" y="29721"/>
                  </a:lnTo>
                  <a:arcTo wR="1013" hR="1013" stAng="10800000" swAng="-5400000"/>
                  <a:lnTo>
                    <a:pt x="20587" y="30734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27640" y="907920"/>
              <a:ext cx="2376720" cy="936720"/>
            </a:xfrm>
            <a:prstGeom prst="roundRect">
              <a:avLst>
                <a:gd name="adj" fmla="val 50000"/>
              </a:avLst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Ес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противопост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 союзом «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835040" y="207972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253200" y="207972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990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19920" y="2352600"/>
              <a:ext cx="2655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059280" y="1989000"/>
            <a:ext cx="2736720" cy="3894120"/>
          </a:xfrm>
          <a:custGeom>
            <a:avLst/>
            <a:gdLst>
              <a:gd name="textAreaLeft" fmla="*/ 37440 w 2736720"/>
              <a:gd name="textAreaRight" fmla="*/ 2699280 w 2736720"/>
              <a:gd name="textAreaTop" fmla="*/ 37440 h 3894120"/>
              <a:gd name="textAreaBottom" fmla="*/ 3856680 h 3894120"/>
            </a:gdLst>
            <a:ahLst/>
            <a:rect l="textAreaLeft" t="textAreaTop" r="textAreaRight" b="textAreaBottom"/>
            <a:pathLst>
              <a:path w="21600" h="30734">
                <a:moveTo>
                  <a:pt x="1013" y="0"/>
                </a:moveTo>
                <a:arcTo wR="1013" hR="1013" stAng="16200000" swAng="-5400000"/>
                <a:lnTo>
                  <a:pt x="0" y="29721"/>
                </a:lnTo>
                <a:arcTo wR="1013" hR="1013" stAng="10800000" swAng="-5400000"/>
                <a:lnTo>
                  <a:pt x="20587" y="3073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1db3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74920" y="1484280"/>
            <a:ext cx="2376720" cy="936720"/>
          </a:xfrm>
          <a:prstGeom prst="roundRect">
            <a:avLst>
              <a:gd name="adj" fmla="val 50000"/>
            </a:avLst>
          </a:prstGeom>
          <a:solidFill>
            <a:srgbClr val="1db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ова, усили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риц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882320" y="2655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300480" y="2655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75080" y="2567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59280" y="2637000"/>
            <a:ext cx="265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31607"/>
                </a:solidFill>
                <a:latin typeface="Arial"/>
              </a:rPr>
              <a:t>Вов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л не сильным челове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lang="ru-RU" sz="1800" spc="-1" strike="noStrike">
                <a:solidFill>
                  <a:srgbClr val="a31607"/>
                </a:solidFill>
                <a:latin typeface="Arial"/>
              </a:rPr>
              <a:t>вовс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и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31607"/>
                </a:solidFill>
                <a:latin typeface="Arial"/>
              </a:rPr>
              <a:t>Дале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заботл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31607"/>
                </a:solidFill>
                <a:latin typeface="Arial"/>
              </a:rPr>
              <a:t>Отнюд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ласк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31607"/>
                </a:solidFill>
                <a:latin typeface="Arial"/>
              </a:rPr>
              <a:t>Нисколь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убед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08000" y="2349360"/>
            <a:ext cx="2736720" cy="4399200"/>
            <a:chOff x="108000" y="2349360"/>
            <a:chExt cx="2736720" cy="4399200"/>
          </a:xfrm>
        </p:grpSpPr>
        <p:sp>
          <p:nvSpPr>
            <p:cNvPr id="299" name=""/>
            <p:cNvSpPr/>
            <p:nvPr/>
          </p:nvSpPr>
          <p:spPr>
            <a:xfrm>
              <a:off x="108000" y="2854440"/>
              <a:ext cx="2736720" cy="3894120"/>
            </a:xfrm>
            <a:custGeom>
              <a:avLst/>
              <a:gdLst>
                <a:gd name="textAreaLeft" fmla="*/ 37440 w 2736720"/>
                <a:gd name="textAreaRight" fmla="*/ 2699280 w 2736720"/>
                <a:gd name="textAreaTop" fmla="*/ 37440 h 3894120"/>
                <a:gd name="textAreaBottom" fmla="*/ 3856680 h 3894120"/>
              </a:gdLst>
              <a:ahLst/>
              <a:rect l="textAreaLeft" t="textAreaTop" r="textAreaRight" b="textAreaBottom"/>
              <a:pathLst>
                <a:path w="21600" h="30734">
                  <a:moveTo>
                    <a:pt x="1013" y="0"/>
                  </a:moveTo>
                  <a:arcTo wR="1013" hR="1013" stAng="16200000" swAng="-5400000"/>
                  <a:lnTo>
                    <a:pt x="0" y="29721"/>
                  </a:lnTo>
                  <a:arcTo wR="1013" hR="1013" stAng="10800000" swAng="-5400000"/>
                  <a:lnTo>
                    <a:pt x="20587" y="30734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640" y="2349360"/>
              <a:ext cx="2376720" cy="936720"/>
            </a:xfrm>
            <a:prstGeom prst="roundRect">
              <a:avLst>
                <a:gd name="adj" fmla="val 50000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Отриц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логичес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подчеркивает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931040" y="352116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49200" y="352116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3800" y="34322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5920" y="3794040"/>
              <a:ext cx="2655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ы сегодня узна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ного интересного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 правда ли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 новую ли книгу ты читаешь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11280" y="1125360"/>
            <a:ext cx="91440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37480" y="1916280"/>
            <a:ext cx="2893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Не друг, а вр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Не ласковый, а груб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Не ласков, а гр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Не весело, а грус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Противопост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может бы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не выраже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формально, а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подразумевать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27640" y="5516640"/>
            <a:ext cx="2376720" cy="936720"/>
          </a:xfrm>
          <a:prstGeom prst="roundRect">
            <a:avLst>
              <a:gd name="adj" fmla="val 50000"/>
            </a:avLst>
          </a:prstGeom>
          <a:solidFill>
            <a:srgbClr val="a316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ш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ИТ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нет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859280" y="3284640"/>
            <a:ext cx="4284720" cy="2808360"/>
          </a:xfrm>
          <a:custGeom>
            <a:avLst/>
            <a:gdLst>
              <a:gd name="textAreaLeft" fmla="*/ 0 w 4284720"/>
              <a:gd name="textAreaRight" fmla="*/ 4285080 w 4284720"/>
              <a:gd name="textAreaTop" fmla="*/ 0 h 2808360"/>
              <a:gd name="textAreaBottom" fmla="*/ 280872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0c9c4"/>
              </a:gs>
              <a:gs pos="100000">
                <a:srgbClr val="1db3a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3213000"/>
            <a:ext cx="3565800" cy="2737080"/>
          </a:xfrm>
          <a:custGeom>
            <a:avLst/>
            <a:gdLst>
              <a:gd name="textAreaLeft" fmla="*/ 0 w 3565800"/>
              <a:gd name="textAreaRight" fmla="*/ 3566160 w 356580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b7b7fe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95640" y="981000"/>
            <a:ext cx="4537080" cy="57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fb7e3"/>
              </a:gs>
              <a:gs pos="100000">
                <a:srgbClr val="1b9ad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с полными причаст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4000" y="1844640"/>
            <a:ext cx="4608360" cy="1152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7b7fe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е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ивопоставление с союзом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76720" y="1844640"/>
            <a:ext cx="3527640" cy="122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0c9c4"/>
              </a:gs>
              <a:gs pos="100000">
                <a:srgbClr val="1db3a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ли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висимое от причас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0"/>
            <a:ext cx="914400" cy="914400"/>
          </a:xfrm>
          <a:prstGeom prst="ellipse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528d"/>
                </a:solidFill>
                <a:latin typeface="Verdana"/>
              </a:rPr>
              <a:t>ПИШИ  </a:t>
            </a:r>
            <a:r>
              <a:rPr b="1" lang="ru-RU" sz="3200" spc="-1" strike="noStrike">
                <a:solidFill>
                  <a:srgbClr val="a31607"/>
                </a:solidFill>
                <a:latin typeface="Verdana"/>
              </a:rPr>
              <a:t>РАЗДЕЛЬНО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 rot="19193400">
            <a:off x="1113480" y="4291920"/>
            <a:ext cx="35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бегущий, а прыга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435640" y="3500280"/>
            <a:ext cx="34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щё НЕ исследова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с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тронутая ве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rot="9080400">
            <a:off x="5508360" y="2852640"/>
            <a:ext cx="1476360" cy="8841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98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1810400">
            <a:off x="6516360" y="3859920"/>
            <a:ext cx="1476360" cy="88452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20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5661000"/>
            <a:ext cx="2376360" cy="936720"/>
          </a:xfrm>
          <a:prstGeom prst="roundRect">
            <a:avLst>
              <a:gd name="adj" fmla="val 50000"/>
            </a:avLst>
          </a:prstGeom>
          <a:solidFill>
            <a:srgbClr val="a316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ш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ИТ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нет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619280" y="189000"/>
            <a:ext cx="57913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9ad9"/>
              </a:gs>
              <a:gs pos="50000">
                <a:srgbClr val="6bbde5"/>
              </a:gs>
              <a:gs pos="100000">
                <a:srgbClr val="1b9ad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собые случаи на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1280" y="1557360"/>
            <a:ext cx="2387160" cy="2447640"/>
            <a:chOff x="611280" y="1557360"/>
            <a:chExt cx="2387160" cy="2447640"/>
          </a:xfrm>
        </p:grpSpPr>
        <p:grpSp>
          <p:nvGrpSpPr>
            <p:cNvPr id="322" name=""/>
            <p:cNvGrpSpPr/>
            <p:nvPr/>
          </p:nvGrpSpPr>
          <p:grpSpPr>
            <a:xfrm>
              <a:off x="611280" y="1557360"/>
              <a:ext cx="2387160" cy="2447640"/>
              <a:chOff x="611280" y="1557360"/>
              <a:chExt cx="2387160" cy="2447640"/>
            </a:xfrm>
          </p:grpSpPr>
          <p:sp>
            <p:nvSpPr>
              <p:cNvPr id="323" name=""/>
              <p:cNvSpPr/>
              <p:nvPr/>
            </p:nvSpPr>
            <p:spPr>
              <a:xfrm>
                <a:off x="611280" y="1557360"/>
                <a:ext cx="2387160" cy="2447640"/>
              </a:xfrm>
              <a:prstGeom prst="ellipse">
                <a:avLst/>
              </a:prstGeom>
              <a:gradFill rotWithShape="0">
                <a:gsLst>
                  <a:gs pos="0">
                    <a:srgbClr val="1db3ac"/>
                  </a:gs>
                  <a:gs pos="100000">
                    <a:srgbClr val="1271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84160" y="1597680"/>
                <a:ext cx="1841400" cy="923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db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921600" y="2803680"/>
              <a:ext cx="174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= оче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совершен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276720" y="907920"/>
            <a:ext cx="2520720" cy="2305080"/>
            <a:chOff x="3276720" y="907920"/>
            <a:chExt cx="2520720" cy="2305080"/>
          </a:xfrm>
        </p:grpSpPr>
        <p:sp>
          <p:nvSpPr>
            <p:cNvPr id="327" name=""/>
            <p:cNvSpPr/>
            <p:nvPr/>
          </p:nvSpPr>
          <p:spPr>
            <a:xfrm>
              <a:off x="3276720" y="907920"/>
              <a:ext cx="2520720" cy="23050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e4e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64720" y="946080"/>
              <a:ext cx="1944360" cy="8697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419640" y="1557360"/>
            <a:ext cx="21366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е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13603"/>
                </a:solidFill>
                <a:latin typeface="Arial"/>
              </a:rPr>
              <a:t>Совс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наречии и пр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71640" y="210816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Слитно с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012000" y="1557360"/>
            <a:ext cx="2387160" cy="2447640"/>
            <a:chOff x="6012000" y="1557360"/>
            <a:chExt cx="2387160" cy="2447640"/>
          </a:xfrm>
        </p:grpSpPr>
        <p:grpSp>
          <p:nvGrpSpPr>
            <p:cNvPr id="332" name=""/>
            <p:cNvGrpSpPr/>
            <p:nvPr/>
          </p:nvGrpSpPr>
          <p:grpSpPr>
            <a:xfrm>
              <a:off x="6012000" y="1557360"/>
              <a:ext cx="2387160" cy="2447640"/>
              <a:chOff x="6012000" y="1557360"/>
              <a:chExt cx="2387160" cy="2447640"/>
            </a:xfrm>
          </p:grpSpPr>
          <p:sp>
            <p:nvSpPr>
              <p:cNvPr id="333" name=""/>
              <p:cNvSpPr/>
              <p:nvPr/>
            </p:nvSpPr>
            <p:spPr>
              <a:xfrm>
                <a:off x="6012000" y="1557360"/>
                <a:ext cx="2387160" cy="2447640"/>
              </a:xfrm>
              <a:prstGeom prst="ellipse">
                <a:avLst/>
              </a:prstGeom>
              <a:gradFill rotWithShape="0">
                <a:gsLst>
                  <a:gs pos="0">
                    <a:srgbClr val="1db3ac"/>
                  </a:gs>
                  <a:gs pos="100000">
                    <a:srgbClr val="1271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84880" y="1597680"/>
                <a:ext cx="1841400" cy="923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db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6508800" y="2803680"/>
              <a:ext cx="1370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= отнюд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овс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445800" y="1987560"/>
            <a:ext cx="181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зд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771640" y="2852640"/>
            <a:ext cx="90360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cdc9"/>
              </a:gs>
              <a:gs pos="100000">
                <a:srgbClr val="1db3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364000" y="292428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80" y="486900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Совсем неинтересная кни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Говорил совсем непоня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45080" y="4869000"/>
            <a:ext cx="410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Совсем не старый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Ехали совсем не быст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619280" y="189000"/>
            <a:ext cx="57913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9ad9"/>
              </a:gs>
              <a:gs pos="50000">
                <a:srgbClr val="6bbde5"/>
              </a:gs>
              <a:gs pos="100000">
                <a:srgbClr val="1b9ad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собые случаи на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11280" y="1773360"/>
            <a:ext cx="2387160" cy="2447280"/>
            <a:chOff x="611280" y="1773360"/>
            <a:chExt cx="2387160" cy="2447280"/>
          </a:xfrm>
        </p:grpSpPr>
        <p:grpSp>
          <p:nvGrpSpPr>
            <p:cNvPr id="343" name=""/>
            <p:cNvGrpSpPr/>
            <p:nvPr/>
          </p:nvGrpSpPr>
          <p:grpSpPr>
            <a:xfrm>
              <a:off x="611280" y="1773360"/>
              <a:ext cx="2387160" cy="2447280"/>
              <a:chOff x="611280" y="1773360"/>
              <a:chExt cx="2387160" cy="2447280"/>
            </a:xfrm>
          </p:grpSpPr>
          <p:sp>
            <p:nvSpPr>
              <p:cNvPr id="344" name=""/>
              <p:cNvSpPr/>
              <p:nvPr/>
            </p:nvSpPr>
            <p:spPr>
              <a:xfrm>
                <a:off x="611280" y="1773360"/>
                <a:ext cx="2387160" cy="2447280"/>
              </a:xfrm>
              <a:prstGeom prst="ellipse">
                <a:avLst/>
              </a:prstGeom>
              <a:gradFill rotWithShape="0">
                <a:gsLst>
                  <a:gs pos="0">
                    <a:srgbClr val="1db3ac"/>
                  </a:gs>
                  <a:gs pos="100000">
                    <a:srgbClr val="1271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84160" y="1813680"/>
                <a:ext cx="1841400" cy="9234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db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724320" y="3019320"/>
              <a:ext cx="2151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Кроме случаев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когда при н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е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276720" y="907920"/>
            <a:ext cx="2520720" cy="2305080"/>
            <a:chOff x="3276720" y="907920"/>
            <a:chExt cx="2520720" cy="2305080"/>
          </a:xfrm>
        </p:grpSpPr>
        <p:sp>
          <p:nvSpPr>
            <p:cNvPr id="348" name=""/>
            <p:cNvSpPr/>
            <p:nvPr/>
          </p:nvSpPr>
          <p:spPr>
            <a:xfrm>
              <a:off x="3276720" y="907920"/>
              <a:ext cx="2520720" cy="23050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e4e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64720" y="946080"/>
              <a:ext cx="1944360" cy="8697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419640" y="1557360"/>
            <a:ext cx="2136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3603"/>
                </a:solidFill>
                <a:latin typeface="Arial"/>
              </a:rPr>
              <a:t>на -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прил. и прич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71640" y="210816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Слитно с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012000" y="1844640"/>
            <a:ext cx="2387520" cy="2448000"/>
            <a:chOff x="6012000" y="1844640"/>
            <a:chExt cx="2387520" cy="2448000"/>
          </a:xfrm>
        </p:grpSpPr>
        <p:sp>
          <p:nvSpPr>
            <p:cNvPr id="353" name=""/>
            <p:cNvSpPr/>
            <p:nvPr/>
          </p:nvSpPr>
          <p:spPr>
            <a:xfrm>
              <a:off x="6012000" y="1844640"/>
              <a:ext cx="2387520" cy="2448000"/>
            </a:xfrm>
            <a:prstGeom prst="ellipse">
              <a:avLst/>
            </a:prstGeom>
            <a:gradFill rotWithShape="0">
              <a:gsLst>
                <a:gs pos="0">
                  <a:srgbClr val="1db3ac"/>
                </a:gs>
                <a:gs pos="100000">
                  <a:srgbClr val="1271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84880" y="1884960"/>
              <a:ext cx="1841760" cy="9237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1db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6411600" y="2637000"/>
            <a:ext cx="160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виси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. В Т.п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45080" y="2035080"/>
            <a:ext cx="1549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Разд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с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2699640" y="3860640"/>
            <a:ext cx="4032360" cy="6480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" y="4869000"/>
            <a:ext cx="337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Нелюбимый реб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Несравнимая крас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394880" y="4869000"/>
            <a:ext cx="47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Не любимый </a:t>
            </a:r>
            <a:r>
              <a:rPr b="0" lang="en-US" sz="2400" spc="-1" strike="noStrike" u="sng">
                <a:solidFill>
                  <a:srgbClr val="1d528d"/>
                </a:solidFill>
                <a:uFillTx/>
                <a:latin typeface="Arial"/>
              </a:rPr>
              <a:t>мачехой 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реб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d528d"/>
                </a:solidFill>
                <a:uFillTx/>
                <a:latin typeface="Arial"/>
              </a:rPr>
              <a:t>Ни с чем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 не сравнимая крас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47880" y="3284640"/>
            <a:ext cx="17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виси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. 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Запомни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производные предло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81280" y="213984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9640" y="2060640"/>
            <a:ext cx="7993080" cy="3600360"/>
          </a:xfrm>
          <a:prstGeom prst="roundRect">
            <a:avLst>
              <a:gd name="adj" fmla="val 16667"/>
            </a:avLst>
          </a:pr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ff"/>
                </a:solidFill>
                <a:latin typeface="Arial"/>
              </a:rPr>
              <a:t>Несмотря  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ff"/>
                </a:solidFill>
                <a:latin typeface="Arial"/>
              </a:rPr>
              <a:t>Невзирая  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05:28:22Z</dcterms:created>
  <dc:creator>Сергей</dc:creator>
  <dc:description/>
  <dc:language>en-US</dc:language>
  <cp:lastModifiedBy>Сергей</cp:lastModifiedBy>
  <dcterms:modified xsi:type="dcterms:W3CDTF">2011-01-09T17:51:03Z</dcterms:modified>
  <cp:revision>6</cp:revision>
  <dc:subject/>
  <dc:title>НЕ     НИ</dc:title>
</cp:coreProperties>
</file>