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3D2-CF6C-44C0-BF33-BFA375D6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273-F00E-4B53-B57B-58362AE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CA4-68AA-4A28-9997-60B3D9C0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924-CAC3-4C3B-A873-66D1C8AC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2E6-8417-418C-9ADC-C317FFB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C48-50D6-4E97-ACC0-5BB58070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C11-8BEE-40A2-A2F6-793A6EB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753-3466-45DE-B58A-C6F1DE4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8C8-E6F7-4AA6-8DC8-EFAEF9E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939-0BAA-436D-A754-1846ED9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B55-70AD-4463-85EA-CD496C3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774-EE3B-4FDA-B2D1-228C2582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B7AB-CEBC-4940-9D1D-7D0A8D938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Правописание суффиксов причаст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4.Самостоятельная работа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графически объясняя свой выбо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2920" y="150012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...щий по утрам, аккуратно бре..мый, кра-с..щий волосы, всеми совету..мый, стро-га..мые доски, редактиру..мый мной, пле-щ..щиеся ребятишки, ре..щие знамена, зна-ч..щийся в списках, поддержива..мый дру-гом,бел..щий стены, пол..щий грядки, се..мый весной, точ...щий косу, ра(с/з)ст..ла..мый на полу, незабыва...мое событие, кол...щий дрова, ро...щие канаву, едва замеча..мый, терп...щий бедств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Алгоритм правописания гласной перед суффиксом причастий прошедшего времени – ВШ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14200" y="17859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96000" y="1557360"/>
            <a:ext cx="26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…..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…..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840" y="271476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суффикс В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85840" y="33577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глагола и подчеркиваю гласную  перед 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286680" y="3214800"/>
            <a:ext cx="21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85840" y="435780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слово с той же гласной перед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, что и в инфинити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084720" y="4221000"/>
            <a:ext cx="23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о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00840" y="2428920"/>
            <a:ext cx="26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..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..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16"/>
          <p:cNvSpPr/>
          <p:nvPr/>
        </p:nvSpPr>
        <p:spPr>
          <a:xfrm flipV="1">
            <a:off x="7215120" y="2428560"/>
            <a:ext cx="28584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ая соединительная линия 18"/>
          <p:cNvSpPr/>
          <p:nvPr/>
        </p:nvSpPr>
        <p:spPr>
          <a:xfrm>
            <a:off x="7500960" y="2428920"/>
            <a:ext cx="179280" cy="2142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ая соединительная линия 19"/>
          <p:cNvSpPr/>
          <p:nvPr/>
        </p:nvSpPr>
        <p:spPr>
          <a:xfrm flipV="1">
            <a:off x="7215120" y="2857320"/>
            <a:ext cx="21600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ая соединительная линия 21"/>
          <p:cNvSpPr/>
          <p:nvPr/>
        </p:nvSpPr>
        <p:spPr>
          <a:xfrm flipV="1">
            <a:off x="7358040" y="3214800"/>
            <a:ext cx="216000" cy="179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 flipV="1">
            <a:off x="7286760" y="4286160"/>
            <a:ext cx="21564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24"/>
          <p:cNvSpPr/>
          <p:nvPr/>
        </p:nvSpPr>
        <p:spPr>
          <a:xfrm flipV="1">
            <a:off x="7143840" y="4643280"/>
            <a:ext cx="21564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25"/>
          <p:cNvSpPr/>
          <p:nvPr/>
        </p:nvSpPr>
        <p:spPr>
          <a:xfrm flipV="1">
            <a:off x="7215120" y="3571560"/>
            <a:ext cx="21600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27"/>
          <p:cNvSpPr/>
          <p:nvPr/>
        </p:nvSpPr>
        <p:spPr>
          <a:xfrm>
            <a:off x="7358040" y="4643280"/>
            <a:ext cx="179280" cy="14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28"/>
          <p:cNvSpPr/>
          <p:nvPr/>
        </p:nvSpPr>
        <p:spPr>
          <a:xfrm>
            <a:off x="7500240" y="4286160"/>
            <a:ext cx="144360" cy="10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29"/>
          <p:cNvSpPr/>
          <p:nvPr/>
        </p:nvSpPr>
        <p:spPr>
          <a:xfrm>
            <a:off x="7429680" y="2857680"/>
            <a:ext cx="17928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30"/>
          <p:cNvSpPr/>
          <p:nvPr/>
        </p:nvSpPr>
        <p:spPr>
          <a:xfrm>
            <a:off x="7429680" y="3571920"/>
            <a:ext cx="71280" cy="144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31"/>
          <p:cNvSpPr/>
          <p:nvPr/>
        </p:nvSpPr>
        <p:spPr>
          <a:xfrm>
            <a:off x="7571520" y="3214800"/>
            <a:ext cx="71640" cy="179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равописание гласной перед суффиксами причастий прошедшего времени ВШ, Ш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(- ?гл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В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-,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Ш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600200"/>
          <a:ext cx="8147160" cy="4519440"/>
        </p:xfrm>
        <a:graphic>
          <a:graphicData uri="http://schemas.openxmlformats.org/drawingml/2006/table">
            <a:tbl>
              <a:tblPr/>
              <a:tblGrid>
                <a:gridCol w="1675080"/>
                <a:gridCol w="1928520"/>
                <a:gridCol w="2071800"/>
                <a:gridCol w="2471760"/>
              </a:tblGrid>
              <a:tr h="749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ВШ,Ш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у же гласную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 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нфинитиве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(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а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   (т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- 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ро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ший (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ро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Ш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писание гласной перед суффиксом причастий прошедшего времени Н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?гл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(-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268280"/>
          <a:ext cx="8424720" cy="534672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2449440"/>
                <a:gridCol w="23032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 суффиксами НН и Н </a:t>
                      </a:r>
                      <a:r>
                        <a:rPr b="1" lang="ru-RU" sz="2400" spc="-1" strike="noStrike" u="sng">
                          <a:solidFill>
                            <a:srgbClr val="cc3300"/>
                          </a:solidFill>
                          <a:uFillTx/>
                          <a:latin typeface="Times New Roman"/>
                        </a:rPr>
                        <a:t>ту же гласную,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что и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 инфинитиве глагол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увенч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– увид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вымен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гласная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 меняется на 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 - подпил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Алгоритм правописания гласной перед суффиксом причастий НН и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1680" y="126828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НН,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715000" y="12142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нч..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…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71680" y="235728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ЛАГОЛА И  ПОДЧЕРКИВАЮ ГЛАСНУЮ ПЕРЕД  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940360" y="2357280"/>
            <a:ext cx="24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венч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ро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7120" y="4000680"/>
            <a:ext cx="592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аг 3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слово с гласнОЙ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А, Я, Е,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как  и в инфинитиве, перед суффиксом причастий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Н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!!!!! Гласная  -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И -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 инфинитиве становится суффиксом  -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Н - или  -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НН -  в причас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215040" y="407196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венч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ро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. Графически объясните правописание, где нужно, используя внутреннее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235728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...вший друзей, наде...вшийся на чудо, кле...вший обои, полностью выздоров…вший, больно жал...вший, слабо слыш...вший, обе(з/с)сил..вший от голода, посе...вший подозрение, вид...вшая фильм, зате...вший ссору, та...вшии в сумке, ра(з/с)ка...вшийся во зле, рано с(о/а)стар…вшийся, (не)навид...вший ложь, ра(з/с)се...вший с(о/а)мнения, (не)ча...вший увидеть, ре...вший над крышей, леле...вший ребенка, забле...вший ягненок, опостыл...вш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1680" y="1071720"/>
          <a:ext cx="8215200" cy="117612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объяс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правописани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ле</a:t>
                      </a:r>
                      <a:r>
                        <a:rPr b="1" i="1" lang="ru-RU" sz="36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ле</a:t>
                      </a:r>
                      <a:r>
                        <a:rPr b="1" i="1" lang="ru-RU" sz="36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-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ш-ий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Классификация орфограмм суффиксов причастий, представляющих трудности для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причастий, зависящих от спряжения глаголов, от которых они образ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перед суффиксами причастий прошедшего времени гласной, которая зависит от суффикса неопределенной формы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описание гласной перед Н и НН в суффиксах страдательных причастий прошедш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imes New Roman"/>
              </a:rPr>
              <a:t>Выбор суффиксов причастий УЩ .ЮЩ.АЩ.ЯЩ .ЕМ.ИМ зависит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1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мните: спряжение глаголов с безударным личным окончанием определяем по неопределенной форме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2349360"/>
          <a:ext cx="8569080" cy="3713400"/>
        </p:xfrm>
        <a:graphic>
          <a:graphicData uri="http://schemas.openxmlformats.org/drawingml/2006/table">
            <a:tbl>
              <a:tblPr/>
              <a:tblGrid>
                <a:gridCol w="3978000"/>
                <a:gridCol w="459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е И…, АТ, 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е Е…, УТ, 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лаголы на 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глагола на 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глаголов на 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ИТЬ. СТЕЛ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юс все остальные глаг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нать, держать, терпеть, обидеть, слышать, видеть, ненавидеть, и зависеть, и вертеть, и еще дышать, смот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еять, веять, затеять, каяться, лаять, лелеять, маяться, сеять, надеяться, реять, чаять, таять, ха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784680"/>
        </p:xfrm>
        <a:graphic>
          <a:graphicData uri="http://schemas.openxmlformats.org/drawingml/2006/table">
            <a:tbl>
              <a:tblPr/>
              <a:tblGrid>
                <a:gridCol w="2602080"/>
                <a:gridCol w="3168360"/>
                <a:gridCol w="245916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Щ, ЮЩ, 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Ю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рега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Щ, ЯЩ, 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ичастиях, образованных от глаголов 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 спря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ыш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правописания суффиксов причастий, зависящих от спряжения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6360" y="150480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4360" y="1628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1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СТАВЛЮ  УД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96000" y="1557360"/>
            <a:ext cx="23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…..щи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……м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2349360"/>
            <a:ext cx="68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2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ВЫДЕЛЯЮ  СУФФИКС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28018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БРАЗУЮ  ИНФИНИТИ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ГЛАГОЛА И ОПРЕДЕЛЯЮ  СПР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798160" y="285264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ся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4360" y="40053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г 3: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ИШУ  УЩ,ЮЩ В ПРИЧАСТИЯХ, ОБРАЗОВАННЫХ ОТ ГЛАГОЛОВ 1 СПРЯЖЕНИЯ, И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АЩ, ЯЩ – ОТ ГЛАГОЛОВ 2 СПРЯ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940360" y="41688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ий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е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5154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от данных глаголов причастия, графически обозначьте орфограмму. От некоторых глаголов можно образовать разные причас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ть, слышать, читать, видеть, сеять, лелеять, мучить, дарить, строить, зажигать, гн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5840" y="1785960"/>
          <a:ext cx="8572320" cy="1851120"/>
        </p:xfrm>
        <a:graphic>
          <a:graphicData uri="http://schemas.openxmlformats.org/drawingml/2006/table">
            <a:tbl>
              <a:tblPr/>
              <a:tblGrid>
                <a:gridCol w="2714400"/>
                <a:gridCol w="2857680"/>
                <a:gridCol w="3000240"/>
              </a:tblGrid>
              <a:tr h="1192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инфинити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 помощью суффик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1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 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)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2спр 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- 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щ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 помощью</a:t>
                      </a: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суффик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1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(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)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2 спр -</a:t>
                      </a: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i="1" lang="ru-RU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м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(1сп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я-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Ю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-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равля-</a:t>
                      </a:r>
                      <a:r>
                        <a:rPr b="1" i="1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-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2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. Графически объясните право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1143000"/>
          <a:ext cx="8786880" cy="743040"/>
        </p:xfrm>
        <a:graphic>
          <a:graphicData uri="http://schemas.openxmlformats.org/drawingml/2006/table">
            <a:tbl>
              <a:tblPr/>
              <a:tblGrid>
                <a:gridCol w="4394160"/>
                <a:gridCol w="4392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писани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</a:t>
                      </a:r>
                      <a:r>
                        <a:rPr b="1" lang="ru-RU" sz="20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, 2 с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</a:t>
                      </a:r>
                      <a:r>
                        <a:rPr b="1" lang="ru-RU" sz="2000" spc="-1" strike="noStrike" u="sng">
                          <a:solidFill>
                            <a:srgbClr val="ff0066"/>
                          </a:solidFill>
                          <a:uFillTx/>
                          <a:latin typeface="Times New Roman"/>
                          <a:ea typeface="Times New Roman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й рекла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142920" y="1865520"/>
            <a:ext cx="88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...щийся на солнце, часто организу…мый, слыш...мый шорох, сыпл...щийся с потолка, подгоня...мые, ветром, терп...щий боль, изгоня…мый из общества, стел..щийся по земле, хлопоч...щая хозяйка, кле...щии карандаш, хвал...щий спектакль, мол...щий о пощаде, бор...щийся с пургой, шепч...щий на ухо, плач...щий малыш, знач...мое событие, слав...щийся делами, реж...щий инструмент, ла...щая св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3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графически объясняя свой выбо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ш..щийся на крыше, исследу..мый об(?)ект, ран..щий словом, грохоч..щий гру-зовик, та...щий на солнце, слабо дыш..щий, колебл...мый ветром, (не)навид..мый всеми, вполне ра(з/с)реша..мый. двига..мый жела-нием, дремл..щии на лекции, плохо вид..мый, завис..щий от отца, ма..щийся зубами, больно жал..щий, много знач..щий, всеми ува-жа..мый, сж..га..мый страст(?)ю, стро..щийся район, хол..щий жеребен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люч к 1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560" y="428400"/>
            <a:ext cx="900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ыш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ыше, исследу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ъ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, ран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вом, грохо-ч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У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зовик, т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олнце,слабо дыш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колеб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тром, н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д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, нет сл.без НЕ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-ми, вполне ра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дрем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лекции, плохо вид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ви-с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тца,  м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-ми,больно жа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много знач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ми уважа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Ж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1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ст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ро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ся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йон, хо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щ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2спр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>
            <a:off x="1643040" y="1071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 flipH="1">
            <a:off x="2214720" y="1071720"/>
            <a:ext cx="14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9"/>
          <p:cNvSpPr/>
          <p:nvPr/>
        </p:nvSpPr>
        <p:spPr>
          <a:xfrm>
            <a:off x="3143160" y="30002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10"/>
          <p:cNvSpPr/>
          <p:nvPr/>
        </p:nvSpPr>
        <p:spPr>
          <a:xfrm flipH="1">
            <a:off x="3714840" y="3000240"/>
            <a:ext cx="14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17:06Z</dcterms:created>
  <dc:creator>Лена</dc:creator>
  <dc:description/>
  <dc:language>en-US</dc:language>
  <cp:lastModifiedBy>Admin</cp:lastModifiedBy>
  <dcterms:modified xsi:type="dcterms:W3CDTF">2019-12-26T15:44:27Z</dcterms:modified>
  <cp:revision>37</cp:revision>
  <dc:subject/>
  <dc:title>Правописание суффиксов причастий</dc:title>
</cp:coreProperties>
</file>