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png" ContentType="image/png"/>
  <Override PartName="/ppt/media/image6.jpeg" ContentType="image/jpeg"/>
  <Override PartName="/ppt/media/image14.jpeg" ContentType="image/jpeg"/>
  <Override PartName="/ppt/media/image8.png" ContentType="image/png"/>
  <Override PartName="/ppt/media/image7.jpeg" ContentType="image/jpeg"/>
  <Override PartName="/ppt/media/image9.png" ContentType="image/png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87903-0DA4-47B9-9DC4-A06BF31EB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A1BA6-AF47-4C27-9BE0-09755CE2C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928B-05DA-4A2E-8875-B6A820AB3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252A-E292-409A-BA51-E2F9AB37B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29E7A-97E7-4651-B855-939398FF5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08AB6-7DE5-4754-86FE-49382D174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F216-6A4E-4A8F-AE32-C176FD44E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EFF14-874D-42E2-A37A-6A3E62755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692F-FF13-440E-BA00-2E9C0C34E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D840-BFA1-4012-B054-264619B44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4162-5D75-4B2E-B024-078BCD716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7928-9C8C-4B57-913E-4836F416C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B42BD-CE5A-41DF-955D-97B1EC5F42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483920"/>
            <a:ext cx="7772400" cy="3714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000000"/>
                </a:solidFill>
                <a:latin typeface="Monotype Corsiva"/>
              </a:rPr>
              <a:t>Урок-путешествие по теме:  «Наибольший общий делитель»</a:t>
            </a:r>
            <a:br>
              <a:rPr sz="7200"/>
            </a:b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" descr="C:\Users\Home\Desktop\img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C:\Users\Home\Desktop\01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90756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ПОЛЯНА «ВЫЧИСЛЯЙК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826560" y="1413000"/>
            <a:ext cx="713916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14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c00000"/>
                </a:solidFill>
                <a:uFillTx/>
                <a:latin typeface="Times New Roman"/>
                <a:ea typeface="Times New Roman"/>
              </a:rPr>
              <a:t>Вычислите НОД данных чисе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НОД(85,68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НОД (10,50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14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НОД(5,15,45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33624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Monotype Corsiva"/>
                <a:ea typeface="Microsoft JhengHei"/>
              </a:rPr>
              <a:t>СПОРТИВНАЯ  ПОЛЯН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Рисунок 4" descr="66.gif"/>
          <p:cNvPicPr/>
          <p:nvPr/>
        </p:nvPicPr>
        <p:blipFill>
          <a:blip r:embed="rId2"/>
          <a:stretch/>
        </p:blipFill>
        <p:spPr>
          <a:xfrm>
            <a:off x="5180040" y="1341360"/>
            <a:ext cx="2714760" cy="2714760"/>
          </a:xfrm>
          <a:prstGeom prst="rect">
            <a:avLst/>
          </a:prstGeom>
          <a:ln w="0">
            <a:noFill/>
          </a:ln>
        </p:spPr>
      </p:pic>
      <p:sp>
        <p:nvSpPr>
          <p:cNvPr id="75" name="Прямоугольник 1"/>
          <p:cNvSpPr/>
          <p:nvPr/>
        </p:nvSpPr>
        <p:spPr>
          <a:xfrm>
            <a:off x="2556000" y="3860640"/>
            <a:ext cx="5999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паем– если четные чис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лопок в ладоши – если кратно 3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клон  в сторону – если кратно 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2"/>
          <p:cNvSpPr/>
          <p:nvPr/>
        </p:nvSpPr>
        <p:spPr>
          <a:xfrm>
            <a:off x="1098720" y="1700280"/>
            <a:ext cx="457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читаем до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95280" y="620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430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00000"/>
                </a:solidFill>
                <a:latin typeface="Monotype Corsiva"/>
                <a:ea typeface="Times New Roman"/>
              </a:rPr>
              <a:t>ИСТОРИЧЕСКАЯ ПОЛЯН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2771280" y="4149360"/>
            <a:ext cx="403236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(1945,2020)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4" descr="C:\Users\6\Desktop\s_8823350a4ac010229afaa914c7d16b513129.jpg"/>
          <p:cNvPicPr/>
          <p:nvPr/>
        </p:nvPicPr>
        <p:blipFill>
          <a:blip r:embed="rId2"/>
          <a:stretch/>
        </p:blipFill>
        <p:spPr>
          <a:xfrm>
            <a:off x="2462040" y="1195560"/>
            <a:ext cx="3915000" cy="293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Заголовок 1"/>
          <p:cNvSpPr/>
          <p:nvPr/>
        </p:nvSpPr>
        <p:spPr>
          <a:xfrm>
            <a:off x="971640" y="1895400"/>
            <a:ext cx="302400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№ </a:t>
            </a:r>
            <a:r>
              <a:rPr b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67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" descr=""/>
          <p:cNvPicPr/>
          <p:nvPr/>
        </p:nvPicPr>
        <p:blipFill>
          <a:blip r:embed="rId2"/>
          <a:srcRect l="33071" t="28126" r="32283" b="29688"/>
          <a:stretch/>
        </p:blipFill>
        <p:spPr>
          <a:xfrm rot="20989800">
            <a:off x="5221080" y="2841480"/>
            <a:ext cx="2452680" cy="299880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7"/>
          <p:cNvSpPr/>
          <p:nvPr/>
        </p:nvSpPr>
        <p:spPr>
          <a:xfrm>
            <a:off x="1241280" y="620640"/>
            <a:ext cx="6734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С УЧЕБНИКОМ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250920" y="25992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Работа в тетрадях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1" descr="AG00218_"/>
          <p:cNvPicPr/>
          <p:nvPr/>
        </p:nvPicPr>
        <p:blipFill>
          <a:blip r:embed="rId2"/>
          <a:stretch/>
        </p:blipFill>
        <p:spPr>
          <a:xfrm>
            <a:off x="5940360" y="4581360"/>
            <a:ext cx="1990800" cy="133848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 txBox="1"/>
          <p:nvPr/>
        </p:nvSpPr>
        <p:spPr>
          <a:xfrm>
            <a:off x="755640" y="1267920"/>
            <a:ext cx="3672000" cy="2908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все делители числа 2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ите наибольший общий делитель чисел 68и 16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Содержимое 5"/>
          <p:cNvSpPr/>
          <p:nvPr/>
        </p:nvSpPr>
        <p:spPr>
          <a:xfrm>
            <a:off x="4662360" y="1297080"/>
            <a:ext cx="3654720" cy="28796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Запишите все делители числа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Вычислите наибольший общий делитель чисел 36 и 2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Отве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042560" y="1353600"/>
            <a:ext cx="3816360" cy="221940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1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4, 7, 14, 28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 (68, 16) = 2*2=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Содержимое 4"/>
          <p:cNvSpPr/>
          <p:nvPr/>
        </p:nvSpPr>
        <p:spPr>
          <a:xfrm>
            <a:off x="4284720" y="3789360"/>
            <a:ext cx="3814560" cy="24764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риант 2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, 2, 4, 5,10,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) 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ОД (36, 24) = 2*2*3=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Рисунок 4" descr="1979.gif"/>
          <p:cNvPicPr/>
          <p:nvPr/>
        </p:nvPicPr>
        <p:blipFill>
          <a:blip r:embed="rId2"/>
          <a:stretch/>
        </p:blipFill>
        <p:spPr>
          <a:xfrm>
            <a:off x="5219640" y="2997360"/>
            <a:ext cx="3424320" cy="34239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 txBox="1"/>
          <p:nvPr/>
        </p:nvSpPr>
        <p:spPr>
          <a:xfrm>
            <a:off x="971280" y="549000"/>
            <a:ext cx="743724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ДОМАШНЕЕ ЗАДАНИЕ: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Решить № 677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одготовить выступление о Евклиде.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Рисунок 14" descr=""/>
          <p:cNvPicPr/>
          <p:nvPr/>
        </p:nvPicPr>
        <p:blipFill>
          <a:blip r:embed="rId2"/>
          <a:stretch/>
        </p:blipFill>
        <p:spPr>
          <a:xfrm>
            <a:off x="-23760" y="0"/>
            <a:ext cx="9167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Пятно 1 2"/>
          <p:cNvSpPr/>
          <p:nvPr/>
        </p:nvSpPr>
        <p:spPr>
          <a:xfrm>
            <a:off x="4932360" y="2230560"/>
            <a:ext cx="4027320" cy="3144600"/>
          </a:xfrm>
          <a:prstGeom prst="irregularSeal1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ЗНАКИ ДЕЛИМ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80880" y="1884240"/>
            <a:ext cx="278604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О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Рисунок 1" descr=""/>
          <p:cNvPicPr/>
          <p:nvPr/>
        </p:nvPicPr>
        <p:blipFill>
          <a:blip r:embed="rId2"/>
          <a:stretch/>
        </p:blipFill>
        <p:spPr>
          <a:xfrm>
            <a:off x="3081240" y="174600"/>
            <a:ext cx="2484360" cy="174168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4" descr="1968.gif"/>
          <p:cNvPicPr/>
          <p:nvPr/>
        </p:nvPicPr>
        <p:blipFill>
          <a:blip r:embed="rId3"/>
          <a:stretch/>
        </p:blipFill>
        <p:spPr>
          <a:xfrm>
            <a:off x="6431040" y="4170240"/>
            <a:ext cx="2208240" cy="2208240"/>
          </a:xfrm>
          <a:prstGeom prst="rect">
            <a:avLst/>
          </a:prstGeom>
          <a:ln w="0">
            <a:noFill/>
          </a:ln>
        </p:spPr>
      </p:pic>
      <p:sp>
        <p:nvSpPr>
          <p:cNvPr id="46" name="Пятно 1 5"/>
          <p:cNvSpPr/>
          <p:nvPr/>
        </p:nvSpPr>
        <p:spPr>
          <a:xfrm>
            <a:off x="200160" y="1916280"/>
            <a:ext cx="4635360" cy="3456000"/>
          </a:xfrm>
          <a:prstGeom prst="irregularSeal1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НОЖЕСТВО НАТУРАЛЬНЫХ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Рисунок 3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оляна «Разминайкин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11111, 7802, 123400, 405405, 8888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оляна «Разминайкин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11111, 7802, 123400, 405405, 8888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827, 11211, 9012, 11119, 30141, 716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0000"/>
                </a:solidFill>
                <a:latin typeface="Monotype Corsiva"/>
              </a:rPr>
              <a:t>Поляна «Разминайкина»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11111, 7802, 123400, 405405, 88888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 827, 11211, 9012, 11119, 30141, 716 </a:t>
            </a: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8273, 18261, 8001, 51569, 90333, 774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666720" y="1483920"/>
            <a:ext cx="77040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 Наибольший общий делитель чисел a и b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Поляна  «Знайкин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8" descr="dd36efffaaed"/>
          <p:cNvPicPr/>
          <p:nvPr/>
        </p:nvPicPr>
        <p:blipFill>
          <a:blip r:embed="rId2"/>
          <a:stretch/>
        </p:blipFill>
        <p:spPr>
          <a:xfrm>
            <a:off x="6227640" y="2421000"/>
            <a:ext cx="2117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666720" y="1483920"/>
            <a:ext cx="77040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 Наибольший общий делитель чисел a и b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ибольшее натуральное число, на которое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ятся без остатка  числа a и b;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Поляна  «Знайкин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8" descr="dd36efffaaed"/>
          <p:cNvPicPr/>
          <p:nvPr/>
        </p:nvPicPr>
        <p:blipFill>
          <a:blip r:embed="rId2"/>
          <a:stretch/>
        </p:blipFill>
        <p:spPr>
          <a:xfrm>
            <a:off x="6227640" y="2421000"/>
            <a:ext cx="2117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 txBox="1"/>
          <p:nvPr/>
        </p:nvSpPr>
        <p:spPr>
          <a:xfrm>
            <a:off x="666720" y="1483920"/>
            <a:ext cx="77040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 Наибольший общий делитель чисел a и b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ибольшее натуральное число, на которое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ятся без остатка  числа a и b;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Назовите способы нахождения Н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Поляна  «Знайкин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dd36efffaaed"/>
          <p:cNvPicPr/>
          <p:nvPr/>
        </p:nvPicPr>
        <p:blipFill>
          <a:blip r:embed="rId2"/>
          <a:stretch/>
        </p:blipFill>
        <p:spPr>
          <a:xfrm>
            <a:off x="6227640" y="2421000"/>
            <a:ext cx="2117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666720" y="1483920"/>
            <a:ext cx="7704000" cy="408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1. Наибольший общий делитель чисел a и b –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то наибольшее натуральное число, на которое 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лятся без остатка  числа a и b;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2. Назовите способы нахождения НОД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- метод перебор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- разложение на простые множител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                        </a:t>
            </a:r>
            <a:r>
              <a:rPr b="0" lang="ru-RU" sz="2400" spc="-1" strike="noStrike">
                <a:solidFill>
                  <a:srgbClr val="111115"/>
                </a:solidFill>
                <a:latin typeface="Times New Roman"/>
                <a:ea typeface="Times New Roman"/>
              </a:rPr>
              <a:t>- НОД по алгоритму Евклида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3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c00000"/>
                </a:solidFill>
                <a:latin typeface="Monotype Corsiva"/>
              </a:rPr>
              <a:t>Поляна  «Знайкина»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8" descr="dd36efffaaed"/>
          <p:cNvPicPr/>
          <p:nvPr/>
        </p:nvPicPr>
        <p:blipFill>
          <a:blip r:embed="rId2"/>
          <a:stretch/>
        </p:blipFill>
        <p:spPr>
          <a:xfrm>
            <a:off x="6227640" y="2421000"/>
            <a:ext cx="211788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5T16:40:52Z</dcterms:created>
  <dc:creator>Admin</dc:creator>
  <dc:description/>
  <dc:language>en-US</dc:language>
  <cp:lastModifiedBy>Home</cp:lastModifiedBy>
  <dcterms:modified xsi:type="dcterms:W3CDTF">2020-01-21T15:38:45Z</dcterms:modified>
  <cp:revision>33</cp:revision>
  <dc:subject/>
  <dc:title>Урок-путешествие по теме:  «Наибольший общий делитель» </dc:title>
</cp:coreProperties>
</file>