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2DF0-C874-43B8-AC66-0B49A2EBE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700B-2640-49D2-9B8B-23400160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6BF5-7D6A-4D4D-91F7-AA611EBC5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077A-9A0D-47FF-B74A-2F1C8F7E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B206-5BC2-4837-928B-E7136E7E1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0ED7-1BFF-4CF9-999F-91DFFB488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8784-3F19-465F-AB4F-FBBA0790C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2185-2245-429F-BFB4-46FE081A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576-E3FC-4FEA-92A9-C658D611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421D-80B7-4AF3-9D7F-1AC8555A1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6DA6-E2CE-4EF7-AAB4-574E0609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49D2-3A86-4394-B509-361020877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5F29-91C4-43B5-B489-1FC846081D5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Урок-путешествие по теме:  «Наибольший общий делитель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ome\Desktop\img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ome\Desktop\0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ПОЛЯНА «ВЫЧИСЛЯЙ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560" y="1413000"/>
            <a:ext cx="7139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числите НОД данных чис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ОД(85,6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ОД (10,50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Д(5,15,45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3362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Microsoft JhengHei"/>
              </a:rPr>
              <a:t>СПОРТИВНАЯ  ПОЛЯ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66.gif"/>
          <p:cNvPicPr/>
          <p:nvPr/>
        </p:nvPicPr>
        <p:blipFill>
          <a:blip r:embed="rId2"/>
          <a:stretch/>
        </p:blipFill>
        <p:spPr>
          <a:xfrm>
            <a:off x="5180040" y="13413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2556000" y="3860640"/>
            <a:ext cx="5999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аем– если четные чи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ок в ладоши – если кратно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он  в сторону – если кратно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098720" y="1700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м до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СТОРИЧЕСКАЯ ПОЛЯ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71280" y="4149360"/>
            <a:ext cx="403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(1945,2020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6\Desktop\s_8823350a4ac010229afaa914c7d16b513129.jpg"/>
          <p:cNvPicPr/>
          <p:nvPr/>
        </p:nvPicPr>
        <p:blipFill>
          <a:blip r:embed="rId2"/>
          <a:stretch/>
        </p:blipFill>
        <p:spPr>
          <a:xfrm>
            <a:off x="2462040" y="1195560"/>
            <a:ext cx="39150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971640" y="1895400"/>
            <a:ext cx="302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33071" t="28126" r="32283" b="29688"/>
          <a:stretch/>
        </p:blipFill>
        <p:spPr>
          <a:xfrm rot="20989800">
            <a:off x="5221080" y="2841480"/>
            <a:ext cx="2452680" cy="29988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1241280" y="620640"/>
            <a:ext cx="67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УЧЕБНИК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тетрадя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AG00218_"/>
          <p:cNvPicPr/>
          <p:nvPr/>
        </p:nvPicPr>
        <p:blipFill>
          <a:blip r:embed="rId2"/>
          <a:stretch/>
        </p:blipFill>
        <p:spPr>
          <a:xfrm>
            <a:off x="5940360" y="4581360"/>
            <a:ext cx="1990800" cy="133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55640" y="1267920"/>
            <a:ext cx="3672000" cy="2908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все делители числа 2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ите наибольший общий делитель чисел 68и 1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одержимое 5"/>
          <p:cNvSpPr/>
          <p:nvPr/>
        </p:nvSpPr>
        <p:spPr>
          <a:xfrm>
            <a:off x="4662360" y="1297080"/>
            <a:ext cx="3654720" cy="2879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все делители числа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ите наибольший общий делитель чисел 36 и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42560" y="1353600"/>
            <a:ext cx="3816360" cy="2219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4, 7, 14, 2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(68, 16) = 2*2=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одержимое 4"/>
          <p:cNvSpPr/>
          <p:nvPr/>
        </p:nvSpPr>
        <p:spPr>
          <a:xfrm>
            <a:off x="4284720" y="3789360"/>
            <a:ext cx="3814560" cy="247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4, 5,10,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(36, 24) = 2*2*3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1979.gif"/>
          <p:cNvPicPr/>
          <p:nvPr/>
        </p:nvPicPr>
        <p:blipFill>
          <a:blip r:embed="rId2"/>
          <a:stretch/>
        </p:blipFill>
        <p:spPr>
          <a:xfrm>
            <a:off x="5219640" y="2997360"/>
            <a:ext cx="3424320" cy="342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71280" y="549000"/>
            <a:ext cx="7437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шить № 6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ить выступление о Евклиде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4" descr=""/>
          <p:cNvPicPr/>
          <p:nvPr/>
        </p:nvPicPr>
        <p:blipFill>
          <a:blip r:embed="rId2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ятно 1 2"/>
          <p:cNvSpPr/>
          <p:nvPr/>
        </p:nvSpPr>
        <p:spPr>
          <a:xfrm>
            <a:off x="4932360" y="2230560"/>
            <a:ext cx="4027320" cy="3144600"/>
          </a:xfrm>
          <a:prstGeom prst="irregularSeal1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ДЕЛ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80880" y="1884240"/>
            <a:ext cx="27860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3081240" y="174600"/>
            <a:ext cx="2484360" cy="1741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1968.gif"/>
          <p:cNvPicPr/>
          <p:nvPr/>
        </p:nvPicPr>
        <p:blipFill>
          <a:blip r:embed="rId3"/>
          <a:stretch/>
        </p:blipFill>
        <p:spPr>
          <a:xfrm>
            <a:off x="6431040" y="417024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46" name="Пятно 1 5"/>
          <p:cNvSpPr/>
          <p:nvPr/>
        </p:nvSpPr>
        <p:spPr>
          <a:xfrm>
            <a:off x="200160" y="1916280"/>
            <a:ext cx="4635360" cy="3456000"/>
          </a:xfrm>
          <a:prstGeom prst="irregularSeal1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НАТУРАЛЬНЫХ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оляна «Разминайки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11111, 7802, 123400, 405405, 8888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оляна «Разминайки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11111, 7802, 123400, 405405, 8888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827, 11211, 9012, 11119, 30141, 716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оляна «Разминайки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11111, 7802, 123400, 405405, 8888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827, 11211, 9012, 11119, 30141, 716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8273, 18261, 8001, 51569, 90333, 77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ьшее натуральное число, на которое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ятся без остатка  числа a и b;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ьшее натуральное число, на которое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ятся без остатка  числа a и b;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Назовите способы нахождения Н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ьшее натуральное число, на которое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ятся без остатка  числа a и b;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Назовите способы нахождения Н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- метод перебо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- разложение на простые множите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- НОД по алгоритму Евкл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40:52Z</dcterms:created>
  <dc:creator>Admin</dc:creator>
  <dc:description/>
  <dc:language>en-US</dc:language>
  <cp:lastModifiedBy>Home</cp:lastModifiedBy>
  <dcterms:modified xsi:type="dcterms:W3CDTF">2020-01-21T15:38:45Z</dcterms:modified>
  <cp:revision>33</cp:revision>
  <dc:subject/>
  <dc:title>Урок-путешествие по теме:  «Наибольший общий делитель» </dc:title>
</cp:coreProperties>
</file>