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256C-E759-40DC-BFB1-C5D77478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98CC-5F71-42E6-863E-3CFE769B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EA7-E9B9-4DF1-B553-901666C4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3F2F-0972-49AB-BEE2-9C0F6CC2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0E4F-94CC-44D2-9B52-5A860A2C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94C-C9D1-4C9C-BA88-D9DDF69A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6FDE-6B2F-4FE8-B566-1B49463A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696E-4A5E-4E57-85EF-EE17998A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70FA-9290-4844-8750-321D2D8D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94E-457C-4054-8D9E-B820463B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533D-B8CE-4D9C-9E66-A46550DB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CBEA-A97D-46ED-BB6C-6C994D51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FB49-9C68-48C4-B3D8-677CDE589A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audio" Target="file:///tmp/home/.config/libreoffice/4/user/gallery/016.wav" TargetMode="External"/><Relationship Id="rId13" Type="http://schemas.microsoft.com/office/2007/relationships/media" Target="file:///tmp/home/.config/libreoffice/4/user/gallery/016.wav" TargetMode="External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6"/>
          <p:cNvSpPr/>
          <p:nvPr/>
        </p:nvSpPr>
        <p:spPr>
          <a:xfrm>
            <a:off x="1403280" y="6524640"/>
            <a:ext cx="5616720" cy="6476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35213249"/>
          <p:cNvPicPr/>
          <p:nvPr/>
        </p:nvPicPr>
        <p:blipFill>
          <a:blip r:embed="rId2">
            <a:lum bright="12000"/>
          </a:blip>
          <a:stretch/>
        </p:blipFill>
        <p:spPr>
          <a:xfrm rot="21333600">
            <a:off x="1979640" y="620640"/>
            <a:ext cx="5975280" cy="6048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079513_337"/>
          <p:cNvPicPr/>
          <p:nvPr/>
        </p:nvPicPr>
        <p:blipFill>
          <a:blip r:embed="rId3">
            <a:lum bright="-6000"/>
          </a:blip>
          <a:srcRect l="36625" t="63809" r="32495" b="0"/>
          <a:stretch/>
        </p:blipFill>
        <p:spPr>
          <a:xfrm rot="1960200">
            <a:off x="1476360" y="256536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079513_337"/>
          <p:cNvPicPr/>
          <p:nvPr/>
        </p:nvPicPr>
        <p:blipFill>
          <a:blip r:embed="rId4">
            <a:lum bright="-6000"/>
          </a:blip>
          <a:srcRect l="36625" t="63809" r="32495" b="0"/>
          <a:stretch/>
        </p:blipFill>
        <p:spPr>
          <a:xfrm rot="1614600">
            <a:off x="2771640" y="2565000"/>
            <a:ext cx="1225800" cy="1162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079513_337"/>
          <p:cNvPicPr/>
          <p:nvPr/>
        </p:nvPicPr>
        <p:blipFill>
          <a:blip r:embed="rId5">
            <a:lum bright="-6000"/>
          </a:blip>
          <a:srcRect l="36625" t="63809" r="32495" b="0"/>
          <a:stretch/>
        </p:blipFill>
        <p:spPr>
          <a:xfrm rot="1960200">
            <a:off x="2484360" y="1268280"/>
            <a:ext cx="1225800" cy="1162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079513_337"/>
          <p:cNvPicPr/>
          <p:nvPr/>
        </p:nvPicPr>
        <p:blipFill>
          <a:blip r:embed="rId6">
            <a:lum bright="-6000"/>
          </a:blip>
          <a:srcRect l="36625" t="63809" r="32495" b="0"/>
          <a:stretch/>
        </p:blipFill>
        <p:spPr>
          <a:xfrm rot="1960200">
            <a:off x="5651640" y="429264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079513_337"/>
          <p:cNvPicPr/>
          <p:nvPr/>
        </p:nvPicPr>
        <p:blipFill>
          <a:blip r:embed="rId7">
            <a:lum bright="-6000"/>
          </a:blip>
          <a:srcRect l="36625" t="63809" r="32495" b="0"/>
          <a:stretch/>
        </p:blipFill>
        <p:spPr>
          <a:xfrm rot="1960200">
            <a:off x="4284720" y="76500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079513_337"/>
          <p:cNvPicPr/>
          <p:nvPr/>
        </p:nvPicPr>
        <p:blipFill>
          <a:blip r:embed="rId8">
            <a:lum bright="-6000"/>
          </a:blip>
          <a:srcRect l="36625" t="63809" r="32495" b="0"/>
          <a:stretch/>
        </p:blipFill>
        <p:spPr>
          <a:xfrm rot="21231600">
            <a:off x="6156000" y="220464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079513_337"/>
          <p:cNvPicPr/>
          <p:nvPr/>
        </p:nvPicPr>
        <p:blipFill>
          <a:blip r:embed="rId9">
            <a:lum bright="-6000"/>
          </a:blip>
          <a:srcRect l="36625" t="63809" r="32495" b="0"/>
          <a:stretch/>
        </p:blipFill>
        <p:spPr>
          <a:xfrm rot="19569600">
            <a:off x="6516720" y="357300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079513_337"/>
          <p:cNvPicPr/>
          <p:nvPr/>
        </p:nvPicPr>
        <p:blipFill>
          <a:blip r:embed="rId10">
            <a:lum bright="-6000"/>
          </a:blip>
          <a:srcRect l="36625" t="63809" r="32495" b="0"/>
          <a:stretch/>
        </p:blipFill>
        <p:spPr>
          <a:xfrm rot="1960200">
            <a:off x="2195640" y="3933720"/>
            <a:ext cx="1225440" cy="116208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7"/>
          <p:cNvSpPr/>
          <p:nvPr/>
        </p:nvSpPr>
        <p:spPr>
          <a:xfrm>
            <a:off x="468360" y="260280"/>
            <a:ext cx="2879640" cy="865080"/>
          </a:xfrm>
          <a:prstGeom prst="cloudCallout">
            <a:avLst>
              <a:gd name="adj1" fmla="val -34342"/>
              <a:gd name="adj2" fmla="val 41194"/>
            </a:avLst>
          </a:prstGeom>
          <a:gradFill rotWithShape="0">
            <a:gsLst>
              <a:gs pos="0">
                <a:srgbClr val="bbe0e3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8"/>
          <p:cNvSpPr/>
          <p:nvPr/>
        </p:nvSpPr>
        <p:spPr>
          <a:xfrm>
            <a:off x="-252360" y="189000"/>
            <a:ext cx="2232000" cy="792000"/>
          </a:xfrm>
          <a:prstGeom prst="cloudCallout">
            <a:avLst>
              <a:gd name="adj1" fmla="val -17356"/>
              <a:gd name="adj2" fmla="val 14930"/>
            </a:avLst>
          </a:prstGeom>
          <a:gradFill rotWithShape="0">
            <a:gsLst>
              <a:gs pos="0">
                <a:srgbClr val="bbe0e3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079513_337"/>
          <p:cNvPicPr/>
          <p:nvPr/>
        </p:nvPicPr>
        <p:blipFill>
          <a:blip r:embed="rId11">
            <a:lum bright="-6000"/>
          </a:blip>
          <a:srcRect l="36625" t="63809" r="32495" b="0"/>
          <a:stretch/>
        </p:blipFill>
        <p:spPr>
          <a:xfrm rot="18865200">
            <a:off x="5835240" y="1012320"/>
            <a:ext cx="1225800" cy="1162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audioFile r:link="rId12"/>
            <p:extLst>
              <p:ext uri="{DAA4B4D4-6D71-4841-9C94-3DE7FCFB9230}">
                <p14:media r:link="rId13"/>
              </p:ext>
            </p:extLst>
          </p:nvPr>
        </p:nvPicPr>
        <p:blipFill>
          <a:blip r:embed="rId14"/>
          <a:stretch>
            <a:fillRect/>
          </a:stretch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Ёжик1"/>
          <p:cNvPicPr/>
          <p:nvPr/>
        </p:nvPicPr>
        <p:blipFill>
          <a:blip r:embed="rId15">
            <a:lum bright="-6000"/>
          </a:blip>
          <a:stretch/>
        </p:blipFill>
        <p:spPr>
          <a:xfrm rot="429600">
            <a:off x="9396000" y="5767560"/>
            <a:ext cx="1457280" cy="1090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079513_337"/>
          <p:cNvPicPr/>
          <p:nvPr/>
        </p:nvPicPr>
        <p:blipFill>
          <a:blip r:embed="rId16">
            <a:lum bright="-6000"/>
          </a:blip>
          <a:srcRect l="36625" t="63809" r="32495" b="0"/>
          <a:stretch/>
        </p:blipFill>
        <p:spPr>
          <a:xfrm rot="1222800">
            <a:off x="4716360" y="1988640"/>
            <a:ext cx="12258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7037E-006 L 0.07465 0.88125 E">
                                      <p:cBhvr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6 L 0.14549 0.65023 E">
                                      <p:cBhvr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L -0.06702 0.69213 E">
                                      <p:cBhvr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-0.04259 L 0.40139 0.28935 E">
                                      <p:cBhvr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-0.11621 C 0.0717 -0.11621 0.12778 -0.04144 0.12778 0.05046 C 0.12778 0.14236 0.0717 0.21713 0.00278 0.21713 C -0.06615 0.21713 -0.12222 0.14236 -0.12222 0.05046 C -0.12222 -0.04144 -0.06615 -0.11621 0.00278 -0.11621 Z">
                                      <p:cBhvr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07407E-006 L 0.99219 -0.05232 E">
                                      <p:cBhvr>
                                        <p:cTn id="32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30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81481E-006 L 1.12222 -0.03658 E">
                                      <p:cBhvr>
                                        <p:cTn id="39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8000"/>
                            </p:stCondLst>
                            <p:childTnLst>
                              <p:par>
                                <p:cTn id="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4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20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4000"/>
                            </p:stCondLst>
                            <p:childTnLst>
                              <p:par>
                                <p:cTn id="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6000"/>
                            </p:stCondLst>
                            <p:childTnLst>
                              <p:par>
                                <p:cTn id="53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3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9000"/>
                            </p:stCondLst>
                            <p:childTnLst>
                              <p:par>
                                <p:cTn id="58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3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2000"/>
                            </p:stCondLst>
                            <p:childTnLst>
                              <p:par>
                                <p:cTn id="6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-0.54427 0.01019 E">
                                      <p:cBhvr>
                                        <p:cTn id="64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7000"/>
                            </p:stCondLst>
                            <p:childTnLst>
                              <p:par>
                                <p:cTn id="66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1000"/>
                            </p:stCondLst>
                            <p:childTnLst>
                              <p:par>
                                <p:cTn id="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-0.00399 0.47176 E">
                                      <p:cBhvr>
                                        <p:cTn id="7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3000"/>
                            </p:stCondLst>
                            <p:childTnLst>
                              <p:par>
                                <p:cTn id="7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8000"/>
                            </p:stCondLst>
                            <p:childTnLst>
                              <p:par>
                                <p:cTn id="82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0.03148 C -0.07761 -0.11111 -0.07188 -0.33611 0.03489 -0.4699 C 0.14184 -0.60301 0.31041 -0.5949 0.41076 -0.45231 C 0.51076 -0.30926 0.50503 -0.08495 0.39826 0.04861 C 0.29097 0.18218 0.12239 0.17454 0.02222 0.03148 Z">
                                      <p:cBhvr>
                                        <p:cTn id="83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9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7000"/>
                            </p:stCondLst>
                            <p:childTnLst>
                              <p:par>
                                <p:cTn id="8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13T11:54:1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