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7.wmf" ContentType="image/x-wmf"/>
  <Override PartName="/ppt/media/image8.png" ContentType="image/png"/>
  <Override PartName="/ppt/media/image5.gif" ContentType="image/gif"/>
  <Override PartName="/ppt/media/image9.png" ContentType="image/png"/>
  <Override PartName="/ppt/media/image10.png" ContentType="image/png"/>
  <Override PartName="/ppt/media/image11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E24-9EA1-4A90-8B54-F6687503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C6A-B891-4F1D-ACBB-26CB82EC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401-8279-495E-A89D-37607B0E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FD1-3869-4E58-9153-9DB66FFF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ACDC-AFE0-472F-A673-116DEBBB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7E56-4BFB-4C22-BA2E-04A2B63F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9079-C05F-4294-8F57-30B57ECE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0B66-E066-46C6-B875-CE288C95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2166-7CF7-4D99-84C4-47525391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FFBF-1D08-475F-9420-8DC2D0A4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5B92-C473-4201-BCAD-3116C4F2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F42-04EA-4E1A-846B-EF6B8902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D2DA-FB4E-408B-BE1E-DE96C8CE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297C-A019-4722-9EA6-569BE2C6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8DDE-0D9E-4331-81D2-B3F3AF37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96ED-BC5C-4702-B55A-1141A5ED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2D75-ED06-478B-BDEF-32EFDAB2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E30-CDAA-4B7F-889D-B7C12E49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E8F-2AC3-47C7-841B-4737F4FE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83C-EB53-447B-B1B6-857B08F0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158-9644-451A-97A1-85A19F73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F5C-5196-4566-9712-401F6FB8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D1A-E927-41D1-8E98-236D634D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1BF-9283-492A-97CD-A01252E9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3DFA-DE3B-484B-A97D-33F1AAE6945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77CC-D8D1-4287-8F07-3440A935722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4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0237555"/>
          <p:cNvPicPr/>
          <p:nvPr/>
        </p:nvPicPr>
        <p:blipFill>
          <a:blip r:embed="rId1"/>
          <a:stretch/>
        </p:blipFill>
        <p:spPr>
          <a:xfrm>
            <a:off x="468360" y="620640"/>
            <a:ext cx="8280360" cy="5616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684360" y="189000"/>
            <a:ext cx="734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Нарисуем песенк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Оранжевое солнце.mid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2"/>
          <p:cNvGraphicFramePr/>
          <p:nvPr/>
        </p:nvGraphicFramePr>
        <p:xfrm>
          <a:off x="179280" y="260280"/>
          <a:ext cx="871380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1380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Oval 3"/>
          <p:cNvSpPr/>
          <p:nvPr/>
        </p:nvSpPr>
        <p:spPr>
          <a:xfrm>
            <a:off x="214200" y="620640"/>
            <a:ext cx="198144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6227640" y="1052640"/>
            <a:ext cx="2089440" cy="1008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1476360" y="3429000"/>
            <a:ext cx="1871640" cy="79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4284720" y="3860640"/>
            <a:ext cx="2016000" cy="936720"/>
          </a:xfrm>
          <a:prstGeom prst="ellipse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2556000" y="260280"/>
            <a:ext cx="2016000" cy="9367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2050920" y="189000"/>
            <a:ext cx="4967280" cy="2158920"/>
          </a:xfrm>
          <a:prstGeom prst="cloudCallout">
            <a:avLst>
              <a:gd name="adj1" fmla="val -5578"/>
              <a:gd name="adj2" fmla="val 365"/>
            </a:avLst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2340000" y="2276640"/>
            <a:ext cx="216000" cy="194436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843280" y="3789360"/>
            <a:ext cx="144360" cy="86364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708360" y="2565360"/>
            <a:ext cx="287280" cy="1224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3635280" y="4076640"/>
            <a:ext cx="144720" cy="93672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4500720" y="2708280"/>
            <a:ext cx="215640" cy="180036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6732720" y="2997360"/>
            <a:ext cx="144360" cy="151272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5292720" y="3500280"/>
            <a:ext cx="142920" cy="1297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5867280" y="2421000"/>
            <a:ext cx="144720" cy="86364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2843280" y="2421000"/>
            <a:ext cx="288720" cy="1224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4932360" y="4869000"/>
            <a:ext cx="142920" cy="1081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AutoShape 13"/>
          <p:cNvSpPr/>
          <p:nvPr/>
        </p:nvSpPr>
        <p:spPr>
          <a:xfrm>
            <a:off x="5292720" y="2205000"/>
            <a:ext cx="142920" cy="1008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14"/>
          <p:cNvSpPr/>
          <p:nvPr/>
        </p:nvSpPr>
        <p:spPr>
          <a:xfrm>
            <a:off x="6156360" y="3284640"/>
            <a:ext cx="216000" cy="2232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4211640" y="3645000"/>
            <a:ext cx="289080" cy="2305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AutoShape 16"/>
          <p:cNvSpPr/>
          <p:nvPr/>
        </p:nvSpPr>
        <p:spPr>
          <a:xfrm>
            <a:off x="6659640" y="1700280"/>
            <a:ext cx="288720" cy="1081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animClr clrSpc="rgb">
                                      <p:cBhvr>
                                        <p:cTn id="31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set>
                                      <p:cBhvr>
                                        <p:cTn id="32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 rot="19439400">
            <a:off x="1116000" y="3428640"/>
            <a:ext cx="1655640" cy="1225440"/>
          </a:xfrm>
          <a:prstGeom prst="rtTriangl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-36360" y="4280040"/>
            <a:ext cx="9385200" cy="2774880"/>
          </a:xfrm>
          <a:prstGeom prst="pie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AutoShape 4"/>
          <p:cNvSpPr/>
          <p:nvPr/>
        </p:nvSpPr>
        <p:spPr>
          <a:xfrm rot="16200000">
            <a:off x="576360" y="1952640"/>
            <a:ext cx="2736720" cy="12254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5" descr="Солнце"/>
          <p:cNvPicPr/>
          <p:nvPr/>
        </p:nvPicPr>
        <p:blipFill>
          <a:blip r:embed="rId1"/>
          <a:stretch/>
        </p:blipFill>
        <p:spPr>
          <a:xfrm>
            <a:off x="5940360" y="404640"/>
            <a:ext cx="2727360" cy="2087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AG00180_"/>
          <p:cNvPicPr/>
          <p:nvPr/>
        </p:nvPicPr>
        <p:blipFill>
          <a:blip r:embed="rId2"/>
          <a:stretch/>
        </p:blipFill>
        <p:spPr>
          <a:xfrm>
            <a:off x="4572000" y="2708280"/>
            <a:ext cx="1727280" cy="23050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amond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animClr clrSpc="rgb">
                                      <p:cBhvr>
                                        <p:cTn id="81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set>
                                      <p:cBhvr>
                                        <p:cTn id="82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"/>
          <p:cNvPicPr/>
          <p:nvPr/>
        </p:nvPicPr>
        <p:blipFill>
          <a:blip r:embed="rId1"/>
          <a:stretch/>
        </p:blipFill>
        <p:spPr>
          <a:xfrm rot="21406800">
            <a:off x="5292720" y="2565000"/>
            <a:ext cx="2519280" cy="21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i"/>
          <p:cNvPicPr/>
          <p:nvPr/>
        </p:nvPicPr>
        <p:blipFill>
          <a:blip r:embed="rId2"/>
          <a:stretch/>
        </p:blipFill>
        <p:spPr>
          <a:xfrm rot="21301800">
            <a:off x="3276720" y="3428640"/>
            <a:ext cx="1726920" cy="1574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Солнце"/>
          <p:cNvPicPr/>
          <p:nvPr/>
        </p:nvPicPr>
        <p:blipFill>
          <a:blip r:embed="rId3"/>
          <a:stretch/>
        </p:blipFill>
        <p:spPr>
          <a:xfrm>
            <a:off x="468360" y="189000"/>
            <a:ext cx="2511360" cy="1798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i"/>
          <p:cNvPicPr/>
          <p:nvPr/>
        </p:nvPicPr>
        <p:blipFill>
          <a:blip r:embed="rId4"/>
          <a:stretch/>
        </p:blipFill>
        <p:spPr>
          <a:xfrm rot="21233400">
            <a:off x="1042920" y="3860280"/>
            <a:ext cx="1582920" cy="13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Oval 2"/>
          <p:cNvSpPr/>
          <p:nvPr/>
        </p:nvSpPr>
        <p:spPr>
          <a:xfrm rot="502800">
            <a:off x="5363640" y="3500280"/>
            <a:ext cx="3168720" cy="430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4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Oval 3"/>
          <p:cNvSpPr/>
          <p:nvPr/>
        </p:nvSpPr>
        <p:spPr>
          <a:xfrm rot="16574400">
            <a:off x="2938320" y="5062320"/>
            <a:ext cx="2548080" cy="57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Oval 4"/>
          <p:cNvSpPr/>
          <p:nvPr/>
        </p:nvSpPr>
        <p:spPr>
          <a:xfrm>
            <a:off x="3780000" y="2637000"/>
            <a:ext cx="1441440" cy="12236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Oval 5"/>
          <p:cNvSpPr/>
          <p:nvPr/>
        </p:nvSpPr>
        <p:spPr>
          <a:xfrm rot="354000">
            <a:off x="684360" y="2852280"/>
            <a:ext cx="3024000" cy="4320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Oval 6"/>
          <p:cNvSpPr/>
          <p:nvPr/>
        </p:nvSpPr>
        <p:spPr>
          <a:xfrm rot="2395200">
            <a:off x="1476360" y="1341360"/>
            <a:ext cx="3024360" cy="542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3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Oval 7"/>
          <p:cNvSpPr/>
          <p:nvPr/>
        </p:nvSpPr>
        <p:spPr>
          <a:xfrm rot="6358800">
            <a:off x="3674880" y="996840"/>
            <a:ext cx="2636640" cy="649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06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Oval 8"/>
          <p:cNvSpPr/>
          <p:nvPr/>
        </p:nvSpPr>
        <p:spPr>
          <a:xfrm rot="20103600">
            <a:off x="5148360" y="1915920"/>
            <a:ext cx="3024000" cy="5666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Oval 9"/>
          <p:cNvSpPr/>
          <p:nvPr/>
        </p:nvSpPr>
        <p:spPr>
          <a:xfrm rot="2710800">
            <a:off x="4456800" y="4694760"/>
            <a:ext cx="3024360" cy="6350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Oval 10"/>
          <p:cNvSpPr/>
          <p:nvPr/>
        </p:nvSpPr>
        <p:spPr>
          <a:xfrm rot="19658400">
            <a:off x="1186920" y="4220640"/>
            <a:ext cx="3024360" cy="6447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7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Oval 11"/>
          <p:cNvSpPr/>
          <p:nvPr/>
        </p:nvSpPr>
        <p:spPr>
          <a:xfrm rot="4524000">
            <a:off x="2735640" y="972360"/>
            <a:ext cx="2519280" cy="574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Oval 12"/>
          <p:cNvSpPr/>
          <p:nvPr/>
        </p:nvSpPr>
        <p:spPr>
          <a:xfrm rot="892200">
            <a:off x="738000" y="2138400"/>
            <a:ext cx="324000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45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Oval 13"/>
          <p:cNvSpPr/>
          <p:nvPr/>
        </p:nvSpPr>
        <p:spPr>
          <a:xfrm rot="21069000">
            <a:off x="684360" y="3500280"/>
            <a:ext cx="3095640" cy="506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 14"/>
          <p:cNvSpPr/>
          <p:nvPr/>
        </p:nvSpPr>
        <p:spPr>
          <a:xfrm rot="18663000">
            <a:off x="4538880" y="1185120"/>
            <a:ext cx="294624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Oval 15"/>
          <p:cNvSpPr/>
          <p:nvPr/>
        </p:nvSpPr>
        <p:spPr>
          <a:xfrm rot="21374400">
            <a:off x="5364000" y="2781360"/>
            <a:ext cx="324036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6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Oval 16"/>
          <p:cNvSpPr/>
          <p:nvPr/>
        </p:nvSpPr>
        <p:spPr>
          <a:xfrm flipV="1" rot="1524000">
            <a:off x="5076360" y="4221000"/>
            <a:ext cx="338292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6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Oval 17"/>
          <p:cNvSpPr/>
          <p:nvPr/>
        </p:nvSpPr>
        <p:spPr>
          <a:xfrm flipH="1" rot="4128000">
            <a:off x="3747960" y="5159520"/>
            <a:ext cx="2808360" cy="587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95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Oval 18"/>
          <p:cNvSpPr/>
          <p:nvPr/>
        </p:nvSpPr>
        <p:spPr>
          <a:xfrm rot="18853200">
            <a:off x="1680840" y="4879800"/>
            <a:ext cx="2808360" cy="627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53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val 2"/>
          <p:cNvSpPr/>
          <p:nvPr/>
        </p:nvSpPr>
        <p:spPr>
          <a:xfrm rot="502800">
            <a:off x="5363640" y="3500280"/>
            <a:ext cx="3168720" cy="430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4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Oval 3"/>
          <p:cNvSpPr/>
          <p:nvPr/>
        </p:nvSpPr>
        <p:spPr>
          <a:xfrm rot="16574400">
            <a:off x="2938320" y="5062320"/>
            <a:ext cx="2548080" cy="57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3851280" y="2637000"/>
            <a:ext cx="1441440" cy="12236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Oval 5"/>
          <p:cNvSpPr/>
          <p:nvPr/>
        </p:nvSpPr>
        <p:spPr>
          <a:xfrm rot="354000">
            <a:off x="826920" y="2852280"/>
            <a:ext cx="3024360" cy="4320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Oval 6"/>
          <p:cNvSpPr/>
          <p:nvPr/>
        </p:nvSpPr>
        <p:spPr>
          <a:xfrm rot="2395200">
            <a:off x="1547640" y="1413000"/>
            <a:ext cx="3024360" cy="542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3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Oval 7"/>
          <p:cNvSpPr/>
          <p:nvPr/>
        </p:nvSpPr>
        <p:spPr>
          <a:xfrm rot="6392400">
            <a:off x="3817080" y="1087920"/>
            <a:ext cx="2448000" cy="649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Oval 8"/>
          <p:cNvSpPr/>
          <p:nvPr/>
        </p:nvSpPr>
        <p:spPr>
          <a:xfrm rot="20103600">
            <a:off x="5148360" y="1915920"/>
            <a:ext cx="3024000" cy="5666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Oval 9"/>
          <p:cNvSpPr/>
          <p:nvPr/>
        </p:nvSpPr>
        <p:spPr>
          <a:xfrm rot="2710800">
            <a:off x="4456800" y="4694760"/>
            <a:ext cx="3024360" cy="6350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Oval 10"/>
          <p:cNvSpPr/>
          <p:nvPr/>
        </p:nvSpPr>
        <p:spPr>
          <a:xfrm rot="19658400">
            <a:off x="1186920" y="4220640"/>
            <a:ext cx="3024360" cy="6447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7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Oval 11"/>
          <p:cNvSpPr/>
          <p:nvPr/>
        </p:nvSpPr>
        <p:spPr>
          <a:xfrm rot="4524000">
            <a:off x="2807280" y="972360"/>
            <a:ext cx="2519280" cy="574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Oval 12"/>
          <p:cNvSpPr/>
          <p:nvPr/>
        </p:nvSpPr>
        <p:spPr>
          <a:xfrm rot="892200">
            <a:off x="738000" y="2138400"/>
            <a:ext cx="324000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45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Oval 13"/>
          <p:cNvSpPr/>
          <p:nvPr/>
        </p:nvSpPr>
        <p:spPr>
          <a:xfrm rot="21069000">
            <a:off x="684360" y="3500280"/>
            <a:ext cx="3095640" cy="506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Oval 14"/>
          <p:cNvSpPr/>
          <p:nvPr/>
        </p:nvSpPr>
        <p:spPr>
          <a:xfrm rot="18663000">
            <a:off x="4538880" y="1185120"/>
            <a:ext cx="294624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Oval 15"/>
          <p:cNvSpPr/>
          <p:nvPr/>
        </p:nvSpPr>
        <p:spPr>
          <a:xfrm rot="21374400">
            <a:off x="5364000" y="2781360"/>
            <a:ext cx="324036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6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Oval 16"/>
          <p:cNvSpPr/>
          <p:nvPr/>
        </p:nvSpPr>
        <p:spPr>
          <a:xfrm flipV="1" rot="1524000">
            <a:off x="5076360" y="4221000"/>
            <a:ext cx="338292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6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 17"/>
          <p:cNvSpPr/>
          <p:nvPr/>
        </p:nvSpPr>
        <p:spPr>
          <a:xfrm flipH="1" rot="4128000">
            <a:off x="3677400" y="4970520"/>
            <a:ext cx="2808360" cy="5871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95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 18"/>
          <p:cNvSpPr/>
          <p:nvPr/>
        </p:nvSpPr>
        <p:spPr>
          <a:xfrm rot="18853200">
            <a:off x="1680840" y="4879800"/>
            <a:ext cx="2808360" cy="627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0">
    <p:diamond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j0232065"/>
          <p:cNvPicPr/>
          <p:nvPr/>
        </p:nvPicPr>
        <p:blipFill>
          <a:blip r:embed="rId1"/>
          <a:stretch/>
        </p:blipFill>
        <p:spPr>
          <a:xfrm>
            <a:off x="2771640" y="1841400"/>
            <a:ext cx="3313080" cy="281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Солнце"/>
          <p:cNvPicPr/>
          <p:nvPr/>
        </p:nvPicPr>
        <p:blipFill>
          <a:blip r:embed="rId1"/>
          <a:stretch/>
        </p:blipFill>
        <p:spPr>
          <a:xfrm rot="20883000">
            <a:off x="2556000" y="1413000"/>
            <a:ext cx="3448080" cy="2468520"/>
          </a:xfrm>
          <a:prstGeom prst="rect">
            <a:avLst/>
          </a:prstGeom>
          <a:ln w="0">
            <a:noFill/>
          </a:ln>
        </p:spPr>
      </p:pic>
      <p:sp>
        <p:nvSpPr>
          <p:cNvPr id="237" name="Cloud"/>
          <p:cNvSpPr/>
          <p:nvPr/>
        </p:nvSpPr>
        <p:spPr>
          <a:xfrm>
            <a:off x="3492360" y="404640"/>
            <a:ext cx="943200" cy="68580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Cloud"/>
          <p:cNvSpPr/>
          <p:nvPr/>
        </p:nvSpPr>
        <p:spPr>
          <a:xfrm>
            <a:off x="4716360" y="0"/>
            <a:ext cx="2527560" cy="143352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Cloud"/>
          <p:cNvSpPr/>
          <p:nvPr/>
        </p:nvSpPr>
        <p:spPr>
          <a:xfrm>
            <a:off x="250920" y="189000"/>
            <a:ext cx="2022480" cy="11192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Cloud"/>
          <p:cNvSpPr/>
          <p:nvPr/>
        </p:nvSpPr>
        <p:spPr>
          <a:xfrm>
            <a:off x="7524720" y="1125360"/>
            <a:ext cx="1158840" cy="8305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Cloud"/>
          <p:cNvSpPr/>
          <p:nvPr/>
        </p:nvSpPr>
        <p:spPr>
          <a:xfrm>
            <a:off x="2843280" y="2492280"/>
            <a:ext cx="3384360" cy="3311640"/>
          </a:xfrm>
          <a:prstGeom prst="pie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0">
    <p:diamond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6.75301E-007 L -0.4651 0.43247 E">
                                      <p:cBhvr>
                                        <p:cTn id="328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08048E-006 L 0.35417 0.53746 E">
                                      <p:cBhvr>
                                        <p:cTn id="331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08048E-006 L 0.0901 0.54787 E">
                                      <p:cBhvr>
                                        <p:cTn id="33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21924E-006 L -0.18108 0.48312 E">
                                      <p:cBhvr>
                                        <p:cTn id="337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6:05:31Z</dcterms:created>
  <dc:creator>K33</dc:creator>
  <dc:description/>
  <dc:language>en-US</dc:language>
  <cp:lastModifiedBy>Ольга Домм</cp:lastModifiedBy>
  <dcterms:modified xsi:type="dcterms:W3CDTF">2009-03-24T12:43:33Z</dcterms:modified>
  <cp:revision>21</cp:revision>
  <dc:subject/>
  <dc:title>Слайд 1</dc:title>
</cp:coreProperties>
</file>