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170-C605-46C8-835C-6BBF5208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86C-A469-4444-979F-EB85B0A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517-8FD5-482C-ACE1-1D464C2A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422-FD53-42C2-A550-8FC04924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3A4-68E6-4DFF-A132-5EB13C4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6B7-80B7-40CB-8576-DE17AB8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45D-3BCA-4424-BF61-8318470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040-3C07-4351-9751-D39799B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22A-5918-4A81-813B-E397B285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49D-7A16-4D70-8696-0378EE2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7A0-18AE-463F-99EF-2EDBB70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CA3-AA92-46C4-9FED-A489847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24B-CCA7-4BE6-BB27-B2D0B7146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26920" y="1125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Физминутка для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979640" y="2514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Облако 37"/>
          <p:cNvGrpSpPr/>
          <p:nvPr/>
        </p:nvGrpSpPr>
        <p:grpSpPr>
          <a:xfrm>
            <a:off x="6132600" y="646200"/>
            <a:ext cx="2236680" cy="1401840"/>
            <a:chOff x="6132600" y="646200"/>
            <a:chExt cx="2236680" cy="1401840"/>
          </a:xfrm>
        </p:grpSpPr>
        <p:pic>
          <p:nvPicPr>
            <p:cNvPr id="52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32600" y="646200"/>
              <a:ext cx="22366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Облако 38"/>
          <p:cNvGrpSpPr/>
          <p:nvPr/>
        </p:nvGrpSpPr>
        <p:grpSpPr>
          <a:xfrm>
            <a:off x="646200" y="566640"/>
            <a:ext cx="2236680" cy="1408320"/>
            <a:chOff x="646200" y="566640"/>
            <a:chExt cx="2236680" cy="1408320"/>
          </a:xfrm>
        </p:grpSpPr>
        <p:pic>
          <p:nvPicPr>
            <p:cNvPr id="55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46200" y="566640"/>
              <a:ext cx="22366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Облако 39"/>
          <p:cNvGrpSpPr/>
          <p:nvPr/>
        </p:nvGrpSpPr>
        <p:grpSpPr>
          <a:xfrm>
            <a:off x="3919680" y="1633680"/>
            <a:ext cx="2236680" cy="1407960"/>
            <a:chOff x="3919680" y="1633680"/>
            <a:chExt cx="2236680" cy="1407960"/>
          </a:xfrm>
        </p:grpSpPr>
        <p:pic>
          <p:nvPicPr>
            <p:cNvPr id="58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9680" y="1633680"/>
              <a:ext cx="22366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3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User</cp:lastModifiedBy>
  <dcterms:modified xsi:type="dcterms:W3CDTF">2019-01-10T15:33:51Z</dcterms:modified>
  <cp:revision>6</cp:revision>
  <dc:subject/>
  <dc:title>Слайд 1</dc:title>
</cp:coreProperties>
</file>