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353-0AEF-4648-90A9-91843581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99F-24AA-4029-BE65-F3D3D05E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D2B-B5DC-4E8B-8735-CFDEBD92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0DB-6F3A-4298-8051-A125188E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DE4-4CC0-4CA7-8610-3D057FE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9E5-B05A-4726-BADD-5593C5F3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757-3281-40F4-AA2B-DD5F1C3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48C-C1CD-4FEB-8320-A7C57DC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247-0692-4D2B-A006-E168298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822-8967-4568-AAB7-ACE6179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B06-E6EC-4FD1-B1F8-72134C0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F25-1684-4325-836C-F1A0466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143-A613-4C0E-AE9C-031DE7FFD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26920" y="1125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Физминутка для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979640" y="2514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Облако 37"/>
          <p:cNvGrpSpPr/>
          <p:nvPr/>
        </p:nvGrpSpPr>
        <p:grpSpPr>
          <a:xfrm>
            <a:off x="6132600" y="646200"/>
            <a:ext cx="2236680" cy="1401840"/>
            <a:chOff x="6132600" y="646200"/>
            <a:chExt cx="2236680" cy="1401840"/>
          </a:xfrm>
        </p:grpSpPr>
        <p:pic>
          <p:nvPicPr>
            <p:cNvPr id="52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32600" y="646200"/>
              <a:ext cx="22366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Облако 38"/>
          <p:cNvGrpSpPr/>
          <p:nvPr/>
        </p:nvGrpSpPr>
        <p:grpSpPr>
          <a:xfrm>
            <a:off x="646200" y="566640"/>
            <a:ext cx="2236680" cy="1408320"/>
            <a:chOff x="646200" y="566640"/>
            <a:chExt cx="2236680" cy="1408320"/>
          </a:xfrm>
        </p:grpSpPr>
        <p:pic>
          <p:nvPicPr>
            <p:cNvPr id="55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46200" y="566640"/>
              <a:ext cx="22366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Облако 39"/>
          <p:cNvGrpSpPr/>
          <p:nvPr/>
        </p:nvGrpSpPr>
        <p:grpSpPr>
          <a:xfrm>
            <a:off x="3919680" y="1633680"/>
            <a:ext cx="2236680" cy="1407960"/>
            <a:chOff x="3919680" y="1633680"/>
            <a:chExt cx="2236680" cy="1407960"/>
          </a:xfrm>
        </p:grpSpPr>
        <p:pic>
          <p:nvPicPr>
            <p:cNvPr id="58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9680" y="1633680"/>
              <a:ext cx="22366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3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User</cp:lastModifiedBy>
  <dcterms:modified xsi:type="dcterms:W3CDTF">2019-01-10T15:33:51Z</dcterms:modified>
  <cp:revision>6</cp:revision>
  <dc:subject/>
  <dc:title>Слайд 1</dc:title>
</cp:coreProperties>
</file>