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208-94DC-41EC-9097-EAA79AC3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AA3-E7BD-4CBC-8601-6DF779C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225-D395-4915-9FEB-728EB64D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5F1-514B-430F-9A87-A68D82DC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3BE-2E82-4540-8F80-BC96AE73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DE3-83B7-4BB6-8819-5938EDEF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9B6-9725-4810-AFE9-3D7B04D4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642-7F29-457F-8C6F-C4FFA7AE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933-A8E7-4A46-A141-FB36C713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714-3BD7-441C-B613-67DAAD4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65B-3FC1-462E-87F9-31905EF5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949-5C6E-4F07-81B3-815468F5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4B22-4CE0-4E93-B104-181B5D776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file:///tmp/home/.config/libreoffice/4/user/gallery/&#1040;&#1074;&#1090;&#1086;&#1084;&#1086;&#1073;&#1080;&#1083;&#1080;.wav" TargetMode="External"/><Relationship Id="rId7" Type="http://schemas.microsoft.com/office/2007/relationships/media" Target="file:///tmp/home/.config/libreoffice/4/user/gallery/&#1040;&#1074;&#1090;&#1086;&#1084;&#1086;&#1073;&#1080;&#1083;&#1080;.wav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otor_max_250_0025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7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9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0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1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23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500"/>
                            </p:stCondLst>
                            <p:childTnLst>
                              <p:par>
                                <p:cTn id="5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65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71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8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