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094A-F5B8-47CD-9A28-ED48ED539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BD9C-134E-4389-837D-BDF9C004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5CB1-9B51-40C8-9DA0-43B8B6F05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2DE8-545B-4522-829A-2C60FD39D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193A-BAB7-4289-B631-E892BB86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3702-4310-4F54-B18D-42CD9483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38BC-0992-419C-8025-F46B885A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EA1A-C051-4D1D-A29C-E75CB038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2724-91B2-41BF-9272-808AD44C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5E75-0C4E-4740-9D82-9AE7F0AB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2B50-6EA5-4677-9E27-4333DA56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5025-8295-49AC-8FB3-76BB56B2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5B29-487B-4E9D-8FFE-49A41D9295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audio" Target="file:///tmp/home/.config/libreoffice/4/user/gallery/&#1040;&#1074;&#1090;&#1086;&#1084;&#1086;&#1073;&#1080;&#1083;&#1080;.wav" TargetMode="External"/><Relationship Id="rId7" Type="http://schemas.microsoft.com/office/2007/relationships/media" Target="file:///tmp/home/.config/libreoffice/4/user/gallery/&#1040;&#1074;&#1090;&#1086;&#1084;&#1086;&#1073;&#1080;&#1083;&#1080;.wav" TargetMode="External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7803_1"/>
          <p:cNvPicPr/>
          <p:nvPr/>
        </p:nvPicPr>
        <p:blipFill>
          <a:blip r:embed="rId1"/>
          <a:stretch/>
        </p:blipFill>
        <p:spPr>
          <a:xfrm>
            <a:off x="7380360" y="189000"/>
            <a:ext cx="2376360" cy="1589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47631big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-973080" y="4076640"/>
            <a:ext cx="2520720" cy="1690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motor_max_250_0025"/>
          <p:cNvPicPr/>
          <p:nvPr/>
        </p:nvPicPr>
        <p:blipFill>
          <a:blip r:embed="rId3">
            <a:lum bright="-12000"/>
          </a:blip>
          <a:srcRect l="0" t="29219" r="0" b="27344"/>
          <a:stretch/>
        </p:blipFill>
        <p:spPr>
          <a:xfrm rot="375600">
            <a:off x="5148000" y="4508640"/>
            <a:ext cx="3809880" cy="1655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3" descr="ZP3199"/>
          <p:cNvPicPr/>
          <p:nvPr/>
        </p:nvPicPr>
        <p:blipFill>
          <a:blip r:embed="rId4"/>
          <a:stretch/>
        </p:blipFill>
        <p:spPr>
          <a:xfrm>
            <a:off x="324000" y="260280"/>
            <a:ext cx="2665440" cy="199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5" descr="ZP3299"/>
          <p:cNvPicPr/>
          <p:nvPr/>
        </p:nvPicPr>
        <p:blipFill>
          <a:blip r:embed="rId5"/>
          <a:stretch/>
        </p:blipFill>
        <p:spPr>
          <a:xfrm>
            <a:off x="-684360" y="1700280"/>
            <a:ext cx="2922840" cy="24271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7"/>
          <p:cNvSpPr/>
          <p:nvPr/>
        </p:nvSpPr>
        <p:spPr>
          <a:xfrm>
            <a:off x="3780000" y="692280"/>
            <a:ext cx="1152360" cy="31683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8"/>
          <p:cNvSpPr/>
          <p:nvPr/>
        </p:nvSpPr>
        <p:spPr>
          <a:xfrm>
            <a:off x="4284720" y="3860640"/>
            <a:ext cx="142920" cy="5050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19"/>
          <p:cNvSpPr/>
          <p:nvPr/>
        </p:nvSpPr>
        <p:spPr>
          <a:xfrm>
            <a:off x="3851280" y="765000"/>
            <a:ext cx="1008000" cy="10083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20"/>
          <p:cNvSpPr/>
          <p:nvPr/>
        </p:nvSpPr>
        <p:spPr>
          <a:xfrm>
            <a:off x="3851280" y="1773360"/>
            <a:ext cx="1008000" cy="1008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21"/>
          <p:cNvSpPr/>
          <p:nvPr/>
        </p:nvSpPr>
        <p:spPr>
          <a:xfrm>
            <a:off x="3851280" y="2781360"/>
            <a:ext cx="1008000" cy="100800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" action="ppaction://media"/>
          </p:cNvPr>
          <p:cNvPicPr/>
          <p:nvPr>
            <a:audi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7407E-006 L 1.09462 0.66157 E">
                                      <p:cBhvr>
                                        <p:cTn id="11" dur="5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625 0.06852 L -1.00364 0.0581 E">
                                      <p:cBhvr>
                                        <p:cTn id="17" dur="3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8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667 -0.02129 L -1.08264 0.26227 E">
                                      <p:cBhvr>
                                        <p:cTn id="23" dur="5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7000"/>
                            </p:stCondLst>
                            <p:childTnLst>
                              <p:par>
                                <p:cTn id="38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75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500"/>
                            </p:stCondLst>
                            <p:childTnLst>
                              <p:par>
                                <p:cTn id="51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1000"/>
                            </p:stCondLst>
                            <p:childTnLst>
                              <p:par>
                                <p:cTn id="57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4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493 0.09629 L 1.30503 0.24329 E">
                                      <p:cBhvr>
                                        <p:cTn id="65" dur="5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9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431 -0.00069 L 1.48837 0.02107 E">
                                      <p:cBhvr>
                                        <p:cTn id="71" dur="5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1-13T11:58:4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