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1CD-2F60-4BDF-8882-80F57279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CAB-7ABA-430D-AA9A-BCA106B7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0E6-92A8-4C9E-8D3A-1FC89CC0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21C-C1F4-440D-A8E0-7940CEFD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A63-22BA-4F09-9875-ED354CD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4E1-B6E5-4D70-B13D-669425EB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157-8D8D-4854-AEBE-DC093AA9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152-9A1B-4032-A374-51C52C7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092-FE45-4EF2-9C38-B0F3A06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57E-E662-4A10-8D88-A2E62B7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E09-9F7F-45C5-B894-0BF9450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BBE-A4C8-42A0-9798-A222A74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985E-E9C7-4113-96BB-348B1EFA5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987640" y="2637000"/>
            <a:ext cx="316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4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0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2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3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6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7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8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9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0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1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2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3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4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5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6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7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8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9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0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1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2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3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4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5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6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7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8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0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андети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7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User</cp:lastModifiedBy>
  <dcterms:modified xsi:type="dcterms:W3CDTF">2019-01-10T16:07:29Z</dcterms:modified>
  <cp:revision>23</cp:revision>
  <dc:subject/>
  <dc:title>Слайд 1</dc:title>
</cp:coreProperties>
</file>