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type.wav" ContentType="audio/x-wav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61B-F2B8-4D7C-A062-A4839D50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8544-94F5-44F7-80A2-8713D8B1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5CE-6F69-4D95-967F-55C3B44D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EE0-C91E-4C33-B42E-58F02002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759-4A6F-4573-B757-112D07C6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44E5-F8FA-491E-B17C-CC006B82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C99-65DD-46CD-A508-83D82E19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0AA-55E8-497A-8C64-50844064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981-05F8-4212-A46C-6A37771F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DC39-DAA1-4FBA-813C-51A38C91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27C-0DEC-475A-9D14-45F58B9A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DC0-DA43-415E-8358-8C7F5CB2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7C1E-875B-44C7-8D39-DEC7E2757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484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zink.ru-fizkultura_witch_doctor.mp3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971640" y="1197000"/>
            <a:ext cx="7561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вездочё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987640" y="2637000"/>
            <a:ext cx="316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8"/>
          <p:cNvSpPr/>
          <p:nvPr/>
        </p:nvSpPr>
        <p:spPr>
          <a:xfrm>
            <a:off x="824400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Line 9"/>
          <p:cNvSpPr/>
          <p:nvPr/>
        </p:nvSpPr>
        <p:spPr>
          <a:xfrm>
            <a:off x="1258920" y="595008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125892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1332000" y="1125360"/>
            <a:ext cx="3311280" cy="2016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" name="Line 12"/>
          <p:cNvSpPr/>
          <p:nvPr/>
        </p:nvSpPr>
        <p:spPr>
          <a:xfrm flipV="1">
            <a:off x="4643280" y="1197000"/>
            <a:ext cx="3529080" cy="19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" name="Line 7"/>
          <p:cNvSpPr/>
          <p:nvPr/>
        </p:nvSpPr>
        <p:spPr>
          <a:xfrm>
            <a:off x="1258920" y="112536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547640" y="4076640"/>
            <a:ext cx="64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"/>
              </a:rPr>
              <a:t>Вам пришло письмо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2" name="AutoShape 16"/>
          <p:cNvSpPr/>
          <p:nvPr/>
        </p:nvSpPr>
        <p:spPr>
          <a:xfrm>
            <a:off x="3780000" y="2421000"/>
            <a:ext cx="2016000" cy="1439640"/>
          </a:xfrm>
          <a:custGeom>
            <a:avLst/>
            <a:gdLst>
              <a:gd name="textAreaLeft" fmla="*/ 460080 w 2016000"/>
              <a:gd name="textAreaRight" fmla="*/ 1555920 w 2016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53" name="Group 17"/>
          <p:cNvGrpSpPr/>
          <p:nvPr/>
        </p:nvGrpSpPr>
        <p:grpSpPr>
          <a:xfrm>
            <a:off x="4103640" y="2498400"/>
            <a:ext cx="1369800" cy="1356120"/>
            <a:chOff x="4103640" y="2498400"/>
            <a:chExt cx="1369800" cy="1356120"/>
          </a:xfrm>
        </p:grpSpPr>
        <p:sp>
          <p:nvSpPr>
            <p:cNvPr id="54" name="AutoShape 18"/>
            <p:cNvSpPr/>
            <p:nvPr/>
          </p:nvSpPr>
          <p:spPr>
            <a:xfrm>
              <a:off x="4284720" y="270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55" name="AutoShape 19"/>
            <p:cNvSpPr/>
            <p:nvPr/>
          </p:nvSpPr>
          <p:spPr>
            <a:xfrm rot="2241600">
              <a:off x="4284360" y="2707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68360" y="260280"/>
            <a:ext cx="8281800" cy="619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826920" y="33336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ыполни гимнастику для глаз по схеме: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332000" y="1484280"/>
            <a:ext cx="6912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1547280" y="1484280"/>
            <a:ext cx="6696360" cy="1800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0" name="Line 9"/>
          <p:cNvSpPr/>
          <p:nvPr/>
        </p:nvSpPr>
        <p:spPr>
          <a:xfrm>
            <a:off x="1547640" y="3284640"/>
            <a:ext cx="6696360" cy="7920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1187280" y="4076640"/>
            <a:ext cx="7058160" cy="12956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1258920" y="1268280"/>
            <a:ext cx="43344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7885080" y="1557360"/>
            <a:ext cx="433440" cy="14436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4" name="Line 21"/>
          <p:cNvSpPr/>
          <p:nvPr/>
        </p:nvSpPr>
        <p:spPr>
          <a:xfrm>
            <a:off x="1476360" y="3500280"/>
            <a:ext cx="431640" cy="7164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5" name="Line 22"/>
          <p:cNvSpPr/>
          <p:nvPr/>
        </p:nvSpPr>
        <p:spPr>
          <a:xfrm flipH="1">
            <a:off x="7811640" y="4365720"/>
            <a:ext cx="505080" cy="1429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7" nodeType="afterEffect" fill="hold" presetClass="exit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50867E-006 L 0.7559 0.00024 E">
                                      <p:cBhvr>
                                        <p:cTn id="7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7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56647E-006 L -0.64584 0.24115 E">
                                      <p:cBhvr>
                                        <p:cTn id="7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01596 L 0.65347 0.11029 E">
                                      <p:cBhvr>
                                        <p:cTn id="8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8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77457E-006 L -0.75208 0.17827 E">
                                      <p:cBhvr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2"/>
          <p:cNvSpPr/>
          <p:nvPr/>
        </p:nvSpPr>
        <p:spPr>
          <a:xfrm>
            <a:off x="2050920" y="692280"/>
            <a:ext cx="4824720" cy="475272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7" name="Oval 3"/>
          <p:cNvSpPr/>
          <p:nvPr/>
        </p:nvSpPr>
        <p:spPr>
          <a:xfrm>
            <a:off x="7020000" y="2205000"/>
            <a:ext cx="431640" cy="432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79 C -0.1625 -0.25179 -0.04722 -0.09896 -0.04722 0.08902 C -0.04722 0.277 -0.1625 0.43006 -0.30347 0.43006 C -0.44462 0.43006 -0.55903 0.277 -0.55903 0.08902 C -0.55903 -0.09896 -0.44462 -0.25179 -0.30347 -0.25179 Z">
                                      <p:cBhvr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8 -0.25179 C -0.16268 -0.25179 -0.04757 -0.09896 -0.04757 0.08902 C -0.04757 0.277 -0.16268 0.43006 -0.30348 0.43006 C -0.44479 0.43006 -0.55938 0.277 -0.55938 0.08902 C -0.55938 -0.09896 -0.44479 -0.25179 -0.30348 -0.25179 Z">
                                      <p:cBhvr>
                                        <p:cTn id="10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6"/>
          <p:cNvSpPr/>
          <p:nvPr/>
        </p:nvSpPr>
        <p:spPr>
          <a:xfrm rot="16200000">
            <a:off x="468360" y="342864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98844E-006 C 0.00052 -0.09989 0.09357 -0.18197 0.20677 -0.18197 C 0.3401 -0.18197 0.38854 -0.09087 0.4085 -0.0363 L 0.42916 0.0363 C 0.45034 0.09086 0.50156 0.1815 0.65277 0.1815 C 0.74895 0.1815 0.85816 0.09988 0.85833 3.98844E-006 C 0.85833 -0.09989 0.74895 -0.18197 0.65277 -0.18197 C 0.50156 -0.18197 0.45034 -0.09087 0.42916 -0.0363 L 0.4085 0.0363 C 0.38854 0.08994 0.34027 0.1815 0.20764 0.1815 C 0.09357 0.1815 3.61111E-006 0.09988 3.61111E-006 3.98844E-006 Z">
                                      <p:cBhvr>
                                        <p:cTn id="108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8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70" name="AutoShape 28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1" name="AutoShape 32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2" name="Group 42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73" name="AutoShape 43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4" name="AutoShape 44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5" name="Group 48"/>
          <p:cNvGrpSpPr/>
          <p:nvPr/>
        </p:nvGrpSpPr>
        <p:grpSpPr>
          <a:xfrm>
            <a:off x="4678200" y="2858760"/>
            <a:ext cx="1369800" cy="1356120"/>
            <a:chOff x="4678200" y="2858760"/>
            <a:chExt cx="1369800" cy="1356120"/>
          </a:xfrm>
        </p:grpSpPr>
        <p:sp>
          <p:nvSpPr>
            <p:cNvPr id="76" name="AutoShape 49"/>
            <p:cNvSpPr/>
            <p:nvPr/>
          </p:nvSpPr>
          <p:spPr>
            <a:xfrm>
              <a:off x="4859280" y="306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7" name="AutoShape 50"/>
            <p:cNvSpPr/>
            <p:nvPr/>
          </p:nvSpPr>
          <p:spPr>
            <a:xfrm rot="2241600">
              <a:off x="4858920" y="30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8" name="Group 51"/>
          <p:cNvGrpSpPr/>
          <p:nvPr/>
        </p:nvGrpSpPr>
        <p:grpSpPr>
          <a:xfrm>
            <a:off x="1869840" y="2282400"/>
            <a:ext cx="1369800" cy="1356120"/>
            <a:chOff x="1869840" y="2282400"/>
            <a:chExt cx="1369800" cy="1356120"/>
          </a:xfrm>
        </p:grpSpPr>
        <p:sp>
          <p:nvSpPr>
            <p:cNvPr id="79" name="AutoShape 52"/>
            <p:cNvSpPr/>
            <p:nvPr/>
          </p:nvSpPr>
          <p:spPr>
            <a:xfrm>
              <a:off x="2050920" y="2492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0" name="AutoShape 53"/>
            <p:cNvSpPr/>
            <p:nvPr/>
          </p:nvSpPr>
          <p:spPr>
            <a:xfrm rot="2241600">
              <a:off x="2050560" y="2491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1" name="Group 57"/>
          <p:cNvGrpSpPr/>
          <p:nvPr/>
        </p:nvGrpSpPr>
        <p:grpSpPr>
          <a:xfrm>
            <a:off x="718920" y="5235120"/>
            <a:ext cx="1369800" cy="1356120"/>
            <a:chOff x="718920" y="5235120"/>
            <a:chExt cx="1369800" cy="1356120"/>
          </a:xfrm>
        </p:grpSpPr>
        <p:sp>
          <p:nvSpPr>
            <p:cNvPr id="82" name="AutoShape 58"/>
            <p:cNvSpPr/>
            <p:nvPr/>
          </p:nvSpPr>
          <p:spPr>
            <a:xfrm>
              <a:off x="900000" y="544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3" name="AutoShape 59"/>
            <p:cNvSpPr/>
            <p:nvPr/>
          </p:nvSpPr>
          <p:spPr>
            <a:xfrm rot="2241600">
              <a:off x="899640" y="544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4" name="Group 60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85" name="AutoShape 61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6" name="AutoShape 62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7" name="Group 63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88" name="AutoShape 64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9" name="AutoShape 65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90" name="Group 66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91" name="AutoShape 67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2" name="AutoShape 68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93" name="Group 72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94" name="AutoShape 73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5" name="AutoShape 74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96" name="Group 75"/>
          <p:cNvGrpSpPr/>
          <p:nvPr/>
        </p:nvGrpSpPr>
        <p:grpSpPr>
          <a:xfrm>
            <a:off x="3743280" y="2211120"/>
            <a:ext cx="1369800" cy="1356120"/>
            <a:chOff x="3743280" y="2211120"/>
            <a:chExt cx="1369800" cy="1356120"/>
          </a:xfrm>
        </p:grpSpPr>
        <p:sp>
          <p:nvSpPr>
            <p:cNvPr id="97" name="AutoShape 76"/>
            <p:cNvSpPr/>
            <p:nvPr/>
          </p:nvSpPr>
          <p:spPr>
            <a:xfrm>
              <a:off x="3924360" y="242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8" name="AutoShape 77"/>
            <p:cNvSpPr/>
            <p:nvPr/>
          </p:nvSpPr>
          <p:spPr>
            <a:xfrm rot="2241600">
              <a:off x="3924000" y="24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282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4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434 -0.28856 0.27413 -0.14752 0.27413 0.0259 C 0.27413 0.19954 0.15434 0.34058 0.00764 0.34058 C -0.13889 0.34058 -0.25764 0.19954 -0.25764 0.0259 C -0.25764 -0.14752 -0.13889 -0.28856 0.00764 -0.28856 Z">
                                      <p:cBhvr>
                                        <p:cTn id="28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8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142920" y="2571480"/>
            <a:ext cx="1369800" cy="1356120"/>
            <a:chOff x="142920" y="2571480"/>
            <a:chExt cx="1369800" cy="1356120"/>
          </a:xfrm>
        </p:grpSpPr>
        <p:sp>
          <p:nvSpPr>
            <p:cNvPr id="100" name="AutoShape 3"/>
            <p:cNvSpPr/>
            <p:nvPr/>
          </p:nvSpPr>
          <p:spPr>
            <a:xfrm>
              <a:off x="324000" y="278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01" name="AutoShape 4"/>
            <p:cNvSpPr/>
            <p:nvPr/>
          </p:nvSpPr>
          <p:spPr>
            <a:xfrm rot="2241600">
              <a:off x="323640" y="278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4.79769E-006 C -0.03142 -0.14104 0.06493 -0.25711 0.18212 -0.25711 C 0.32066 -0.25711 0.37049 -0.12855 0.39149 -0.05109 L 0.41354 0.05133 C 0.4349 0.12856 0.48768 0.25665 0.64445 0.25665 C 0.74427 0.25665 0.85781 0.14128 0.85781 -4.79769E-006 C 0.85781 -0.14104 0.74427 -0.25711 0.64445 -0.25711 C 0.48768 -0.25711 0.4349 -0.12855 0.41354 -0.05109 L 0.39149 0.05133 C 0.37049 0.12856 0.32066 0.25665 0.18212 0.25665 C 0.06493 0.25665 -0.03142 0.14128 -0.03142 -4.79769E-006 Z">
                                      <p:cBhvr>
                                        <p:cTn id="294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андети"/>
          <p:cNvPicPr/>
          <p:nvPr/>
        </p:nvPicPr>
        <p:blipFill>
          <a:blip r:embed="rId1"/>
          <a:stretch/>
        </p:blipFill>
        <p:spPr>
          <a:xfrm>
            <a:off x="3348000" y="4508640"/>
            <a:ext cx="2232000" cy="1438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e95bfc5077e00b715bb415d0f590fc15"/>
          <p:cNvPicPr/>
          <p:nvPr/>
        </p:nvPicPr>
        <p:blipFill>
          <a:blip r:embed="rId2"/>
          <a:stretch/>
        </p:blipFill>
        <p:spPr>
          <a:xfrm>
            <a:off x="3995640" y="3068640"/>
            <a:ext cx="870120" cy="749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ddcedc575fd11e632e1f1619ab8cd005"/>
          <p:cNvPicPr/>
          <p:nvPr/>
        </p:nvPicPr>
        <p:blipFill>
          <a:blip r:embed="rId3"/>
          <a:stretch/>
        </p:blipFill>
        <p:spPr>
          <a:xfrm>
            <a:off x="1403280" y="3141720"/>
            <a:ext cx="865080" cy="777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684360" y="62064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Берегите свое здоровье!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8964720" y="836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Берегите свое здоровье!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07" name="Picture 11" descr="796606407cb2d4efe937045b5298e54a"/>
          <p:cNvPicPr/>
          <p:nvPr/>
        </p:nvPicPr>
        <p:blipFill>
          <a:blip r:embed="rId4"/>
          <a:stretch/>
        </p:blipFill>
        <p:spPr>
          <a:xfrm>
            <a:off x="6877080" y="2852640"/>
            <a:ext cx="85716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7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8:33:42Z</dcterms:created>
  <dc:creator>Масько</dc:creator>
  <dc:description/>
  <dc:language>en-US</dc:language>
  <cp:lastModifiedBy>User</cp:lastModifiedBy>
  <dcterms:modified xsi:type="dcterms:W3CDTF">2019-01-10T16:07:29Z</dcterms:modified>
  <cp:revision>23</cp:revision>
  <dc:subject/>
  <dc:title>Слайд 1</dc:title>
</cp:coreProperties>
</file>