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3CA-FA5A-479F-BB58-50047D92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D0C-7A1A-4643-B32C-0F45032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A5B-2ACB-45E0-8F3F-9A433121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1B3-0B7F-4642-8BBB-D5939213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8B3-0626-4DAC-B318-E0EB2E8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E68-9DB2-417B-B38E-0F3CA68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417-1742-444F-90A2-C6123B9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530-C5DE-4B91-A0A2-E70267D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D2B-F5FD-48F1-ACD3-CC5C47DD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0C0-24BC-4450-8797-58138B9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5E9-B3C4-46A3-B9DC-AE8ADE2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530-B284-4C7B-9E5B-B49FBE7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662-FA72-4527-B1FF-404EFD8A9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987640" y="2637000"/>
            <a:ext cx="316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4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0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2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3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6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7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8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9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0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1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2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3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4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5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6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7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8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9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0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1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2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3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4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5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6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7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8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0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андети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7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User</cp:lastModifiedBy>
  <dcterms:modified xsi:type="dcterms:W3CDTF">2019-01-10T16:07:29Z</dcterms:modified>
  <cp:revision>23</cp:revision>
  <dc:subject/>
  <dc:title>Слайд 1</dc:title>
</cp:coreProperties>
</file>