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3B4A8-39D6-4080-9F7E-E79680017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FBBA7-CAE6-4621-BDA2-B1980AFF34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B85B8-B4CF-43DF-BFF3-85CF3AA93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CEDE1-C9C9-4D90-8CC8-7832963AF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2C7E4-360B-4BAB-B3CC-8787864BC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479F0-4720-43F9-A86D-C931C52B5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2A342-647C-4D37-B82B-F591037449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BD878-3751-4EF5-9E24-DE77D8BF2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54C6B-980C-4705-9E4F-6920D740E8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63BD-34A8-4AEA-9650-1C44FBF39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775-84DB-4C2F-9D88-C380AD07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10B-1CE5-45B8-A2FB-22001B3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A34-B391-49F4-9EB4-6F32C56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858-7BE9-46FA-85A1-FD9D0DAA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C6FB8-E320-4BB5-A1E1-C576D9F3A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DBB9C-AB10-4E3A-8C2D-0326712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0231-E862-4FBB-93CF-415ABFC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BD392-C5B0-4933-AB3C-70DA2666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6FC2F-671B-4E53-A539-E661513C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B7410-AD43-44BD-B794-AB306C6F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E118-520C-4777-BC7F-17146D40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656-8F05-4D3F-8B60-0640981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93A0-EAF0-4073-AFC2-74D5E6B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B71F-4063-42D0-9133-BFA7783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B55A5-4A4E-4C37-822F-1DB17BF8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90C9-B40B-46B2-B2B7-3C6786F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07CC4-7B64-4623-B471-B22A0C6E1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407-F064-4F1C-9254-E5C3419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596-5A00-4797-997D-C3BF6B6C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BF9-39F3-4730-96C6-8231DC43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60B-4393-4C65-83A6-3E80EA8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31C-2BAD-4F61-8090-AD85EC3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525-AC78-4103-8F20-C16ED3C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862-86B5-4BF9-8EA1-D12A416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24B0-69D7-4929-8077-17D25B0699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1560" y="-368280"/>
            <a:ext cx="937548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31920" y="1847520"/>
            <a:ext cx="94089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6600" y="6883560"/>
            <a:ext cx="251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4.02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3400" y="6883560"/>
            <a:ext cx="3192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6883560"/>
            <a:ext cx="25131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D9AB-5A3D-411D-BADB-2B3ED4ECB4D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092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9280"/>
            <a:ext cx="90709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989964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13:52:35Z</dcterms:created>
  <dc:creator/>
  <dc:description/>
  <dc:language>en-US</dc:language>
  <cp:lastModifiedBy>Альфинур</cp:lastModifiedBy>
  <dcterms:modified xsi:type="dcterms:W3CDTF">2020-03-17T07:55:46Z</dcterms:modified>
  <cp:revision>7</cp:revision>
  <dc:subject/>
  <dc:title>Презентация PowerPoint</dc:title>
</cp:coreProperties>
</file>