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6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702F-C8E8-451F-80A3-AF8531976E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DB68-A8B8-48F3-9FCD-6E36116B20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21A6B-9659-415B-B574-4F1415F2A4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4D75-73A7-4D05-B2A1-A6EF6BE74F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E198-9D90-4DCD-9409-C634496F0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C637-61A3-4D73-8D87-4B5DCBFAF8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3431-3A13-4F3B-8836-B6EB3F92DE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397E-0089-41FF-B87E-A5A7BD8F8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86DFB-2E13-4D7E-9C72-0200B9D39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AE309-98FE-4F8C-BD14-5BB3721D32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C2D-F02D-40E1-8D6C-4E3CE162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4B2-E14A-42FB-8E0D-99B6EE8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4A8-1AE6-4772-8AA4-A5D6BCEF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E2D-2E96-4247-91B0-D8C61F21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4B4BC-53FF-494E-8EB8-BAA1AE07B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FF362-129C-4E91-8E0B-23589C5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25EF-E370-4100-8C2C-386E9CF9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CD472-9551-48E7-9882-E9BEDD4F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1E65A-5098-4944-95CE-12438784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DA339-68BD-4479-BA64-776C28B3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FCA92-C109-403A-BBB3-908E5E0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7FE-75BA-45E2-BDA6-54EB9331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23149-FC9F-4151-9805-80B48A17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553BE-E872-407D-BB93-41370CD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F8591-1A1F-405A-B431-2B22805C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E40E-3E62-4A73-A530-3D2E5FB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69B60-DA9B-48E0-A268-09023C721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346-00C6-446C-A712-E280040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13C-3BD4-4EC0-943B-B7EF69E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CB0-4525-47C7-9D40-1827FAE8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58B-4F04-438D-963F-78F1312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EC9-F8AD-4CC3-AE6A-21D7792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0DF-2281-4F3E-8945-4D38E66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483-356D-40E1-8E43-AB5C53C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665A1-E7F2-4732-95AF-67EF34F91E3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1560" y="-368280"/>
            <a:ext cx="937548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31920" y="1847520"/>
            <a:ext cx="94089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6600" y="6883560"/>
            <a:ext cx="251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4.02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3400" y="6883560"/>
            <a:ext cx="3192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6883560"/>
            <a:ext cx="25131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0235B-E10F-43EF-9669-CC50E7C848E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901880"/>
            <a:ext cx="907092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434520"/>
            <a:ext cx="907092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9280"/>
            <a:ext cx="9070920" cy="6578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989964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13:52:35Z</dcterms:created>
  <dc:creator/>
  <dc:description/>
  <dc:language>en-US</dc:language>
  <cp:lastModifiedBy>Альфинур</cp:lastModifiedBy>
  <dcterms:modified xsi:type="dcterms:W3CDTF">2020-03-17T07:55:46Z</dcterms:modified>
  <cp:revision>7</cp:revision>
  <dc:subject/>
  <dc:title>Презентация PowerPoint</dc:title>
</cp:coreProperties>
</file>