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96B6-12FC-4D93-A376-682445DEC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7765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2000" y="3913200"/>
            <a:ext cx="7765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06BC-CEFE-4605-B645-6B4D472C2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144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BB83-B0C8-40C1-B510-3690F773A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040" y="176652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2000" y="391320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320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040" y="391320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47BC-1A5A-4DC0-A392-8FE226402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7365-DCE1-40C1-B814-8D6CC0B13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2000" y="1766520"/>
            <a:ext cx="7765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7489-F7C4-4FD7-9C06-41F85AE3A8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7765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54CC-CA51-4752-8DD0-E4C8DFE4EF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404B-1C92-4EBC-A269-7F7D9D1FF0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E0E0-B3EF-4B51-9B61-FD1EED77C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7480"/>
            <a:ext cx="7769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B3D3-B34D-4B26-8F05-32663D2B3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200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8449-F8BF-43FB-9C74-67B05EF52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2000" y="1766520"/>
            <a:ext cx="7765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0F30-95ED-4E17-A268-483ACB7DB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144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51A8-A02A-4568-89E5-20D6E0398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2000" y="3913200"/>
            <a:ext cx="7765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14A5-AF4B-4CF6-B3D4-114E261B18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7765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2000" y="3913200"/>
            <a:ext cx="7765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D721-F970-400D-B743-68A388D703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200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144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BC67-C784-45A0-8F27-2BF8E1D00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040" y="176652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2000" y="391320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320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040" y="3913200"/>
            <a:ext cx="25005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A4D8-15CE-43F8-810A-D5E7EE86C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7765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4A7E-2990-48A2-BA7C-6043A7AF0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A20F-916C-4719-AC45-17BD0F96F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4F63-1253-47C9-863D-666AB6229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7480"/>
            <a:ext cx="7769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7ACB-E6E4-4D06-A3AD-6E4806686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200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198D-EBB4-4ECE-AE92-E8FE805B9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1440" y="391320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CC05-1EA0-465B-A4E8-97233613C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1440" y="1766520"/>
            <a:ext cx="3789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2000" y="3913200"/>
            <a:ext cx="7765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4D38-239B-44AC-B06A-A182A2BB9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3374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29000" y="63374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09920" y="6335640"/>
            <a:ext cx="1901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8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B56DE-C6A2-431D-B549-963A14F02846}" type="slidenum"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062000" y="1766520"/>
            <a:ext cx="7765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6359400" cy="6854760"/>
            <a:chOff x="0" y="0"/>
            <a:chExt cx="6359400" cy="6854760"/>
          </a:xfrm>
        </p:grpSpPr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256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4080" cy="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7480"/>
            <a:ext cx="7769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2000" y="1766520"/>
            <a:ext cx="7765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099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824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245C1C-A09F-4E37-9D6A-E30CFB5DC284}" type="slidenum">
              <a:rPr b="0" lang="ru-RU" sz="1400" spc="-1" strike="noStrike">
                <a:solidFill>
                  <a:srgbClr val="4824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8800" y="1000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Учебно-методическое пособие по ПМ.04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8640" y="27003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ТЕМА: «</a:t>
            </a:r>
            <a:r>
              <a:rPr b="1" i="1" lang="ru-RU" sz="5400" spc="-1" strike="noStrike">
                <a:solidFill>
                  <a:srgbClr val="0000cc"/>
                </a:solidFill>
                <a:latin typeface="Times New Roman"/>
                <a:ea typeface="Arial"/>
              </a:rPr>
              <a:t>Пролежни: факторы риска, места образования, диагностика, лечение</a:t>
            </a:r>
            <a:r>
              <a:rPr b="1" i="1" lang="ru-RU" sz="54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».</a:t>
            </a:r>
            <a:endParaRPr b="0" lang="en-US" sz="5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340000" y="4319640"/>
            <a:ext cx="4587840" cy="1790640"/>
            <a:chOff x="2340000" y="4319640"/>
            <a:chExt cx="4587840" cy="17906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2340000" y="4319640"/>
              <a:ext cx="1968480" cy="1790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5006880" y="4319640"/>
              <a:ext cx="1920960" cy="1766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83" name=""/>
          <p:cNvSpPr/>
          <p:nvPr/>
        </p:nvSpPr>
        <p:spPr>
          <a:xfrm>
            <a:off x="181080" y="179280"/>
            <a:ext cx="8910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1 стадия образования пролежней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19280"/>
            <a:ext cx="891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Появление участков стойкой гиперемии, не проходящие после прекращения давления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80000" y="2870280"/>
            <a:ext cx="2276640" cy="1809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9280" y="179280"/>
            <a:ext cx="8910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2 стадия образования пролежней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520" y="1619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Сохраняется стойкая гиперемия. Происходит отслойка эпидермиса, появляются пузырьки.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60360" y="2752560"/>
            <a:ext cx="3809880" cy="246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319640" y="4851360"/>
            <a:ext cx="24192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1080" y="179280"/>
            <a:ext cx="8910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3 стадия образования пролежней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60360"/>
            <a:ext cx="891072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Разрушение кожного покрова вплоть до мышечного слоя с проникновением в мышцу. Пролежень выглядит как рана. Могут быть жидкие выделения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60360" y="3733920"/>
            <a:ext cx="3060720" cy="2925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54560" y="4205160"/>
            <a:ext cx="3565440" cy="2274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1080" y="179280"/>
            <a:ext cx="8910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4 стадия образования пролежней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8920" y="1440000"/>
            <a:ext cx="891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Поражение всех мягких тканей вплоть до кости, развивается некроз, образуется полость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3817800"/>
            <a:ext cx="3240360" cy="2841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859280" y="3959280"/>
            <a:ext cx="39258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филактика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Профилактические мероприятия должны быть направлены на: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37160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ение давления на костные ткан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048040"/>
            <a:ext cx="84582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 трения и сдвига тканей во время перемещения пациента или при его неправильном размещени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11472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 за кожей над костными выступам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80052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ание чистоты кожи и ее умеренной влажнос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48632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пациента адекватным питанием и питьем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517212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пациента приемам самопомощи для перемещения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85792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близких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dur="indefinite" fill="hold">
                      <p:stCondLst>
                        <p:cond delay="indefinite"/>
                      </p:stCondLst>
                      <p:childTnLst>
                        <p:par>
                          <p:cTn id="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fill="hold">
                      <p:stCondLst>
                        <p:cond delay="indefinite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dur="indefinite" fill="hold">
                      <p:stCondLst>
                        <p:cond delay="indefinite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7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45576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Регистрация противопролежневых мероприятий осуществляется в карте сестринского наблюдения за больными с пролежнями. 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Карта сестринского наблюдения 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включает в себя три раздела: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581280"/>
            <a:ext cx="8458200" cy="520560"/>
          </a:xfrm>
          <a:prstGeom prst="rect">
            <a:avLst/>
          </a:prstGeom>
          <a:solidFill>
            <a:srgbClr val="eaeaea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пациента на предложенный план ухода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419720"/>
            <a:ext cx="8458200" cy="947160"/>
          </a:xfrm>
          <a:prstGeom prst="rect">
            <a:avLst/>
          </a:prstGeom>
          <a:solidFill>
            <a:srgbClr val="eaeaea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сестринской оценки риска развития и стадии пролежней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643720"/>
            <a:ext cx="8458200" cy="520560"/>
          </a:xfrm>
          <a:prstGeom prst="rect">
            <a:avLst/>
          </a:prstGeom>
          <a:solidFill>
            <a:srgbClr val="eaeaea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регистрации противопролежневых мероприятий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dur="indefinite" fill="hold">
                      <p:stCondLst>
                        <p:cond delay="indefinite"/>
                      </p:stCondLst>
                      <p:childTnLst>
                        <p:par>
                          <p:cTn id="5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9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dur="indefinite" fill="hold">
                      <p:stCondLst>
                        <p:cond delay="indefinite"/>
                      </p:stCondLst>
                      <p:childTnLst>
                        <p:par>
                          <p:cTn id="5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228600"/>
            <a:ext cx="883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3960" algn="ctr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Карта сестринского наблюдения за больными с пролежням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.И.О. пациент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делени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ат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нический диагноз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о реализации плана ухода:       дата____час.___мин.__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marL="457200" indent="-45396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нчание реализации плана ухода: дата____час.__мин.__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352680"/>
            <a:ext cx="845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ие пациента на предложенный план уход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____________________________ получил разъяснение по поводу плана ухода по профилактике пролежней; 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л информацию: о факторах риска развития пролежней, целях профилактических мероприятий, последствиях несоблюдения всей программы профилактики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у предложен план ухода в соответствии с отраслевым стандартом «Протокол ведения больных. Пролежни», утвержденным приказом Минздрава России от 17.04.02 №123, даны полные разъяснения об особенностях диеты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dur="indefinite" fill="hold">
                      <p:stCondLst>
                        <p:cond delay="indefinite"/>
                      </p:stCondLst>
                      <p:childTnLst>
                        <p:par>
                          <p:cTn id="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89080"/>
            <a:ext cx="8458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извещен о необходимости соблюдать всю программу профилактики, регулярно изменять положение в постели, выполнять дыхательные упражнения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извещен, что несоблюдение им рекомендаций медсестры и врача могут осложниться развитием пролежней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извещен об исходе при отказе от выполнения плана ухода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имел возможность задать любые интересующие его вопросы относительно плана ухода и получил на них ответы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еду провела медсестра __________________ (подпись медсестры)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___» __________________ 20__ г.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согласился с предложенным планом ухода, в чем расписался собственноручно __________________ (подпись пациента) или за него расписался (согласно пункту 6.1.9 отраслевого стандарта «Протокол ведения больных. Пролежни», утвержденного приказом Минздрава России от 17.04.02 №123)  __________________________ (подпись, Ф.И.О.), что удостоверяют присутствовавшие при беседе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 (подпись медсестры)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 (подпись свидетеля)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циент не согласился (отказался) с планом предложенного ухода, в чем расписался собственноручно ________________ (подпись пациента)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920" y="152280"/>
            <a:ext cx="92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 сестринской оценки риска развития и стадии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727200"/>
          <a:ext cx="8458200" cy="5911200"/>
        </p:xfrm>
        <a:graphic>
          <a:graphicData uri="http://schemas.openxmlformats.org/drawingml/2006/table">
            <a:tbl>
              <a:tblPr/>
              <a:tblGrid>
                <a:gridCol w="4267440"/>
                <a:gridCol w="914400"/>
                <a:gridCol w="457200"/>
                <a:gridCol w="457200"/>
                <a:gridCol w="533160"/>
                <a:gridCol w="533520"/>
                <a:gridCol w="457200"/>
                <a:gridCol w="457200"/>
                <a:gridCol w="38088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ел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кожи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ые факторы риск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ержани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етит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ические расстрой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24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ширное оперативное вмешательство ниже поя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м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2 ч на стол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арственная терапи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dur="indefinite" fill="hold">
                      <p:stCondLst>
                        <p:cond delay="indefinite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dur="indefinite" fill="hold">
                      <p:stCondLst>
                        <p:cond delay="indefinite"/>
                      </p:stCondLst>
                      <p:childTnLst>
                        <p:par>
                          <p:cTn id="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7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44240" y="152280"/>
            <a:ext cx="82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 регистрации противопролежневых мероприяти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717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о реализации плана ухода:        дата______час.__мин.___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нчание реализации плана ухода: дата______час.__мин.___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47920"/>
          <a:ext cx="8305920" cy="51210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06080"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Утром по шкале Ватерлоу ………. баллов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Изменение положения состояние постели (вписать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2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4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16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18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0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2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4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2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4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8 ч положение -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линические процедуры:    душ       ванна      обмывани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бучение пациента самоуходу (указать результат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учение родственников самоуходу (указать результат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760">
                <a:tc gridSpan="2"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Количество съеденной пищи в процентах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трак             обед             полдник               ужин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dur="indefinite" fill="hold">
                      <p:stCondLst>
                        <p:cond delay="indefinite"/>
                      </p:stCondLst>
                      <p:childTnLst>
                        <p:par>
                          <p:cTn id="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лежни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это некроз мягких тканей, развивающийся вследствие их длительного сдавления, сдвига или трения из-за нарушения местного кровообращения и нервной трофики.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6800" y="322884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риска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1640" y="421632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нутренние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5040" y="42163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нешние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040" y="505476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обратимые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5200" y="505476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обратимые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2040" y="505476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обратимые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4560" y="505476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необратимые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5400" y="3809880"/>
            <a:ext cx="1530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8098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92040" y="4648320"/>
            <a:ext cx="539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648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635800" y="4648320"/>
            <a:ext cx="615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6483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6520" y="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лежащего пациента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880" y="838080"/>
          <a:ext cx="8382240" cy="115884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оведение текущей оценки риска развития пролежней не менее 1 раза в день (утром) по шкале Ватерлоу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80880" y="1981080"/>
          <a:ext cx="8382240" cy="76212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7621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Изменение положения пациента каждые 2 часа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ч. – положение Фаулер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80880" y="2743200"/>
          <a:ext cx="8382240" cy="39672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2 ч. – положение «на ле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80880" y="3124080"/>
          <a:ext cx="8382240" cy="39708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4 ч. – положение «на пра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0880" y="3505320"/>
          <a:ext cx="8382240" cy="39672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16 ч. – положение Фаулер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3886200"/>
          <a:ext cx="8382240" cy="39672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36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18 ч. – положение Симс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80880" y="4267080"/>
          <a:ext cx="8382240" cy="259092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25909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0 ч. – положение Фаулер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2 ч. – положение «на пра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4 ч. – положение «на ле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2 ч. – положение Симс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4 ч. – положение «на пра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ч. – положение «на ле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8 ч. – положение Симс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8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3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8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3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3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8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6520" y="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лежащего пациента)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одолжение таблицы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80880" y="838080"/>
          <a:ext cx="8382240" cy="573084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4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мывание загрязненных участков кожи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4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оверка состояния постели при перемене положения (каждые 2 часа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8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учение родственников пациента технике правильного перемещения (приподнимая над кроватью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диви-дуальной программ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8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пределение количества съеденной пищи (количество белка не менее 120 г, аскорбиновой кислоты 500-1000 мг в сутки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раз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0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беспечение употребления не менее 1,5 л жидкости в сутки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.00 – 13.00 ч. – 700 м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13.00 – 18.00 ч. – 500 м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18.00 – 22.00 ч. – 300 мл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5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6520" y="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лежащего пациента)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одолжение таблицы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920" y="771480"/>
          <a:ext cx="8534160" cy="6095520"/>
        </p:xfrm>
        <a:graphic>
          <a:graphicData uri="http://schemas.openxmlformats.org/drawingml/2006/table">
            <a:tbl>
              <a:tblPr/>
              <a:tblGrid>
                <a:gridCol w="6516720"/>
                <a:gridCol w="201744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Использование поролоновых прокладок в зоне участков риска, исключающих давление на кожу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92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При недержании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чи – смена подгузников каждые 4 часа,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а – смена подгузников немедленно после дефекации с последующей бережной гигиенической процедурой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При усилении болей – консультация врач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4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Обучение пациента и поощрение его изменять положение в постели (точки давления) с помощью перекладин, поручней и других приспособлений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Массаж кожи около участков риск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раз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Обучение пациента дыхательным упражнениям и поощрение его выполнять их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Наблюдение за влажностью кожи и поддержание умеренную влаж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2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520" y="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пациента, который может сидеть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838080"/>
          <a:ext cx="8382240" cy="192060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4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оведение текущей оценки риска развития пролежней не менее 1 раза в день (утром) по шкале Ватерлоу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Изменение положения пациента каждые 2 часа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0 ч. – положение «сидя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80880" y="2666880"/>
          <a:ext cx="8382240" cy="405468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546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2 ч. – положение «на ле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4 ч. – положение «на пра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16 ч. – положение «сидя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18 ч. – положение Симс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0 ч. – положение «сидя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2 ч. – положение «на пра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-24 ч. – положение «на ле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2 ч. – положение Симс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4 ч. – положение «на пра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ч. – положение «на левом боку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8 ч. – положение Симс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fill="hold">
                      <p:stCondLst>
                        <p:cond delay="indefinite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5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dur="indefinite" fill="hold">
                      <p:stCondLst>
                        <p:cond delay="indefinite"/>
                      </p:stCondLst>
                      <p:childTnLst>
                        <p:par>
                          <p:cTn id="6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0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36520" y="16812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пациента, который может сидеть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одолжение таблицы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80880" y="1241280"/>
          <a:ext cx="8382240" cy="423720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50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ациент может быть перемещен (или перемещаться самостоятельно с помощью вспомогательных средств) и в кресле (инвалидной коляске), он может находиться в положении сидя и в кровати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4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мывание загрязненных участков кожи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оверка состояния постели при перемене положения (каждые 2 часа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раз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5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учение родственников пациента технике правильного перемещения (приподнимая над кроватью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диви-дуальной программ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80880" y="5410080"/>
          <a:ext cx="8382240" cy="100656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100656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бучение пациента самостоятельному перемещению в кровати с помощью устройства для приподнимани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диви-дуальной программ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80880" y="1197000"/>
            <a:ext cx="8382240" cy="4213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p:transition spd="med">
    <p:cover dir="r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dur="indefinite" fill="hold">
                      <p:stCondLst>
                        <p:cond delay="indefinite"/>
                      </p:stCondLst>
                      <p:childTnLst>
                        <p:par>
                          <p:cTn id="6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7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dur="indefinite" fill="hold">
                      <p:stCondLst>
                        <p:cond delay="indefinite"/>
                      </p:stCondLst>
                      <p:childTnLst>
                        <p:par>
                          <p:cTn id="6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2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dur="indefinite" fill="hold">
                      <p:stCondLst>
                        <p:cond delay="indefinite"/>
                      </p:stCondLst>
                      <p:childTnLst>
                        <p:par>
                          <p:cTn id="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0" dur="1" fill="hold"/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36520" y="16812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пациента, который может сидеть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одолжение таблицы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0880" y="1271520"/>
          <a:ext cx="8382240" cy="521172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бучение пациента технике безопасного самостоятельного перемещения с кровати в кресло с помощью других средств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диви-дуальной программе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Определение количества съеденной пищи (количество белка не менее 120 г, аскорбиновой кислоты 500-1000 мг в сутки)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раз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78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Обеспечить употребление не менее 1,5 л жидкости в сутки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.00 – 13.00 ч. – 700 м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13.00 – 18.00 ч. – 500 мл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18.00 – 22.00 ч. – 300 мл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Использовать поролоновые прокладки, исключающие давление на кожу под участки риска, в т.ч. в положении пациента «сидя» (под стопы).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9960" y="244440"/>
            <a:ext cx="86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комендуемые планы ухода при риске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 пациента, который может сидеть)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одолжение таблицы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1515960"/>
          <a:ext cx="8382240" cy="4357440"/>
        </p:xfrm>
        <a:graphic>
          <a:graphicData uri="http://schemas.openxmlformats.org/drawingml/2006/table">
            <a:tbl>
              <a:tblPr/>
              <a:tblGrid>
                <a:gridCol w="6705720"/>
                <a:gridCol w="167652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нские вмешательств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ность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78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При недержании: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чи – смена подгузников каждые 4 часа;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а – смена подгузников немедленно после дефекации с последующей бережной гигиенической процедурой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При усилении болей – консультация врач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9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Обучение пациента и поощрение его изменять положение в постели (точки давления) с помощью перекладин, поручней и других приспособлений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дня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64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Массаж кожи около участков риск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раза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dur="indefinite" fill="hold">
                      <p:stCondLst>
                        <p:cond delay="indefinite"/>
                      </p:stCondLst>
                      <p:childTnLst>
                        <p:par>
                          <p:cTn id="7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4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696960"/>
            <a:ext cx="8534160" cy="5213160"/>
          </a:xfrm>
          <a:prstGeom prst="rect">
            <a:avLst/>
          </a:prstGeom>
          <a:solidFill>
            <a:srgbClr val="eaeaea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Необходимым предварительным условием медицинского вмешательства является информированное добровольное согласие пациента (статья 32 «Основ законодательства РФ об охране граждан» от 22.07.93 № 5487).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План выполнения противопролежневых мероприятий обсуждается и согласовывается с пациентом в письменном виде, а при необходимости – с его близкими. Данные об информировании и согласии пациента регистрируются в карте сестринского наблюдения за больными с пролежнями.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dur="indefinite" fill="hold">
                      <p:stCondLst>
                        <p:cond delay="indefinite"/>
                      </p:stCondLst>
                      <p:childTnLst>
                        <p:par>
                          <p:cTn id="7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ациент должен иметь информацию о: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29528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ах риска развит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76640"/>
            <a:ext cx="84582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ях всех профилактических мероприяти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222720"/>
            <a:ext cx="8458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сти выполнения всей программы профилактики, в т.ч. манипуляций, выполненных пациентом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его близким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883040"/>
            <a:ext cx="84582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ствиях несоблюдения всей программы профилактики, в т.ч. снижении уровня качества жизн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dur="indefinite" fill="hold">
                      <p:stCondLst>
                        <p:cond delay="indefinite"/>
                      </p:stCondLst>
                      <p:childTnLst>
                        <p:par>
                          <p:cTn id="7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dur="indefinite" fill="hold">
                      <p:stCondLst>
                        <p:cond delay="indefinite"/>
                      </p:stCondLst>
                      <p:childTnLst>
                        <p:par>
                          <p:cTn id="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4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dur="indefinite" fill="hold">
                      <p:stCondLst>
                        <p:cond delay="indefinite"/>
                      </p:stCondLst>
                      <p:childTnLst>
                        <p:par>
                          <p:cTn id="7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dur="indefinite" fill="hold">
                      <p:stCondLst>
                        <p:cond delay="indefinite"/>
                      </p:stCondLst>
                      <p:childTnLst>
                        <p:par>
                          <p:cTn id="7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4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dur="indefinite" fill="hold">
                      <p:stCondLst>
                        <p:cond delay="indefinite"/>
                      </p:stCondLst>
                      <p:childTnLst>
                        <p:par>
                          <p:cTn id="7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9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69760" y="2556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нутренние факторы риска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6200" y="838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обратимы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1840" y="9144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еобратимы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92240" y="457200"/>
            <a:ext cx="539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457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0" y="12193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щени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6240" y="1600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ие подвижнос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080" y="1981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емия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3781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ое употребление протеина, аскорбиновой кислоты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32004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звоживани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5880" y="35812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отензия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4800" y="3962520"/>
            <a:ext cx="39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ержание мочи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кал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282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врологические расстройства (сенсорные, двигательные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2640" y="47242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е периферического кровообращения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1055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нченная кож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440" y="54864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покойство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4440" y="58672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утанное сознани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4440" y="6248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219320"/>
            <a:ext cx="609840" cy="5410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1447920"/>
            <a:ext cx="380880" cy="838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4637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ческий возраст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22760" y="2556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нешние факторы риска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6200" y="838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обратимы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1840" y="9144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еобратимы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92240" y="457200"/>
            <a:ext cx="539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57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0960" y="144792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ой гигиенический уход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9209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ладки на постельном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ельном бель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1320" y="2819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учни крова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9880" y="335268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 фиксации пациент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0960" y="382572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вмы позвоночника, костей таза, 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ов брюшной полос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724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реждения спинного мозг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1320" y="525780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авильная техника перемещения пациента в крова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1320" y="5791320"/>
            <a:ext cx="71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ение цитостатических лекарственных средств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19320"/>
            <a:ext cx="609480" cy="5410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447920"/>
            <a:ext cx="457200" cy="2438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146376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ширное хирургическое вмешательство продолжитель-ностью более двух часов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04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тепень риска возникновения пролежней определяется 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о шкале Ватерлоу: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4920" y="1397160"/>
          <a:ext cx="8534160" cy="4627440"/>
        </p:xfrm>
        <a:graphic>
          <a:graphicData uri="http://schemas.openxmlformats.org/drawingml/2006/table">
            <a:tbl>
              <a:tblPr/>
              <a:tblGrid>
                <a:gridCol w="1784160"/>
                <a:gridCol w="273240"/>
                <a:gridCol w="1822320"/>
                <a:gridCol w="387360"/>
                <a:gridCol w="1397160"/>
                <a:gridCol w="309240"/>
                <a:gridCol w="2251080"/>
                <a:gridCol w="309600"/>
              </a:tblGrid>
              <a:tr h="11858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сложение: масса тела относительно рост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кожи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, Возраст, лет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ые факторы риск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</a:tr>
              <a:tr h="344160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среднего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рени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же среднего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а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иросная бумаг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ха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ечна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пкая (повышенная температура)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цвет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щины, пятн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жско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ски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-49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6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-7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-8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8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питания кожи, например, терминальная кахекси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дечная недостаточность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периферических сосудов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еми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ени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тепень риска возникновения пролежней определяется 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о шкале Ватерлоу: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914400"/>
          <a:ext cx="8534160" cy="4022640"/>
        </p:xfrm>
        <a:graphic>
          <a:graphicData uri="http://schemas.openxmlformats.org/drawingml/2006/table">
            <a:tbl>
              <a:tblPr/>
              <a:tblGrid>
                <a:gridCol w="1784160"/>
                <a:gridCol w="273240"/>
                <a:gridCol w="1822320"/>
                <a:gridCol w="387360"/>
                <a:gridCol w="1397160"/>
                <a:gridCol w="309240"/>
                <a:gridCol w="2251080"/>
                <a:gridCol w="309600"/>
              </a:tblGrid>
              <a:tr h="11858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ержани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ость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етит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ические расстройств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</a:tr>
              <a:tr h="283680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ый контрол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ерез катетер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ическо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катете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едержание кал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а и мочи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а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покойный, суетливы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атичны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ая подвижность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ертны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ованный к креслу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хой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атель-ный зон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олько жидкости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через ро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анорекси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имер, диабет, множественный склероз, инсульт, моторны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енсорные, параплеги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57200" y="5105520"/>
          <a:ext cx="8153280" cy="1663560"/>
        </p:xfrm>
        <a:graphic>
          <a:graphicData uri="http://schemas.openxmlformats.org/drawingml/2006/table">
            <a:tbl>
              <a:tblPr/>
              <a:tblGrid>
                <a:gridCol w="3409920"/>
                <a:gridCol w="857160"/>
                <a:gridCol w="3146400"/>
                <a:gridCol w="739800"/>
              </a:tblGrid>
              <a:tr h="63972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ширное оперативное вмешательство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равм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арственная терапия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</a:tr>
              <a:tr h="10238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топедическое – ниже пояса, позвоночник;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2 ч на стол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тостатические препараты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е дозы стероидов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ивовоспалительные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6c3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Баллы суммируются и степень риска определяется по следующим итоговым значениям: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3520" y="1397160"/>
          <a:ext cx="8153280" cy="2717640"/>
        </p:xfrm>
        <a:graphic>
          <a:graphicData uri="http://schemas.openxmlformats.org/drawingml/2006/table">
            <a:tbl>
              <a:tblPr/>
              <a:tblGrid>
                <a:gridCol w="2438280"/>
                <a:gridCol w="5715000"/>
              </a:tblGrid>
              <a:tr h="53064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риска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</a:tr>
              <a:tr h="53064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9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риска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</a:tr>
              <a:tr h="55080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риск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</a:tr>
              <a:tr h="55224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 степень риска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</a:tr>
              <a:tr h="55332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высокая степень риска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b6a3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52280" y="441972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У неподвижных пациентов оценку степени риска развития пролежней следует проводить ежедневно, даже в случае, если при первичном осмотре степень риска оценивалась 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в 1-9 баллов.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Результаты оценки регистрируются в карте сестринского наблюдения за больным.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Места возможного образования пролежн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838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оложении на спин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9600" y="974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оложении сидя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40360" y="3854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оложении на боку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стец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тк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438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патк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819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ылок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200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к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1700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далищные бугры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206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пы ног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2421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патк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40360" y="457524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 большого вертела бедренной кос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40360" y="545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цевидного отростка височной кост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5335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80360" y="53964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8200" y="53964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7524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9640" y="176544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468000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9280" y="539640"/>
            <a:ext cx="180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69960" y="360036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оложении на животе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9640" y="4319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ра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9640" y="540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нк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79640" y="4680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ьцы ног с тыльной стороны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79640" y="5759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бни подвздошных костей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22100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dur="indefinite" fill="hold">
                      <p:stCondLst>
                        <p:cond delay="indefinite"/>
                      </p:stCondLst>
                      <p:childTnLst>
                        <p:par>
                          <p:cTn id="4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линическая картина и особенности диагностики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Клиническая картина зависит от стадии развития пролежней.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9640" y="2879640"/>
            <a:ext cx="3600720" cy="3240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680000" y="1440000"/>
            <a:ext cx="35481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1:16:17Z</dcterms:created>
  <dc:creator>WWW</dc:creator>
  <dc:description/>
  <dc:language>en-US</dc:language>
  <cp:lastModifiedBy>DEPO</cp:lastModifiedBy>
  <dcterms:modified xsi:type="dcterms:W3CDTF">2013-04-01T16:14:31Z</dcterms:modified>
  <cp:revision>99</cp:revision>
  <dc:subject/>
  <dc:title>Презентация PowerPoint</dc:title>
</cp:coreProperties>
</file>