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E84-93A6-489F-93B3-E0817BB5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B10-DAE8-4C80-917A-02AD16CD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07D-3F41-42A8-A3FA-E3E06E4E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202F-AD53-4B90-AAB8-B9957761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191-4626-4C19-9730-D743EB8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005-AA18-4C70-80EC-CB0201B6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64F-E595-422F-A3F4-7E6FF130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182-0F17-4C61-B1C6-5951D9B8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E45-1D5F-49F1-B2CB-56677EC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446-0BA3-4F38-B1B2-8BD25255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DEB-E4FC-43ED-91C5-C0F2E4AA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AFD-B893-415A-96FA-29048C5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7D9E-F47E-441C-8223-1BF6535A6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228600" y="380880"/>
            <a:ext cx="8686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еликие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еографические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ия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039" t="0" r="0" b="260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аско Нуньес де Бальбоа обнаружи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что за американским континент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простирается море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ернан Магеллан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решил до него добр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нтябре 1519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года во главе флотилии из пяти небольших кораблей Магеллан вышел из порта города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евилья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и взял курс на Бразилию. Проплыв на юг вдоль берегов Южной Америки, Магеллан нашёл узкий и извилистый пролив, по которому его корабли вышли в океан. Этот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 позже назвали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Магелан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808680" y="0"/>
            <a:ext cx="233532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WordArt 6"/>
          <p:cNvSpPr txBox="1"/>
          <p:nvPr/>
        </p:nvSpPr>
        <p:spPr>
          <a:xfrm>
            <a:off x="304920" y="304920"/>
            <a:ext cx="61722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Открытие Тихого океа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0" t="0" r="0" b="396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6858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</a:t>
            </a:r>
            <a:r>
              <a:rPr b="0" i="1" lang="en-US" sz="3200" spc="-1" strike="noStrike">
                <a:solidFill>
                  <a:srgbClr val="660066"/>
                </a:solidFill>
                <a:latin typeface="Georgia"/>
              </a:rPr>
              <a:t>XVII</a:t>
            </a: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 веке на просторы тихого океана вышли голлан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Открыли крупный остров - Новая Гвинея – и часть северного побережья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Georgia"/>
              </a:rPr>
              <a:t>В 1642 году капитан Абел Тасман открыл большой остров к югу от Австралии, впоследствии названный в его честь Тасманией и Новую Зеланд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0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0" t="0" r="0" b="11108"/>
          <a:stretch/>
        </p:blipFill>
        <p:spPr>
          <a:xfrm>
            <a:off x="6553080" y="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165480" cy="3733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3"/>
          <a:stretch/>
        </p:blipFill>
        <p:spPr>
          <a:xfrm>
            <a:off x="0" y="3352680"/>
            <a:ext cx="9144000" cy="350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437920" y="15192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648 году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емён Иванович Дежнёв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открыл пролив между Азией и Америкой, пройдя из Ледовитого океана в Тих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В 1740 году, капитан – командор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итус Беринг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повторил путь Дежнёва, достигнув Северной Америки и открыл ряд островов Алеутской г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4419720" y="2733840"/>
            <a:ext cx="4724280" cy="41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3809880" y="0"/>
            <a:ext cx="2725920" cy="32767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5345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Англий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мореплав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жеймс Ку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пуст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есятилет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од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точность кар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составленных Бери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Кук совершил три кругосве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уте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Доказ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то Новая Зеланди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а острова, а не один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Из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л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ой Барьерный риф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ёс на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 карту Тихог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еана сотни новых островов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юге открыл Гавайские остро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десь трагически поги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5257800" cy="541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5654520" y="274320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5688000" y="0"/>
            <a:ext cx="3456000" cy="4648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5410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О присутствии в районе Южного полюса материка, догадывались ещё в древности. Его искали и Абел Тасман и Джеймс Кук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Нашли русские моряки – Фадей Фадеевич Беллинсгаузен и Михаил Петрович Лазаре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1819 году экспедиция под их командованием на двух шлюпках – «Восток» и «Мирный» - отправились из Кронштад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Цель экспедиции –была достигнута. Мореплаватели увидели гористый берег. Так был открыт новый материк, покрытый вечными льд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первые человек ступил на землю Антарктиды только в 1895 год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a50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a50021"/>
                </a:solidFill>
                <a:latin typeface="Georgia"/>
              </a:rPr>
              <a:t>В наше время находятся научно – исследовательские станции 24 государст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80880" y="53352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ткрытие Антаркти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51818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Норвежский исследователь Фритьоф Нансен в 1893 году на корабле «Фрам». За 500 километров до полюса корабль застрял во льдах, путешественник вернулся обратно пеш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Американец Роберт Эдвин Пири добрался до полюса на оленьих упря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7 сентября 1908 года. Водрузил Американский ф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4" name="WordArt 5"/>
          <p:cNvSpPr txBox="1"/>
          <p:nvPr/>
        </p:nvSpPr>
        <p:spPr>
          <a:xfrm>
            <a:off x="304920" y="152280"/>
            <a:ext cx="5333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Северного полю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9512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Норвежец Руаль Амундсен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эскимосских ездовых собаках и лёгких санях в меховой одежде отправился в 1911 году к Южному полюсу и достиг его 14 декабр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Английский офицер Роберт Фолкон Скот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на маленьких лошадках-пони в шерстяной и брезентовой одежде тоже отправился к Южному полюсу и пришёл на месяц поз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а обратном пути англичане погиб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787480" cy="4038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0" y="4038480"/>
            <a:ext cx="2743200" cy="2819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895480" y="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крытие южного полюс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жнё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емё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Лазаре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т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Беллинсгау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аде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3429000" y="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-6480" y="2057400"/>
            <a:ext cx="2560680" cy="3124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6319800" y="3505320"/>
            <a:ext cx="2824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3581280" cy="5638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щее человеку стремление к более глубокому познанию окружающего его мира повлекло за собой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ение ареа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ивилизации. Люди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мились 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жизнью разных народов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крыть новые неизвестны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ки и страны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шли сотни лет, прежд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 появились современны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рты, суда, приборы для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я безопасного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6720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Люд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утешествовали всегда. Много-много тысяч лет назад древние охотники пускались в путь, чтобы найти охотничьи угодья. Древние скотоводы вместе со своими стадами отправлялись в многодневные походы на поиски свежих пастбищ. Люди осваивали новые земли, пересекали пустыни и перебирались через горы, на лёгких лодочках переплывали моря и даже оке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Географические</a:t>
            </a: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Comic Sans MS"/>
              </a:rPr>
              <a:t>открытия дре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3760" y="304560"/>
            <a:ext cx="33526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Самые первые карты выглядели как рисунки.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Так, древний путешественник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пять тысяч лет назад изобразил на серебряной вазе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две реки, текущие с гор в озеро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горы, покрытые лесом, </a:t>
            </a:r>
            <a:br>
              <a:rPr sz="2400"/>
            </a:br>
            <a:r>
              <a:rPr b="0" lang="ru-RU" sz="2400" spc="-1" strike="noStrike">
                <a:solidFill>
                  <a:srgbClr val="663300"/>
                </a:solidFill>
                <a:latin typeface="Comic Sans MS"/>
              </a:rPr>
              <a:t>а по берегам рек —разных животных, которые там оби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5680" y="304920"/>
            <a:ext cx="4191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рошло время, и люди научились писать.     Тогда путешественники стали записывать, где они побывали и что видели.</a:t>
            </a:r>
            <a:br>
              <a:rPr sz="2200"/>
            </a:b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Первым путешественником, чьё имя нам известно, был египтянин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Ханну.</a:t>
            </a:r>
            <a:r>
              <a:rPr b="1" lang="ru-RU" sz="2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На корабле он проплыл по Красному морю на юг, в страну </a:t>
            </a:r>
            <a:r>
              <a:rPr b="1" lang="ru-RU" sz="2200" spc="-1" strike="noStrike">
                <a:solidFill>
                  <a:srgbClr val="ff3300"/>
                </a:solidFill>
                <a:latin typeface="Comic Sans MS"/>
              </a:rPr>
              <a:t>Пунт</a:t>
            </a: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, и вернулся в Египет с грузом благовоний и драгоценных камней. Рассказ о плавании Ханну был высечен на ска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28600" y="1792440"/>
            <a:ext cx="4572000" cy="384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15000"/>
            <a:ext cx="4800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Король и короле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3300"/>
                </a:solidFill>
                <a:latin typeface="Georgia"/>
              </a:rPr>
              <a:t>страны Пу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86868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836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7080" y="274320"/>
            <a:ext cx="464832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Замечательными путешественниками были финикийцы, жившие на берегу Средиземного моря. В древнем мире они были самыми искусными мореходами. Финикийцам удалось первыми обогнуть на кораблях Африку. </a:t>
            </a:r>
            <a:br>
              <a:rPr sz="2000"/>
            </a:br>
            <a:r>
              <a:rPr b="0" i="1" lang="ru-RU" sz="1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ни путешествовали три года. Осенью высаживались на берег, сеяли пшеницу, собирали урожай и снова двигались в путь.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Рассказ об этом записан древнегреческим историком Геродо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7543800" cy="5638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На севере Европы, в Скандинавии, жили суровые викинги. Они строили хорошие корабли и уходили на них далеко в море в поисках новых земель и добычи. Суда викингов огибали Европу, они открыли Исландию, а в </a:t>
            </a:r>
            <a:r>
              <a:rPr b="0" i="1" lang="en-US" sz="2000" spc="-1" strike="noStrike">
                <a:solidFill>
                  <a:srgbClr val="0000ff"/>
                </a:solidFill>
                <a:latin typeface="Georgia"/>
              </a:rPr>
              <a:t>X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веке достигли Северной Америки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и основали первые поселения. Потом этот путь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был забыт, и пять столетий спустя Колумбу </a:t>
            </a:r>
            <a:br>
              <a:rPr sz="2000"/>
            </a:b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пришлось заново открывать Амер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95280" y="4572000"/>
            <a:ext cx="381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аккар – корабль викингов. Нос корабля украшало резное изображение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665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39579" r="1281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6668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0" y="26668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Georgia"/>
              </a:rPr>
              <a:t>Бартоломеу Ди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429000" y="15228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Arial"/>
              </a:rPr>
              <a:t>Индия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 всегда представлялась жителям Европы сказочной страной, полной диковин и сокровищ. Она славилась пряностями и благовониями. Португальский мореплаватель Бартоломеу Диаш в 1487 году обогнул самую южную оконечность Африки и назвал её мысом Бу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296040" y="0"/>
            <a:ext cx="2847960" cy="297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608880" y="3962520"/>
            <a:ext cx="253512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04920" y="152280"/>
            <a:ext cx="647676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орской путь в Индию вокруг Африки проложил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Васко да Гам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 Его экспедиция была тщательно подготовлена: четыре быстроходных корабля, лучшие навигационные приборы и опытные моря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богнув мыс Доброй Надежды, экспедиция направилась на север вдоль побережья Африки.   Через девять месяцев после начала плавания, майским днём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1498 года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, корабли прибыли в индийский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город Каликут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Местному правителю, жившему в роскошном дворце, не понравились скромные подарки португальцев, но он с любопытством слушал рассказы бородатых незнакомцев о далёких стран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Ориентироваться в море морякам помогали навигационные приборы, в том числе и </a:t>
            </a:r>
            <a:r>
              <a:rPr b="1" i="1" lang="ru-RU" sz="2000" spc="-1" strike="noStrike">
                <a:solidFill>
                  <a:srgbClr val="ff0066"/>
                </a:solidFill>
                <a:latin typeface="Georgia"/>
              </a:rPr>
              <a:t>астролябия</a:t>
            </a:r>
            <a:r>
              <a:rPr b="0" i="1" lang="ru-RU" sz="2000" spc="-1" strike="noStrike">
                <a:solidFill>
                  <a:srgbClr val="0000ff"/>
                </a:solidFill>
                <a:latin typeface="Georgia"/>
              </a:rPr>
              <a:t> – инструмент для измерения высоты звёзд над уровнем горизо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502320" y="3429000"/>
            <a:ext cx="26416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6492960" y="0"/>
            <a:ext cx="265104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Христофор Колумб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родился в 145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оду в итальянском городе Гену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 14 лет – плавал юнгрой, изуч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ореходное дело, географ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атема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Летом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1492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года – каравел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«Санта - Мария», «Пинта», «Нинь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ышли из испанского порта Пал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ерез два месяца причалили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большому     остров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возгласили  его вла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спанского ко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 самой смерти Колумб был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 нашёл путь в Инд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Итальянский путешествен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Америго Веспуччи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– новый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онтин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ван в его 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19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2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2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2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7450"/>
                            </p:stCondLst>
                            <p:childTnLst>
                              <p:par>
                                <p:cTn id="2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9450"/>
                            </p:stCondLst>
                            <p:childTnLst>
                              <p:par>
                                <p:cTn id="24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25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2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2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28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2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2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эвм 6</dc:creator>
  <dc:description/>
  <dc:language>en-US</dc:language>
  <cp:lastModifiedBy>эвм 6</cp:lastModifiedBy>
  <dcterms:modified xsi:type="dcterms:W3CDTF">2020-03-26T08:2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