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695-1C3D-4FF4-A7AE-82035C3D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B61-BD3A-4976-97BC-6947275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F73-58DC-43FA-9E6F-031E909B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63D-790C-48E4-9CD6-3040E57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6E8-AA39-446C-BAD3-FD116B8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545-966C-4156-86C3-9014CB90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664-2D92-4DE1-9BF9-828B2FA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0C7-4642-4795-8BBB-48C5920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FDD-DFD9-4F84-B109-1D85AC5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C89-C8CE-4ABD-ABD7-2C17EEC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D81-48CD-45CA-B6EB-39534D1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B3B-BB3F-41E2-88A2-8082276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BA26-E91D-4FFB-AAD5-D4870CE1E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8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4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6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вм 6</dc:creator>
  <dc:description/>
  <dc:language>en-US</dc:language>
  <cp:lastModifiedBy>эвм 6</cp:lastModifiedBy>
  <dcterms:modified xsi:type="dcterms:W3CDTF">2020-03-26T08:2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