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CC45-B105-4AF3-848A-FC286A0B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AE9-DF10-48F6-8D3A-E0167FB4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1555-37B8-4A83-9960-E5BA82DF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354-1A11-41E0-A9C3-DA058813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F330-12ED-45D5-8186-92793656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BF7-DDD9-4E83-9388-5B01AC88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EC9E-21B0-4964-B6BD-010C6D0C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E2D-4FBF-421B-8EBF-7521755B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081-61D7-43DF-B9D1-9C54AEDC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BBA4-9F09-4237-9D7D-B8811D1D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E9B-7A88-475D-8030-A8573CE0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E17-BE9D-403B-BC2B-B4198460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0D41-23F8-4712-AEC6-B2FD1E01AD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228600" y="380880"/>
            <a:ext cx="8686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еликие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еографические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крытия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2039" t="0" r="0" b="260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аско Нуньес де Бальбоа обнаружи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что за американским континен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остирается море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Фернан Магеллан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решил до него добр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нтябре 1519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года во главе флотилии из пяти небольших кораблей Магеллан вышел из порта города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вилья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и взял курс на Бразилию. Проплыв на юг вдоль берегов Южной Америки, Магеллан нашёл узкий и извилистый пролив, по которому его корабли вышли в океан. Этот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олив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позже назвали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Магелано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6808680" y="0"/>
            <a:ext cx="2335320" cy="2971800"/>
          </a:xfrm>
          <a:prstGeom prst="rect">
            <a:avLst/>
          </a:prstGeom>
          <a:ln w="0">
            <a:noFill/>
          </a:ln>
        </p:spPr>
      </p:pic>
      <p:sp>
        <p:nvSpPr>
          <p:cNvPr id="74" name="WordArt 6"/>
          <p:cNvSpPr txBox="1"/>
          <p:nvPr/>
        </p:nvSpPr>
        <p:spPr>
          <a:xfrm>
            <a:off x="304920" y="304920"/>
            <a:ext cx="617220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Открытие Тихого океа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0" t="0" r="0" b="39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685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В </a:t>
            </a:r>
            <a:r>
              <a:rPr b="0" i="1" lang="en-US" sz="3200" spc="-1" strike="noStrike">
                <a:solidFill>
                  <a:srgbClr val="660066"/>
                </a:solidFill>
                <a:latin typeface="Georgia"/>
              </a:rPr>
              <a:t>XVII</a:t>
            </a: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 веке на просторы тихого океана вышли голланд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Открыли крупный остров - Новая Гвинея – и часть северного побережья Австрал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В 1642 году капитан Абел Тасман открыл большой остров к югу от Австралии, впоследствии названный в его честь Тасманией и Новую Зеланд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9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5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0" t="0" r="0" b="11108"/>
          <a:stretch/>
        </p:blipFill>
        <p:spPr>
          <a:xfrm>
            <a:off x="6553080" y="0"/>
            <a:ext cx="2590920" cy="335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165480" cy="3733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437920" y="15192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В 1648 году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емён Иванович Дежнёв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открыл пролив между Азией и Америкой, пройдя из Ледовитого океана в Тих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В 1740 году, капитан – командор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Витус Беринг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повторил путь Дежнёва, достигнув Северной Америки и открыл ряд островов Алеутской гря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4419720" y="2733840"/>
            <a:ext cx="4724280" cy="4124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3809880" y="0"/>
            <a:ext cx="2725920" cy="3276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5345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Англий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мореплав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жеймс Ку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пуст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есятиле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одтвер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точность кар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оставленных Берин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ук совершил три кругосве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утеше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ок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Новая Зеланди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а острова, а не один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з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л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ой Барьерный риф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ёс н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карту Тихог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еана сотни новых островов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юге открыл Гавайские остро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десь трагически поги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886200" y="1447920"/>
            <a:ext cx="5257800" cy="5410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654520" y="2743200"/>
            <a:ext cx="348948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5688000" y="0"/>
            <a:ext cx="3456000" cy="4648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5410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О присутствии в районе Южного полюса материка, догадывались ещё в древности. Его искали и Абел Тасман и Джеймс Ку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Нашли русские моряки – Фадей Фадеевич Беллинсгаузен и Михаил Петрович Лазаре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 1819 году экспедиция под их командованием на двух шлюпках – «Восток» и «Мирный» - отправились из Кронштад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Цель экспедиции –была достигнута. Мореплаватели увидели гористый берег. Так был открыт новый материк, покрытый вечными льда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первые человек ступил на землю Антарктиды только в 1895 год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 наше время находятся научно – исследовательские станции 24 государст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380880" y="53352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крытие Антаркти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9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51818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Норвежский исследователь Фритьоф Нансен в 1893 году на корабле «Фрам». За 500 километров до полюса корабль застрял во льдах, путешественник вернулся обратно пеш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Американец Роберт Эдвин Пири добрался до полюса на оленьих упряжк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7 сентября 1908 года. Водрузил Американский ф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304920" y="152280"/>
            <a:ext cx="5333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тие Северного полюс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5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2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895120" y="91440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Норвежец Руаль Амундсен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на эскимосских ездовых собаках и лёгких санях в меховой одежде отправился в 1911 году к Южному полюсу и достиг его 14 декаб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Английский офицер Роберт Фолкон Скотт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на маленьких лошадках-пони в шерстяной и брезентовой одежде тоже отправился к Южному полюсу и пришёл на месяц поз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 обратном пути англичане погиб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787480" cy="4038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0" y="4038480"/>
            <a:ext cx="2743200" cy="2819520"/>
          </a:xfrm>
          <a:prstGeom prst="rect">
            <a:avLst/>
          </a:prstGeom>
          <a:ln w="0">
            <a:noFill/>
          </a:ln>
        </p:spPr>
      </p:pic>
      <p:sp>
        <p:nvSpPr>
          <p:cNvPr id="99" name="WordArt 6"/>
          <p:cNvSpPr txBox="1"/>
          <p:nvPr/>
        </p:nvSpPr>
        <p:spPr>
          <a:xfrm>
            <a:off x="2895480" y="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тие южного полюс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жнё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емё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ван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Лазар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иха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т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Беллинсгауз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ад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ад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3429000" y="0"/>
            <a:ext cx="2658960" cy="2971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-6480" y="2057400"/>
            <a:ext cx="2560680" cy="3124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6319800" y="3505320"/>
            <a:ext cx="2824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280"/>
                            </p:stCondLst>
                            <p:childTnLst>
                              <p:par>
                                <p:cTn id="6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6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7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8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8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3581280" cy="5638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ущее человеку стремление к более глубокому познанию окружающего его мира повлекло за собой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ширение ареал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ивилизации. Люд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емились познакомитьс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жизнью разных народов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крыть новые неизвестны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ки и страны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шли сотни лет, прежд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появились современны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арты, суда, приборы для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ения безопасного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672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юди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утешествовали всегда. Много-много тысяч лет назад древние охотники пускались в путь, чтобы найти охотничьи угодья. Древние скотоводы вместе со своими стадами отправлялись в многодневные походы на поиски свежих пастбищ. Люди осваивали новые земли, пересекали пустыни и перебирались через горы, на лёгких лодочках переплывали моря и даже оке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Географические</a:t>
            </a: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открытия древ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3760" y="304560"/>
            <a:ext cx="335268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Самые первые карты выглядели как рисунки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Так, древний путешественник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пять тысяч лет назад изобразил на серебряной вазе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две реки, текущие с гор в озеро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горы, покрытые лесом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а по берегам рек —разных животных, которые там оби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495680" y="304920"/>
            <a:ext cx="4191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Прошло время, и люди научились писать.     Тогда путешественники стали записывать, где они побывали и что видели.</a:t>
            </a:r>
            <a:br>
              <a:rPr sz="2200"/>
            </a:b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Первым путешественником, чьё имя нам известно, был египтянин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Ханну.</a:t>
            </a:r>
            <a:r>
              <a:rPr b="1" lang="ru-RU" sz="2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На корабле он проплыл по Красному морю на юг, в страну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Пунт</a:t>
            </a: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, и вернулся в Египет с грузом благовоний и драгоценных камней. Рассказ о плавании Ханну был высечен на ска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28600" y="1792440"/>
            <a:ext cx="4572000" cy="3846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5715000"/>
            <a:ext cx="4800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3300"/>
                </a:solidFill>
                <a:latin typeface="Georgia"/>
              </a:rPr>
              <a:t>Король и короле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3300"/>
                </a:solidFill>
                <a:latin typeface="Georgia"/>
              </a:rPr>
              <a:t>страны Пу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868680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83688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67080" y="274320"/>
            <a:ext cx="464832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Замечательными путешественниками были финикийцы, жившие на берегу Средиземного моря. В древнем мире они были самыми искусными мореходами. Финикийцам удалось первыми обогнуть на кораблях Африку. </a:t>
            </a:r>
            <a:br>
              <a:rPr sz="2000"/>
            </a:br>
            <a:r>
              <a:rPr b="0" i="1" lang="ru-RU" sz="1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ни путешествовали три года. Осенью высаживались на берег, сеяли пшеницу, собирали урожай и снова двигались в путь.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Рассказ об этом записан древнегреческим историком Герод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7543800" cy="5638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На севере Европы, в Скандинавии, жили суровые викинги. Они строили хорошие корабли и уходили на них далеко в море в поисках новых земель и добычи. Суда викингов огибали Европу, они открыли Исландию, а в </a:t>
            </a:r>
            <a:r>
              <a:rPr b="0" i="1" lang="en-US" sz="2000" spc="-1" strike="noStrike">
                <a:solidFill>
                  <a:srgbClr val="0000ff"/>
                </a:solidFill>
                <a:latin typeface="Georgia"/>
              </a:rPr>
              <a:t>X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веке достигли Северной Америки 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и основали первые поселения. Потом этот путь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был забыт, и пять столетий спустя Колумбу 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пришлось заново открывать Амер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95280" y="4572000"/>
            <a:ext cx="381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аккар – корабль викингов. Нос корабля украшало резное изображение драк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6650"/>
                            </p:stCondLst>
                            <p:childTnLst>
                              <p:par>
                                <p:cTn id="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765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0" t="39579" r="1281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193840" cy="2666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0" y="26668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Georgia"/>
              </a:rPr>
              <a:t>Бартоломеу Ди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429000" y="152280"/>
            <a:ext cx="556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Индия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всегда представлялась жителям Европы сказочной страной, полной диковин и сокровищ. Она славилась пряностями и благовониями. Португальский мореплаватель Бартоломеу Диаш в 1487 году обогнул самую южную оконечность Африки и назвал её мысом Бу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296040" y="0"/>
            <a:ext cx="28479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608880" y="3962520"/>
            <a:ext cx="253512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304920" y="152280"/>
            <a:ext cx="647676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Морской путь в Индию вокруг Африки проложил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Васко да Гама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. Его экспедиция была тщательно подготовлена: четыре быстроходных корабля, лучшие навигационные приборы и опытные моря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богнув мыс Доброй Надежды, экспедиция направилась на север вдоль побережья Африки.   Через девять месяцев после начала плавания, майским днём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1498 года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, корабли прибыли в индийский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город Каликут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Местному правителю, жившему в роскошном дворце, не понравились скромные подарки португальцев, но он с любопытством слушал рассказы бородатых незнакомцев о далёких стра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риентироваться в море морякам помогали навигационные приборы, в том числе и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астролябия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– инструмент для измерения высоты звёзд над уровнем горизо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502320" y="3429000"/>
            <a:ext cx="26416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6492960" y="0"/>
            <a:ext cx="265104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Христофор Колумб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родился в 145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году в итальянском городе Гену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 14 лет – плавал юнгрой, изуч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ореходное дело, географи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темат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Летом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1492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года – каравел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Санта - Мария», «Пинта», «Нинь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ышли из испанского порта Пал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ерез два месяца причалили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большому     остров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возгласили  его влад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спанского ко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о самой смерти Колумб был увер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то нашёл путь в Инд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тальянский путешествен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Америго Веспуччи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– новый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нтин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зван в его ч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1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20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2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2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2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7450"/>
                            </p:stCondLst>
                            <p:childTnLst>
                              <p:par>
                                <p:cTn id="2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9450"/>
                            </p:stCondLst>
                            <p:childTnLst>
                              <p:par>
                                <p:cTn id="2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2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26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27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2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2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750"/>
                            </p:stCondLst>
                            <p:childTnLst>
                              <p:par>
                                <p:cTn id="2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эвм 6</dc:creator>
  <dc:description/>
  <dc:language>en-US</dc:language>
  <cp:lastModifiedBy>эвм 6</cp:lastModifiedBy>
  <dcterms:modified xsi:type="dcterms:W3CDTF">2020-03-26T08:24:0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