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3348-4F89-4909-8181-556EAF44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CEF-54FD-4F49-AF7A-17FC6261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8DE-85AB-4E7F-AF28-05B2C70B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94BF-BE8D-44A7-8344-F8621B1C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E0A7-75E5-42AF-A606-8E590684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1578-EA0B-4AB3-A4B0-6EEAC815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5210-1CFC-403A-9A78-A1762BFC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BB60-B835-404E-BCB1-B03E2B96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D8D3-2D46-47E8-A567-44F966CA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7313-7D03-4C5E-9BB8-0722BCC0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649E-E1E1-48A1-8EB1-D8F9D49E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8D0-C1F7-466C-867F-CC83C9CE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48D5-48CD-41DD-9B8A-E1D903F3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D356-14E1-498D-8456-F610E712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26F5-D46E-4C44-A5A4-A6F51E46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B1C0-4762-4D54-89F9-E2554C31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EAAD-A916-4A7E-B4D4-39EA6129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D90-9800-4AEB-ADF6-AA7D6FC2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529-A6B1-4C02-9D95-15BE195E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61B-866E-429B-80E7-CCBFA84A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7A9-F801-48A6-815B-D75BD461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4CC-6C73-403E-9074-F29E2B24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87A-A5D3-46C6-AA61-2D9F8152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727-901A-4526-AAEF-48D6206F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7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72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8405-C111-4E76-8E8D-9128266932F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7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72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196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2600" y="433476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3080" y="403812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0920" y="377928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1920" y="34628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1560" y="320832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720" y="292752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09280" y="266508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800" y="240552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3480" y="212112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78440" y="185472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9035-44E1-42EA-9E1E-CCB89FA9FD0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98840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800080"/>
                </a:solidFill>
                <a:latin typeface="AngsanaUPC"/>
              </a:rPr>
              <a:t>Уголовная и административная ответственность несовершеннолетних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4" descr="16499_20060222110031"/>
          <p:cNvPicPr/>
          <p:nvPr/>
        </p:nvPicPr>
        <p:blipFill>
          <a:blip r:embed="rId1"/>
          <a:stretch/>
        </p:blipFill>
        <p:spPr>
          <a:xfrm>
            <a:off x="2340000" y="2997360"/>
            <a:ext cx="487980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60093"/>
                </a:solidFill>
                <a:latin typeface="Arial"/>
              </a:rPr>
              <a:t>Конец презентаци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7" name="Рисунок 3" descr="На главную страницу: КонсультантПлюс - общероссийская сеть распространения правовой информации"/>
          <p:cNvPicPr/>
          <p:nvPr/>
        </p:nvPicPr>
        <p:blipFill>
          <a:blip r:embed="rId1"/>
          <a:stretch/>
        </p:blipFill>
        <p:spPr>
          <a:xfrm>
            <a:off x="826920" y="476280"/>
            <a:ext cx="2376720" cy="20160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" descr="http://go1.imgsmail.ru/imgpreview?key=http%3A//xn--80aa1bj.xn--p1ai/uploads/posts/2012-07/1341889380%5F2.jpg&amp;mb=imgdb_preview_388"/>
          <p:cNvPicPr/>
          <p:nvPr/>
        </p:nvPicPr>
        <p:blipFill>
          <a:blip r:embed="rId2"/>
          <a:stretch/>
        </p:blipFill>
        <p:spPr>
          <a:xfrm>
            <a:off x="4500720" y="3645000"/>
            <a:ext cx="3735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Законы нужны не только для того, чтобы устрашать граждан, но и для того, чтобы помогать им». А. Вольтер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4" descr="2505_picture"/>
          <p:cNvPicPr/>
          <p:nvPr/>
        </p:nvPicPr>
        <p:blipFill>
          <a:blip r:embed="rId1"/>
          <a:stretch/>
        </p:blipFill>
        <p:spPr>
          <a:xfrm>
            <a:off x="1187280" y="2197080"/>
            <a:ext cx="633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1 января 1997 года введен новый Уголовный кодекс РФ, в котором есть специальный раздел, посвященный уголовной ответственности несовершеннолетних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284720" y="2133360"/>
            <a:ext cx="44020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Несовершеннолетние, достигшие 14 и 16 лет, в достаточной мере могут осмысливать свои действия, признаваемые законом преступлениями, осознавать их общественную опас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Рисунок 7" descr="http://img1.labirint.ru/books/123189/big.jpg"/>
          <p:cNvPicPr/>
          <p:nvPr/>
        </p:nvPicPr>
        <p:blipFill>
          <a:blip r:embed="rId1"/>
          <a:stretch/>
        </p:blipFill>
        <p:spPr>
          <a:xfrm>
            <a:off x="395280" y="2133720"/>
            <a:ext cx="3384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 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дминистративным правонарушением признаётся противоправное, виновное действие (бездействие) физического или юридического лица, за которое установлена административная ответственность (ч. 1 ст. 2.1 КоАП РФ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402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дминистративной ответственности подлежит лицо, достигшее к моменту совершения правонарушения возраста 16 лет (ч.1 ст. 2.3. КоАП РФ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дминистративное наказание применяется в целях предупреждения совершения новых правонарушений в ст. 3.2 КоАП РФ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Дела об административных правонарушениях несовершеннолетних рассматриваются комиссиями по делам несовершеннолетних и защите их прав (ч. 1 ст. 23.2 КоАП РФ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Рисунок 8" descr="http://img1.labirint.ru/books/105473/big.jpg"/>
          <p:cNvPicPr/>
          <p:nvPr/>
        </p:nvPicPr>
        <p:blipFill>
          <a:blip r:embed="rId1"/>
          <a:stretch/>
        </p:blipFill>
        <p:spPr>
          <a:xfrm>
            <a:off x="611280" y="2149560"/>
            <a:ext cx="35290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    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головная ответствен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в России в полном объёме наступает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16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4328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т. 20, ч. 2 УК Р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Уголовной ответственности подлежит  лицо, достигшее ко времени совершения преступления шестнадцатилетнего возраста а за отдельные из них - с 14 ле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Picture 5" descr="24948"/>
          <p:cNvPicPr/>
          <p:nvPr/>
        </p:nvPicPr>
        <p:blipFill>
          <a:blip r:embed="rId1"/>
          <a:stretch/>
        </p:blipFill>
        <p:spPr>
          <a:xfrm>
            <a:off x="517680" y="1773360"/>
            <a:ext cx="39830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совершеннолетними согласно ст. 87 УК РФ признаются лица, которым ко времени совершения преступления исполнилось 14, но не исполнилось 18 лет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3280" y="1916280"/>
            <a:ext cx="40435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ступок –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то нарушение общепризнанных правил поведения; вызывающее поведе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равонарушение – это нарушение закона, за него наступает административная ответственно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реступление – это грубое нарушение закона. Все возможные преступления собраны в Уголовном Кодексе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7" name="Рисунок 4" descr="http://go1.imgsmail.ru/imgpreview?key=http%3A//18.mvd.ru/upload/site22/document%5Fimages/7234b4809263fa52ae2f439b4fe3b51e-800x600.jpg&amp;mb=imgdb_preview_2045"/>
          <p:cNvPicPr/>
          <p:nvPr/>
        </p:nvPicPr>
        <p:blipFill>
          <a:blip r:embed="rId1"/>
          <a:stretch/>
        </p:blipFill>
        <p:spPr>
          <a:xfrm>
            <a:off x="131760" y="2421000"/>
            <a:ext cx="436896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ца, достигшие ко времени совершения преступления 14-летнего возраста, подлежат уголовной ответственности за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бийство (ст. 105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мышленное причинение тяжкого вреда здоровью (ст. 111 УК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похищение человека (ст. 12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изнасилование (ст. 131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кража(ст.158УК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грабёж (ст. 161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разбой (ст. 162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вымогательство (ст. 163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неправомерное завладение автомобилем или иным транспортным средством без цели хищения (ст. 16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мышленное уничтожение или повреждение имущества при отягчающих обстоятельствах (ст. 167 ч.2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терроризм (ст. 205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захват заложника (ст. 20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заведомо ложное сообщение об акте терроризма (ст.207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улиганство при отягчающих обстоятельствах (ст.213 ч,2,3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вандализм (ст.214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ищение, либо вымогательство оружия, боеприпасов, взрывчатых веществ и взрывных устройств (ст.22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ищение, либо вымогательство наркотических средств или психотропных веществ (ст.229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приведение в негодность транспортных средств или путей сообщения (ст.267 УК РФ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Рисунок 3" descr="http://go2.imgsmail.ru/imgpreview?key=http%3A//img.nr2.ru/pict/arts1/r19/dop1/10/11/15.jpg&amp;mb=imgdb_preview_144"/>
          <p:cNvPicPr/>
          <p:nvPr/>
        </p:nvPicPr>
        <p:blipFill>
          <a:blip r:embed="rId1"/>
          <a:stretch/>
        </p:blipFill>
        <p:spPr>
          <a:xfrm>
            <a:off x="6588000" y="1341360"/>
            <a:ext cx="22003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менение принудительных мер воспитательного воздейств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а) предупреждени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б) передача под надзор родителей или лиц, их заменяющих, либо специализированного государственного орган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) возложение обязанности загладить причиненный вред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г) ограничение досуга и установление особых требований к поведению несовершеннолетнего.      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К предусмотрены следующие виды наказаний, назначаемые несовершеннолетним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а) Штраф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б) Лишение права заниматься определенной деятельность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) Обязательные работ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г) Исправительные работ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д) Арест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е) Лишение свободы на определенный сро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4</dc:creator>
  <dc:description/>
  <dc:language>en-US</dc:language>
  <cp:lastModifiedBy>1234</cp:lastModifiedBy>
  <dcterms:modified xsi:type="dcterms:W3CDTF">2020-03-25T09:20:16Z</dcterms:modified>
  <cp:revision>1</cp:revision>
  <dc:subject/>
  <dc:title>Уголовная и административная ответственность несовершеннолетних</dc:title>
</cp:coreProperties>
</file>