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16BB-1AEA-4AD4-AB16-265DE36A9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A6CA-93AD-4F91-8D8B-DA257B13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539E-F8B7-4879-B6FC-E25EB56E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64B8-BC59-4FC9-B92B-0AE7D7362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CF21-C1CF-40FD-B5D5-6101EF8B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821C-F41E-40A6-9089-D9EBE415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0E4D-6F81-4968-8FE2-32F59A39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62FD-46AD-4BF7-AC71-2F416826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F612-2AF1-472A-BCF3-B72B6F00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87BF-54B3-4E00-8807-7D7B504D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C030-B2BE-479B-BE80-426ACE9C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8D11-3927-4417-85B4-B32C1AD1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A909-4BC4-4BA4-8373-963FE556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AC1C-F58A-461C-9DE2-D7B60095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E93B-C13C-44D2-9FB6-3DDE09E2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A73F-77F3-4366-8857-252A1DA5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51F3-9049-4B2E-8FBD-20D53E726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F81C-D1BB-491D-A2B2-8F067899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0B8C-3C23-49AC-B6F2-CC77E71E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7C13-55F4-4115-9F79-2BB24DF6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9C1A-CCFE-4FAC-9BB1-AE23A25B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8B2A-6AFB-4375-A40E-329ED7A3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5D9F-E96A-4A88-B71E-0964E842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BA40-558C-4B01-8459-60124359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7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72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2400" y="448560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76360" y="429840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56840" y="400176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64680" y="374292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63880" y="3426120"/>
                            <a:ext cx="1247760" cy="23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75320" y="317196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040" y="2891160"/>
                            <a:ext cx="185292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3040" y="262872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599120" y="236916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5800" y="2084760"/>
                            <a:ext cx="271620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2200" y="181836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0640" y="428364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436E-B598-4008-A3EE-CCB209BE988C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7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72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5120" y="452196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2600" y="433476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3080" y="403812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0920" y="377928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1920" y="346284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1560" y="320832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720" y="2927520"/>
                            <a:ext cx="185292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09280" y="266508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6800" y="2405520"/>
                            <a:ext cx="2481120" cy="4280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3480" y="2121120"/>
                            <a:ext cx="271620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78440" y="185472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960" y="2141280"/>
                <a:ext cx="493920" cy="494280"/>
                <a:chOff x="4728960" y="2141280"/>
                <a:chExt cx="493920" cy="49428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480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432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4E46-5880-4C09-A9FB-7A797480826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7988400" cy="21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800080"/>
                </a:solidFill>
                <a:latin typeface="AngsanaUPC"/>
              </a:rPr>
              <a:t>Уголовная и административная ответственность несовершеннолетних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03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Picture 4" descr="16499_20060222110031"/>
          <p:cNvPicPr/>
          <p:nvPr/>
        </p:nvPicPr>
        <p:blipFill>
          <a:blip r:embed="rId1"/>
          <a:stretch/>
        </p:blipFill>
        <p:spPr>
          <a:xfrm>
            <a:off x="2340000" y="2997360"/>
            <a:ext cx="4879800" cy="33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95280" y="2565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d60093"/>
                </a:solidFill>
                <a:latin typeface="Arial"/>
              </a:rPr>
              <a:t>Конец презентаци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7" name="Рисунок 3" descr="На главную страницу: КонсультантПлюс - общероссийская сеть распространения правовой информации"/>
          <p:cNvPicPr/>
          <p:nvPr/>
        </p:nvPicPr>
        <p:blipFill>
          <a:blip r:embed="rId1"/>
          <a:stretch/>
        </p:blipFill>
        <p:spPr>
          <a:xfrm>
            <a:off x="826920" y="476280"/>
            <a:ext cx="2376720" cy="201600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4" descr="http://go1.imgsmail.ru/imgpreview?key=http%3A//xn--80aa1bj.xn--p1ai/uploads/posts/2012-07/1341889380%5F2.jpg&amp;mb=imgdb_preview_388"/>
          <p:cNvPicPr/>
          <p:nvPr/>
        </p:nvPicPr>
        <p:blipFill>
          <a:blip r:embed="rId2"/>
          <a:stretch/>
        </p:blipFill>
        <p:spPr>
          <a:xfrm>
            <a:off x="4500720" y="3645000"/>
            <a:ext cx="37353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Законы нужны не только для того, чтобы устрашать граждан, но и для того, чтобы помогать им». А. Вольтер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Picture 4" descr="2505_picture"/>
          <p:cNvPicPr/>
          <p:nvPr/>
        </p:nvPicPr>
        <p:blipFill>
          <a:blip r:embed="rId1"/>
          <a:stretch/>
        </p:blipFill>
        <p:spPr>
          <a:xfrm>
            <a:off x="1187280" y="2197080"/>
            <a:ext cx="6337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 1 января 1997 года введен новый Уголовный кодекс РФ, в котором есть специальный раздел, посвященный уголовной ответственности несовершеннолетних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284720" y="2133360"/>
            <a:ext cx="44020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Несовершеннолетние, достигшие 14 и 16 лет, в достаточной мере могут осмысливать свои действия, признаваемые законом преступлениями, осознавать их общественную опаснос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8" name="Рисунок 7" descr="http://img1.labirint.ru/books/123189/big.jpg"/>
          <p:cNvPicPr/>
          <p:nvPr/>
        </p:nvPicPr>
        <p:blipFill>
          <a:blip r:embed="rId1"/>
          <a:stretch/>
        </p:blipFill>
        <p:spPr>
          <a:xfrm>
            <a:off x="395280" y="2133720"/>
            <a:ext cx="33847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      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дминистративным правонарушением признаётся противоправное, виновное действие (бездействие) физического или юридического лица, за которое установлена административная ответственность (ч. 1 ст. 2.1 КоАП РФ)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284720" y="1700280"/>
            <a:ext cx="4402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Административной ответственности подлежит лицо, достигшее к моменту совершения правонарушения возраста 16 лет (ч.1 ст. 2.3. КоАП РФ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Административное наказание применяется в целях предупреждения совершения новых правонарушений в ст. 3.2 КоАП РФ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Дела об административных правонарушениях несовершеннолетних рассматриваются комиссиями по делам несовершеннолетних и защите их прав (ч. 1 ст. 23.2 КоАП РФ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1" name="Рисунок 8" descr="http://img1.labirint.ru/books/105473/big.jpg"/>
          <p:cNvPicPr/>
          <p:nvPr/>
        </p:nvPicPr>
        <p:blipFill>
          <a:blip r:embed="rId1"/>
          <a:stretch/>
        </p:blipFill>
        <p:spPr>
          <a:xfrm>
            <a:off x="611280" y="2149560"/>
            <a:ext cx="352908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        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Уголовная ответственн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в России в полном объёме наступает 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 16 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43280" y="1599840"/>
            <a:ext cx="404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Ст. 20, ч. 2 УК РФ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Уголовной ответственности подлежит  лицо, достигшее ко времени совершения преступления шестнадцатилетнего возраста а за отдельные из них - с 14 лет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4" name="Picture 5" descr="24948"/>
          <p:cNvPicPr/>
          <p:nvPr/>
        </p:nvPicPr>
        <p:blipFill>
          <a:blip r:embed="rId1"/>
          <a:stretch/>
        </p:blipFill>
        <p:spPr>
          <a:xfrm>
            <a:off x="517680" y="1773360"/>
            <a:ext cx="39830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есовершеннолетними согласно ст. 87 УК РФ признаются лица, которым ко времени совершения преступления исполнилось 14, но не исполнилось 18 лет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43280" y="1916280"/>
            <a:ext cx="40435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оступок –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это нарушение общепризнанных правил поведения; вызывающее поведени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Правонарушение – это нарушение закона, за него наступает административная ответственност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Преступление – это грубое нарушение закона. Все возможные преступления собраны в Уголовном Кодексе Российской Федераци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7" name="Рисунок 4" descr="http://go1.imgsmail.ru/imgpreview?key=http%3A//18.mvd.ru/upload/site22/document%5Fimages/7234b4809263fa52ae2f439b4fe3b51e-800x600.jpg&amp;mb=imgdb_preview_2045"/>
          <p:cNvPicPr/>
          <p:nvPr/>
        </p:nvPicPr>
        <p:blipFill>
          <a:blip r:embed="rId1"/>
          <a:stretch/>
        </p:blipFill>
        <p:spPr>
          <a:xfrm>
            <a:off x="131760" y="2421000"/>
            <a:ext cx="436896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ица, достигшие ко времени совершения преступления 14-летнего возраста, подлежат уголовной ответственности за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убийство (ст. 105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умышленное причинение тяжкого вреда здоровью (ст. 111 УК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похищение человека (ст. 126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изнасилование (ст. 131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кража(ст.158УК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грабёж (ст. 161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разбой (ст. 162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вымогательство (ст. 163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неправомерное завладение автомобилем или иным транспортным средством без цели хищения (ст. 166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умышленное уничтожение или повреждение имущества при отягчающих обстоятельствах (ст. 167 ч.2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терроризм (ст. 205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захват заложника (ст. 206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заведомо ложное сообщение об акте терроризма (ст.207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хулиганство при отягчающих обстоятельствах (ст.213 ч,2,3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вандализм (ст.214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хищение, либо вымогательство оружия, боеприпасов, взрывчатых веществ и взрывных устройств (ст.226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хищение, либо вымогательство наркотических средств или психотропных веществ (ст.229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приведение в негодность транспортных средств или путей сообщения (ст.267 УК РФ)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0" name="Рисунок 3" descr="http://go2.imgsmail.ru/imgpreview?key=http%3A//img.nr2.ru/pict/arts1/r19/dop1/10/11/15.jpg&amp;mb=imgdb_preview_144"/>
          <p:cNvPicPr/>
          <p:nvPr/>
        </p:nvPicPr>
        <p:blipFill>
          <a:blip r:embed="rId1"/>
          <a:stretch/>
        </p:blipFill>
        <p:spPr>
          <a:xfrm>
            <a:off x="6588000" y="1341360"/>
            <a:ext cx="220032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именение принудительных мер воспитательного воздейств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а) предупреждение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б) передача под надзор родителей или лиц, их заменяющих, либо специализированного государственного орган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в) возложение обязанности загладить причиненный вред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г) ограничение досуга и установление особых требований к поведению несовершеннолетнего.       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УК предусмотрены следующие виды наказаний, назначаемые несовершеннолетним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а) Штраф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б) Лишение права заниматься определенной деятельностью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в) Обязательные работы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г) Исправительные работы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д) Арест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е) Лишение свободы на определенный сро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234</dc:creator>
  <dc:description/>
  <dc:language>en-US</dc:language>
  <cp:lastModifiedBy>1234</cp:lastModifiedBy>
  <dcterms:modified xsi:type="dcterms:W3CDTF">2020-03-25T09:20:16Z</dcterms:modified>
  <cp:revision>1</cp:revision>
  <dc:subject/>
  <dc:title>Уголовная и административная ответственность несовершеннолетних</dc:title>
</cp:coreProperties>
</file>