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2F2-A1C1-48C7-A861-DFC5C330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016-2DAD-4AF7-B6DD-517F0807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FF5-1237-416A-B23C-2522330B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604-D10C-439C-8CE1-BDC2E836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1E93-3227-4B4A-8C02-DF16CAE7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69D8-6855-46A4-B408-737B2197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6BA2-7025-49E2-BEA5-95DCBAB4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6046-0F24-4609-8EE7-3EE498FA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EBA7-F8F5-470C-B8A0-800C01D4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E177-B0C6-4274-8B80-8B0280B1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99BE-781F-4808-B651-A4D612E6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D98-5BBA-46AD-AE4B-14CA61E2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8166-5B8B-4582-B934-6949F41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7CBA-E5B9-4B3E-9D06-6C9FA7E9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19D5-C38F-4A35-9957-1FF4CE1E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0D11-B1D2-44DA-AEC7-C73CFDBF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755A-3445-4774-A3D1-F791109D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A98-2B9B-4450-B3EF-BC6A995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61C-10AD-40E8-83CE-7D466DD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169-047C-4CC3-998E-3F5647F7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79A-8181-4DC2-8764-C66C8B77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6F1-9671-4D6C-8B00-DBEFEFF9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081-D5B9-4776-A5BF-C57A82B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E0D-A8D3-423D-ADCD-94E41C4F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010C-64F1-46E7-B99E-72D854A0755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96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2600" y="43347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3080" y="40381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0920" y="37792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1920" y="3462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1560" y="32083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720" y="292752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09280" y="26650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52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8440" y="18547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7099-2C32-4768-A51D-0986BDD016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884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800080"/>
                </a:solidFill>
                <a:latin typeface="AngsanaUPC"/>
              </a:rPr>
              <a:t>Уголовная и администрати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16499_20060222110031"/>
          <p:cNvPicPr/>
          <p:nvPr/>
        </p:nvPicPr>
        <p:blipFill>
          <a:blip r:embed="rId1"/>
          <a:stretch/>
        </p:blipFill>
        <p:spPr>
          <a:xfrm>
            <a:off x="2340000" y="2997360"/>
            <a:ext cx="48798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Рисунок 3" descr="На главную страницу: КонсультантПлюс - общероссийская сеть распространения правовой информации"/>
          <p:cNvPicPr/>
          <p:nvPr/>
        </p:nvPicPr>
        <p:blipFill>
          <a:blip r:embed="rId1"/>
          <a:stretch/>
        </p:blipFill>
        <p:spPr>
          <a:xfrm>
            <a:off x="826920" y="47628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http://go1.imgsmail.ru/imgpreview?key=http%3A//xn--80aa1bj.xn--p1ai/uploads/posts/2012-07/1341889380%5F2.jpg&amp;mb=imgdb_preview_388"/>
          <p:cNvPicPr/>
          <p:nvPr/>
        </p:nvPicPr>
        <p:blipFill>
          <a:blip r:embed="rId2"/>
          <a:stretch/>
        </p:blipFill>
        <p:spPr>
          <a:xfrm>
            <a:off x="4500720" y="3645000"/>
            <a:ext cx="3735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Законы нужны не только для того, чтобы устрашать граждан, но и для того, чтобы помогать им». А. Вольтер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4" descr="2505_picture"/>
          <p:cNvPicPr/>
          <p:nvPr/>
        </p:nvPicPr>
        <p:blipFill>
          <a:blip r:embed="rId1"/>
          <a:stretch/>
        </p:blipFill>
        <p:spPr>
          <a:xfrm>
            <a:off x="1187280" y="2197080"/>
            <a:ext cx="63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4720" y="2133360"/>
            <a:ext cx="44020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Несовершеннолетние, достигшие 14 и 16 лет, в достаточной мере могут осмысливать свои действия, признаваемые законом преступлениями, осознавать их общественную опас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Рисунок 7" descr="http://img1.labirint.ru/books/123189/big.jpg"/>
          <p:cNvPicPr/>
          <p:nvPr/>
        </p:nvPicPr>
        <p:blipFill>
          <a:blip r:embed="rId1"/>
          <a:stretch/>
        </p:blipFill>
        <p:spPr>
          <a:xfrm>
            <a:off x="395280" y="2133720"/>
            <a:ext cx="338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дминистративным правонарушением признаётся противоправное, виновное действие (бездействие) физического или юридического лица, за которое установлена административная ответственность (ч. 1 ст. 2.1 КоАП РФ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й ответственности подлежит лицо, достигшее к моменту совершения правонарушения возраста 16 лет (ч.1 ст. 2.3. КоАП РФ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е наказание применяется в целях предупреждения совершения новых правонарушений в ст. 3.2 КоАП РФ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ела об административных правонарушениях несовершеннолетних рассматриваются комиссиями по делам несовершеннолетних и защите их прав (ч. 1 ст. 23.2 КоАП РФ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Рисунок 8" descr="http://img1.labirint.ru/books/105473/big.jpg"/>
          <p:cNvPicPr/>
          <p:nvPr/>
        </p:nvPicPr>
        <p:blipFill>
          <a:blip r:embed="rId1"/>
          <a:stretch/>
        </p:blipFill>
        <p:spPr>
          <a:xfrm>
            <a:off x="611280" y="2149560"/>
            <a:ext cx="3529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 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головная ответ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в России в полном объёме наступает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6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. 20, ч. 2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 а за отдельные из них - с 14 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5" descr="24948"/>
          <p:cNvPicPr/>
          <p:nvPr/>
        </p:nvPicPr>
        <p:blipFill>
          <a:blip r:embed="rId1"/>
          <a:stretch/>
        </p:blipFill>
        <p:spPr>
          <a:xfrm>
            <a:off x="517680" y="1773360"/>
            <a:ext cx="3983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овершеннолетними согласно ст. 87 УК РФ признаются лица, которым ко времени совершения преступления исполнилось 14, но не исполнилось 18 ле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40435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тупок –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то нарушение общепризнанных правил поведения; вызывающее поведе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авонарушение – это нарушение закона, за него наступает административная ответствен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еступление – это грубое нарушение закона. Все возможные преступления собраны в Уголовном Кодексе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Рисунок 4" descr="http://go1.imgsmail.ru/imgpreview?key=http%3A//18.mvd.ru/upload/site22/document%5Fimages/7234b4809263fa52ae2f439b4fe3b51e-800x600.jpg&amp;mb=imgdb_preview_2045"/>
          <p:cNvPicPr/>
          <p:nvPr/>
        </p:nvPicPr>
        <p:blipFill>
          <a:blip r:embed="rId1"/>
          <a:stretch/>
        </p:blipFill>
        <p:spPr>
          <a:xfrm>
            <a:off x="131760" y="2421000"/>
            <a:ext cx="43689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а, достигшие ко времени совершения преступления 14-летнего возраста, подлежат уголовной ответственности з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бийство (ст. 1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причинение тяжкого вреда здоровью (ст. 111 УК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охищение человека (ст. 1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изнасилование (ст. 13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кража(ст.158УК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грабёж (ст. 16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азбой (ст. 16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ымогательство (ст. 16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неправомерное завладение автомобилем или иным транспортным средством без цели хищения (ст. 16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уничтожение или повреждение имущества при отягчающих обстоятельствах (ст. 167 ч.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терроризм (ст. 2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хват заложника (ст. 20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ведомо ложное сообщение об акте терроризма (ст.207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улиганство при отягчающих обстоятельствах (ст.213 ч,2,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андализм (ст.214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оружия, боеприпасов, взрывчатых веществ и взрывных устройств (ст.2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наркотических средств или психотропных веществ (ст.229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риведение в негодность транспортных средств или путей сообщения (ст.267 УК РФ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Рисунок 3" descr="http://go2.imgsmail.ru/imgpreview?key=http%3A//img.nr2.ru/pict/arts1/r19/dop1/10/11/15.jpg&amp;mb=imgdb_preview_144"/>
          <p:cNvPicPr/>
          <p:nvPr/>
        </p:nvPicPr>
        <p:blipFill>
          <a:blip r:embed="rId1"/>
          <a:stretch/>
        </p:blipFill>
        <p:spPr>
          <a:xfrm>
            <a:off x="6588000" y="1341360"/>
            <a:ext cx="2200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менение принудительных мер воспитательного воз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 или лиц, их заменяющих, либо специализированного государственного орга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 несовершеннолетнего.      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К предусмотрены следующие виды наказаний, назначаемые несовершеннолетним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1234</cp:lastModifiedBy>
  <dcterms:modified xsi:type="dcterms:W3CDTF">2020-03-25T09:20:16Z</dcterms:modified>
  <cp:revision>1</cp:revision>
  <dc:subject/>
  <dc:title>Уголовная и административная ответственность несовершеннолетних</dc:title>
</cp:coreProperties>
</file>