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7E7-5749-4656-815F-68BEC7C0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F05-303A-44B4-9549-8AEE2CDA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F54-16D1-489B-AF4C-7094B3A7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4FE-7B1D-42F2-A424-9CFE8340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F4FC-5590-41D2-A549-74452EC7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F69E-E022-450C-9B55-618A7A1A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6801-0D08-44C2-B562-2F9CB59C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B8B9-C38A-4CFE-8E08-9C0DF427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F6AD-8505-4B02-8739-68102FF5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6EB2-00DE-4E42-A285-EFDA2975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80ED-93CB-4FA5-B4D6-4F263829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909-1DE9-4308-8254-49733764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D78C-DBD1-4E8D-B441-838A5980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4603-8731-4EC5-A1C2-CD853EAC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C168-06B9-4374-B44C-37773366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9AE2-27CE-4854-BE54-A97BDDAF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8DAA-903C-4735-89A0-3DE1B598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1E7-118D-4B3A-B3EE-C0DBB733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872-5341-42B7-AB51-9DA6305D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C61-FBEB-43D5-9B95-5277A783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51A-AA23-4FF9-8536-1A5F7DFD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968-9895-4537-BE1A-3C01F3B3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AD8-DAF1-4FA3-AAF6-C7709873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905-16A0-4AB2-AF9C-CF453F97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7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72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55B0-75BA-47B8-875B-D6D7F832509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7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72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196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2600" y="43347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3080" y="40381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0920" y="37792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1920" y="34628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1560" y="32083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720" y="292752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09280" y="26650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800" y="240552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3480" y="212112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78440" y="18547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41AD-15E2-49EE-8231-5AB0C99F89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98840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800080"/>
                </a:solidFill>
                <a:latin typeface="AngsanaUPC"/>
              </a:rPr>
              <a:t>Уголовная и административная ответственность несовершеннолетних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4" descr="16499_20060222110031"/>
          <p:cNvPicPr/>
          <p:nvPr/>
        </p:nvPicPr>
        <p:blipFill>
          <a:blip r:embed="rId1"/>
          <a:stretch/>
        </p:blipFill>
        <p:spPr>
          <a:xfrm>
            <a:off x="2340000" y="2997360"/>
            <a:ext cx="487980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60093"/>
                </a:solidFill>
                <a:latin typeface="Arial"/>
              </a:rPr>
              <a:t>Конец презентаци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Рисунок 3" descr="На главную страницу: КонсультантПлюс - общероссийская сеть распространения правовой информации"/>
          <p:cNvPicPr/>
          <p:nvPr/>
        </p:nvPicPr>
        <p:blipFill>
          <a:blip r:embed="rId1"/>
          <a:stretch/>
        </p:blipFill>
        <p:spPr>
          <a:xfrm>
            <a:off x="826920" y="476280"/>
            <a:ext cx="2376720" cy="20160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http://go1.imgsmail.ru/imgpreview?key=http%3A//xn--80aa1bj.xn--p1ai/uploads/posts/2012-07/1341889380%5F2.jpg&amp;mb=imgdb_preview_388"/>
          <p:cNvPicPr/>
          <p:nvPr/>
        </p:nvPicPr>
        <p:blipFill>
          <a:blip r:embed="rId2"/>
          <a:stretch/>
        </p:blipFill>
        <p:spPr>
          <a:xfrm>
            <a:off x="4500720" y="3645000"/>
            <a:ext cx="3735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Законы нужны не только для того, чтобы устрашать граждан, но и для того, чтобы помогать им». А. Вольтер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4" descr="2505_picture"/>
          <p:cNvPicPr/>
          <p:nvPr/>
        </p:nvPicPr>
        <p:blipFill>
          <a:blip r:embed="rId1"/>
          <a:stretch/>
        </p:blipFill>
        <p:spPr>
          <a:xfrm>
            <a:off x="1187280" y="2197080"/>
            <a:ext cx="633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 января 1997 года введен новый Уголовный кодекс РФ, в котором есть специальный раздел, посвященный уголовной ответственности несовершеннолетних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84720" y="2133360"/>
            <a:ext cx="44020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Несовершеннолетние, достигшие 14 и 16 лет, в достаточной мере могут осмысливать свои действия, признаваемые законом преступлениями, осознавать их общественную опас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Рисунок 7" descr="http://img1.labirint.ru/books/123189/big.jpg"/>
          <p:cNvPicPr/>
          <p:nvPr/>
        </p:nvPicPr>
        <p:blipFill>
          <a:blip r:embed="rId1"/>
          <a:stretch/>
        </p:blipFill>
        <p:spPr>
          <a:xfrm>
            <a:off x="395280" y="2133720"/>
            <a:ext cx="338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дминистративным правонарушением признаётся противоправное, виновное действие (бездействие) физического или юридического лица, за которое установлена административная ответственность (ч. 1 ст. 2.1 КоАП РФ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402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дминистративной ответственности подлежит лицо, достигшее к моменту совершения правонарушения возраста 16 лет (ч.1 ст. 2.3. КоАП РФ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дминистративное наказание применяется в целях предупреждения совершения новых правонарушений в ст. 3.2 КоАП РФ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ела об административных правонарушениях несовершеннолетних рассматриваются комиссиями по делам несовершеннолетних и защите их прав (ч. 1 ст. 23.2 КоАП РФ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Рисунок 8" descr="http://img1.labirint.ru/books/105473/big.jpg"/>
          <p:cNvPicPr/>
          <p:nvPr/>
        </p:nvPicPr>
        <p:blipFill>
          <a:blip r:embed="rId1"/>
          <a:stretch/>
        </p:blipFill>
        <p:spPr>
          <a:xfrm>
            <a:off x="611280" y="2149560"/>
            <a:ext cx="35290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 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головная ответствен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в России в полном объёме наступает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6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т. 20, ч. 2 УК Р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Уголовной ответственности подлежит  лицо, достигшее ко времени совершения преступления шестнадцатилетнего возраста а за отдельные из них - с 14 ле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Picture 5" descr="24948"/>
          <p:cNvPicPr/>
          <p:nvPr/>
        </p:nvPicPr>
        <p:blipFill>
          <a:blip r:embed="rId1"/>
          <a:stretch/>
        </p:blipFill>
        <p:spPr>
          <a:xfrm>
            <a:off x="517680" y="1773360"/>
            <a:ext cx="3983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совершеннолетними согласно ст. 87 УК РФ признаются лица, которым ко времени совершения преступления исполнилось 14, но не исполнилось 18 лет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40435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ступок –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то нарушение общепризнанных правил поведения; вызывающее поведе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авонарушение – это нарушение закона, за него наступает административная ответственн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еступление – это грубое нарушение закона. Все возможные преступления собраны в Уголовном Кодексе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Рисунок 4" descr="http://go1.imgsmail.ru/imgpreview?key=http%3A//18.mvd.ru/upload/site22/document%5Fimages/7234b4809263fa52ae2f439b4fe3b51e-800x600.jpg&amp;mb=imgdb_preview_2045"/>
          <p:cNvPicPr/>
          <p:nvPr/>
        </p:nvPicPr>
        <p:blipFill>
          <a:blip r:embed="rId1"/>
          <a:stretch/>
        </p:blipFill>
        <p:spPr>
          <a:xfrm>
            <a:off x="131760" y="2421000"/>
            <a:ext cx="436896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а, достигшие ко времени совершения преступления 14-летнего возраста, подлежат уголовной ответственности за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бийство (ст. 105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мышленное причинение тяжкого вреда здоровью (ст. 111 УК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охищение человека (ст. 12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изнасилование (ст. 131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кража(ст.158УК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грабёж (ст. 161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разбой (ст. 162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ымогательство (ст. 163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неправомерное завладение автомобилем или иным транспортным средством без цели хищения (ст. 16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мышленное уничтожение или повреждение имущества при отягчающих обстоятельствах (ст. 167 ч.2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терроризм (ст. 205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хват заложника (ст. 20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ведомо ложное сообщение об акте терроризма (ст.207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улиганство при отягчающих обстоятельствах (ст.213 ч,2,3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андализм (ст.214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ищение, либо вымогательство оружия, боеприпасов, взрывчатых веществ и взрывных устройств (ст.22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ищение, либо вымогательство наркотических средств или психотропных веществ (ст.229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риведение в негодность транспортных средств или путей сообщения (ст.267 УК РФ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Рисунок 3" descr="http://go2.imgsmail.ru/imgpreview?key=http%3A//img.nr2.ru/pict/arts1/r19/dop1/10/11/15.jpg&amp;mb=imgdb_preview_144"/>
          <p:cNvPicPr/>
          <p:nvPr/>
        </p:nvPicPr>
        <p:blipFill>
          <a:blip r:embed="rId1"/>
          <a:stretch/>
        </p:blipFill>
        <p:spPr>
          <a:xfrm>
            <a:off x="6588000" y="1341360"/>
            <a:ext cx="2200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менение принудительных мер воспитательного воздейст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) предупрежден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б) передача под надзор родителей или лиц, их заменяющих, либо специализированного государственного орган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) возложение обязанности загладить причиненный вред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г) ограничение досуга и установление особых требований к поведению несовершеннолетнего.      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К предусмотрены следующие виды наказаний, назначаемые несовершеннолетним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) Штраф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б) Лишение права заниматься определенной деятельность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) Обязательные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г) Исправительные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д) Арест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е) Лишение свободы на определенный сро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4</dc:creator>
  <dc:description/>
  <dc:language>en-US</dc:language>
  <cp:lastModifiedBy>1234</cp:lastModifiedBy>
  <dcterms:modified xsi:type="dcterms:W3CDTF">2020-03-25T09:20:16Z</dcterms:modified>
  <cp:revision>1</cp:revision>
  <dc:subject/>
  <dc:title>Уголовная и административная ответственность несовершеннолетних</dc:title>
</cp:coreProperties>
</file>