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55F9-D8FA-4EE4-B46F-BFF9C2206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9ADB-EDF9-4C41-AACC-281C14EF3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B4B9-9C40-4FCC-AD2C-221E4860B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1DAD-AB47-4B2C-BB25-4F00F828C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CDD18-C3FA-42D6-ACEE-A1A61A801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98222-0AFB-4439-95BF-42C9E34BF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2E41F-5C31-4F00-8FCB-D385478F3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3C5FD-35C0-4FCB-9E42-E37C7C08A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25223-CA2F-4649-9337-A5877179A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F2198-A1BE-4F07-B32E-CC2B6E268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C54C0-EB37-41B8-9C2A-705CC396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A0C9-4D5A-4C27-BAED-F78D341DD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45310-96FD-4EBF-B3A7-E867A24E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47080-C738-4398-B46A-4EFE7DBC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12C64-856F-482F-8FAA-9D8029E56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AD9AA-4996-453A-967A-CD9D9C833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8524C-DFD3-4382-A2D9-83F6B0BAF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7365-37DD-4A2F-B73F-3E3739183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96AF-5DA0-4737-B176-3977D725D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0F84-0390-47E0-9D3C-B93BC03F2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F9B1-1AB7-4208-AA5C-7E270D10E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E4B6-BCDD-45D9-A268-EAC4D869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AE68-00E7-41E5-A7AA-C6353EF0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E041-2208-48B8-8BBD-CE24BDED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8696c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Group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7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4" name="Group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8" name="Group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7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0" name="Group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72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2" name="Group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4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5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6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7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8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9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0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2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3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4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5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6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8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9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0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1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2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3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4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5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6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7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8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49" name="Group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Oval 52"/>
                          <p:cNvSpPr/>
                          <p:nvPr/>
                        </p:nvSpPr>
                        <p:spPr>
                          <a:xfrm rot="18780000">
                            <a:off x="2462400" y="4485600"/>
                            <a:ext cx="255600" cy="444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1" name="Oval 53"/>
                          <p:cNvSpPr/>
                          <p:nvPr/>
                        </p:nvSpPr>
                        <p:spPr>
                          <a:xfrm rot="18780000">
                            <a:off x="2376360" y="4298400"/>
                            <a:ext cx="446040" cy="79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2" name="Oval 54"/>
                          <p:cNvSpPr/>
                          <p:nvPr/>
                        </p:nvSpPr>
                        <p:spPr>
                          <a:xfrm rot="18780000">
                            <a:off x="2256840" y="4001760"/>
                            <a:ext cx="747720" cy="1290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3" name="Oval 55"/>
                          <p:cNvSpPr/>
                          <p:nvPr/>
                        </p:nvSpPr>
                        <p:spPr>
                          <a:xfrm rot="18780000">
                            <a:off x="2164680" y="3742920"/>
                            <a:ext cx="988920" cy="17924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4" name="Oval 56"/>
                          <p:cNvSpPr/>
                          <p:nvPr/>
                        </p:nvSpPr>
                        <p:spPr>
                          <a:xfrm rot="18780000">
                            <a:off x="2063880" y="3426120"/>
                            <a:ext cx="1247760" cy="2329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5" name="Oval 57"/>
                          <p:cNvSpPr/>
                          <p:nvPr/>
                        </p:nvSpPr>
                        <p:spPr>
                          <a:xfrm rot="18780000">
                            <a:off x="1975320" y="3171960"/>
                            <a:ext cx="1543320" cy="2824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6" name="Oval 58"/>
                          <p:cNvSpPr/>
                          <p:nvPr/>
                        </p:nvSpPr>
                        <p:spPr>
                          <a:xfrm rot="18780000">
                            <a:off x="1850040" y="2891160"/>
                            <a:ext cx="1852920" cy="332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7" name="Oval 59"/>
                          <p:cNvSpPr/>
                          <p:nvPr/>
                        </p:nvSpPr>
                        <p:spPr>
                          <a:xfrm rot="18780000">
                            <a:off x="1733040" y="2628720"/>
                            <a:ext cx="2136960" cy="3807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8" name="Oval 60"/>
                          <p:cNvSpPr/>
                          <p:nvPr/>
                        </p:nvSpPr>
                        <p:spPr>
                          <a:xfrm rot="18780000">
                            <a:off x="1599120" y="2369160"/>
                            <a:ext cx="248112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9" name="Oval 61"/>
                          <p:cNvSpPr/>
                          <p:nvPr/>
                        </p:nvSpPr>
                        <p:spPr>
                          <a:xfrm rot="18780000">
                            <a:off x="1495800" y="2084760"/>
                            <a:ext cx="2716200" cy="4788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0" name="Oval 62"/>
                          <p:cNvSpPr/>
                          <p:nvPr/>
                        </p:nvSpPr>
                        <p:spPr>
                          <a:xfrm rot="18734400">
                            <a:off x="1402200" y="1818360"/>
                            <a:ext cx="2984400" cy="53103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1" name="Oval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3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4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5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6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7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8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9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0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1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2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3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4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5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6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7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8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9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0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1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2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3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4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5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6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7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8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9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0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1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2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3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4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5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6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7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7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00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7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01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4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5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7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8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9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0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111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18182400">
                <a:off x="1610640" y="428364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18" name="Group 120"/>
              <p:cNvGrpSpPr/>
              <p:nvPr/>
            </p:nvGrpSpPr>
            <p:grpSpPr>
              <a:xfrm>
                <a:off x="4752720" y="2104920"/>
                <a:ext cx="493920" cy="494280"/>
                <a:chOff x="4752720" y="2104920"/>
                <a:chExt cx="493920" cy="494280"/>
              </a:xfrm>
            </p:grpSpPr>
            <p:sp>
              <p:nvSpPr>
                <p:cNvPr id="119" name="Oval 121"/>
                <p:cNvSpPr/>
                <p:nvPr/>
              </p:nvSpPr>
              <p:spPr>
                <a:xfrm rot="2828400">
                  <a:off x="4768560" y="233064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0" name="Freeform 122"/>
                <p:cNvSpPr/>
                <p:nvPr/>
              </p:nvSpPr>
              <p:spPr>
                <a:xfrm>
                  <a:off x="4866840" y="2226960"/>
                  <a:ext cx="254160" cy="24732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7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123"/>
                <p:cNvSpPr/>
                <p:nvPr/>
              </p:nvSpPr>
              <p:spPr>
                <a:xfrm>
                  <a:off x="4949640" y="2217960"/>
                  <a:ext cx="182520" cy="1746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7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2" name="Freeform 124"/>
                <p:cNvSpPr/>
                <p:nvPr/>
              </p:nvSpPr>
              <p:spPr>
                <a:xfrm>
                  <a:off x="5014800" y="2112480"/>
                  <a:ext cx="227160" cy="22284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7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3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7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34EEE-B301-4075-B7DF-0046E93888FD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8696c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Group 3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Group 4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7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69" name="Group 6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1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2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173" name="Group 10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7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75" name="Group 12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72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77" name="Group 14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9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0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1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2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3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4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5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6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7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8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9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0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1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2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3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4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5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6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7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8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9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0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1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2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3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4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5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6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7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8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9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0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1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2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3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214" name="Group 51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Oval 52"/>
                          <p:cNvSpPr/>
                          <p:nvPr/>
                        </p:nvSpPr>
                        <p:spPr>
                          <a:xfrm rot="18780000">
                            <a:off x="2445120" y="4521960"/>
                            <a:ext cx="255600" cy="444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6" name="Oval 53"/>
                          <p:cNvSpPr/>
                          <p:nvPr/>
                        </p:nvSpPr>
                        <p:spPr>
                          <a:xfrm rot="18780000">
                            <a:off x="2352600" y="4334760"/>
                            <a:ext cx="446040" cy="79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7" name="Oval 54"/>
                          <p:cNvSpPr/>
                          <p:nvPr/>
                        </p:nvSpPr>
                        <p:spPr>
                          <a:xfrm rot="18780000">
                            <a:off x="2233080" y="4038120"/>
                            <a:ext cx="747720" cy="1290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8" name="Oval 55"/>
                          <p:cNvSpPr/>
                          <p:nvPr/>
                        </p:nvSpPr>
                        <p:spPr>
                          <a:xfrm rot="18780000">
                            <a:off x="2140920" y="3779280"/>
                            <a:ext cx="988920" cy="17924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9" name="Oval 56"/>
                          <p:cNvSpPr/>
                          <p:nvPr/>
                        </p:nvSpPr>
                        <p:spPr>
                          <a:xfrm rot="18780000">
                            <a:off x="2041920" y="3462840"/>
                            <a:ext cx="1247760" cy="2328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0" name="Oval 57"/>
                          <p:cNvSpPr/>
                          <p:nvPr/>
                        </p:nvSpPr>
                        <p:spPr>
                          <a:xfrm rot="18780000">
                            <a:off x="1951560" y="3208320"/>
                            <a:ext cx="1543320" cy="2824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1" name="Oval 58"/>
                          <p:cNvSpPr/>
                          <p:nvPr/>
                        </p:nvSpPr>
                        <p:spPr>
                          <a:xfrm rot="18780000">
                            <a:off x="1827720" y="2927520"/>
                            <a:ext cx="1852920" cy="332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2" name="Oval 59"/>
                          <p:cNvSpPr/>
                          <p:nvPr/>
                        </p:nvSpPr>
                        <p:spPr>
                          <a:xfrm rot="18780000">
                            <a:off x="1709280" y="2665080"/>
                            <a:ext cx="2136960" cy="3807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3" name="Oval 60"/>
                          <p:cNvSpPr/>
                          <p:nvPr/>
                        </p:nvSpPr>
                        <p:spPr>
                          <a:xfrm rot="18780000">
                            <a:off x="1576800" y="2405520"/>
                            <a:ext cx="2481120" cy="42800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4" name="Oval 61"/>
                          <p:cNvSpPr/>
                          <p:nvPr/>
                        </p:nvSpPr>
                        <p:spPr>
                          <a:xfrm rot="18780000">
                            <a:off x="1473480" y="2121120"/>
                            <a:ext cx="2716200" cy="4788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5" name="Oval 62"/>
                          <p:cNvSpPr/>
                          <p:nvPr/>
                        </p:nvSpPr>
                        <p:spPr>
                          <a:xfrm rot="18734400">
                            <a:off x="1378440" y="1854720"/>
                            <a:ext cx="2984400" cy="53103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6" name="Oval 63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8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9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0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1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2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3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4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5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6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7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8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9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0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1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2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3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4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5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6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7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8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9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0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1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2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3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4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5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6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7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8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9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0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1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2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7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65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7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8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9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0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1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2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3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4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5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276" name="Group 113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8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9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0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1" name="Rectangle 118"/>
              <p:cNvSpPr/>
              <p:nvPr/>
            </p:nvSpPr>
            <p:spPr>
              <a:xfrm rot="18182400">
                <a:off x="1590840" y="4315320"/>
                <a:ext cx="425160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2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283" name="Group 120"/>
              <p:cNvGrpSpPr/>
              <p:nvPr/>
            </p:nvGrpSpPr>
            <p:grpSpPr>
              <a:xfrm>
                <a:off x="4728960" y="2141280"/>
                <a:ext cx="493920" cy="494280"/>
                <a:chOff x="4728960" y="2141280"/>
                <a:chExt cx="493920" cy="494280"/>
              </a:xfrm>
            </p:grpSpPr>
            <p:sp>
              <p:nvSpPr>
                <p:cNvPr id="284" name="Oval 121"/>
                <p:cNvSpPr/>
                <p:nvPr/>
              </p:nvSpPr>
              <p:spPr>
                <a:xfrm rot="2828400">
                  <a:off x="4744800" y="236700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5" name="Freeform 122"/>
                <p:cNvSpPr/>
                <p:nvPr/>
              </p:nvSpPr>
              <p:spPr>
                <a:xfrm>
                  <a:off x="4843080" y="2263320"/>
                  <a:ext cx="254160" cy="24732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7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6" name="Freeform 123"/>
                <p:cNvSpPr/>
                <p:nvPr/>
              </p:nvSpPr>
              <p:spPr>
                <a:xfrm>
                  <a:off x="4925880" y="2254320"/>
                  <a:ext cx="182520" cy="1746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7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7" name="Freeform 124"/>
                <p:cNvSpPr/>
                <p:nvPr/>
              </p:nvSpPr>
              <p:spPr>
                <a:xfrm>
                  <a:off x="4991040" y="2148840"/>
                  <a:ext cx="227160" cy="22284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7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8" name="Freeform 125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7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2B121-B1AE-48E4-B885-5B5BC51EE9B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7988400" cy="21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800080"/>
                </a:solidFill>
                <a:latin typeface="AngsanaUPC"/>
              </a:rPr>
              <a:t>Уголовная и административная ответственность несовершеннолетних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03280" y="4941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2" name="Picture 4" descr="16499_20060222110031"/>
          <p:cNvPicPr/>
          <p:nvPr/>
        </p:nvPicPr>
        <p:blipFill>
          <a:blip r:embed="rId1"/>
          <a:stretch/>
        </p:blipFill>
        <p:spPr>
          <a:xfrm>
            <a:off x="2340000" y="2997360"/>
            <a:ext cx="4879800" cy="331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95280" y="2565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d60093"/>
                </a:solidFill>
                <a:latin typeface="Arial"/>
              </a:rPr>
              <a:t>Конец презентации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7" name="Рисунок 3" descr="На главную страницу: КонсультантПлюс - общероссийская сеть распространения правовой информации"/>
          <p:cNvPicPr/>
          <p:nvPr/>
        </p:nvPicPr>
        <p:blipFill>
          <a:blip r:embed="rId1"/>
          <a:stretch/>
        </p:blipFill>
        <p:spPr>
          <a:xfrm>
            <a:off x="826920" y="476280"/>
            <a:ext cx="2376720" cy="2016000"/>
          </a:xfrm>
          <a:prstGeom prst="rect">
            <a:avLst/>
          </a:prstGeom>
          <a:ln w="0">
            <a:noFill/>
          </a:ln>
        </p:spPr>
      </p:pic>
      <p:pic>
        <p:nvPicPr>
          <p:cNvPr id="358" name="Рисунок 4" descr="http://go1.imgsmail.ru/imgpreview?key=http%3A//xn--80aa1bj.xn--p1ai/uploads/posts/2012-07/1341889380%5F2.jpg&amp;mb=imgdb_preview_388"/>
          <p:cNvPicPr/>
          <p:nvPr/>
        </p:nvPicPr>
        <p:blipFill>
          <a:blip r:embed="rId2"/>
          <a:stretch/>
        </p:blipFill>
        <p:spPr>
          <a:xfrm>
            <a:off x="4500720" y="3645000"/>
            <a:ext cx="3735360" cy="23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8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«Законы нужны не только для того, чтобы устрашать граждан, но и для того, чтобы помогать им». А. Вольтер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5" name="Picture 4" descr="2505_picture"/>
          <p:cNvPicPr/>
          <p:nvPr/>
        </p:nvPicPr>
        <p:blipFill>
          <a:blip r:embed="rId1"/>
          <a:stretch/>
        </p:blipFill>
        <p:spPr>
          <a:xfrm>
            <a:off x="1187280" y="2197080"/>
            <a:ext cx="63374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 1 января 1997 года введен новый Уголовный кодекс РФ, в котором есть специальный раздел, посвященный уголовной ответственности несовершеннолетних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284720" y="2133360"/>
            <a:ext cx="440208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Несовершеннолетние, достигшие 14 и 16 лет, в достаточной мере могут осмысливать свои действия, признаваемые законом преступлениями, осознавать их общественную опасность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8" name="Рисунок 7" descr="http://img1.labirint.ru/books/123189/big.jpg"/>
          <p:cNvPicPr/>
          <p:nvPr/>
        </p:nvPicPr>
        <p:blipFill>
          <a:blip r:embed="rId1"/>
          <a:stretch/>
        </p:blipFill>
        <p:spPr>
          <a:xfrm>
            <a:off x="395280" y="2133720"/>
            <a:ext cx="338472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      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Административным правонарушением признаётся противоправное, виновное действие (бездействие) физического или юридического лица, за которое установлена административная ответственность (ч. 1 ст. 2.1 КоАП РФ)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284720" y="1700280"/>
            <a:ext cx="4402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Административной ответственности подлежит лицо, достигшее к моменту совершения правонарушения возраста 16 лет (ч.1 ст. 2.3. КоАП РФ)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Административное наказание применяется в целях предупреждения совершения новых правонарушений в ст. 3.2 КоАП РФ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Дела об административных правонарушениях несовершеннолетних рассматриваются комиссиями по делам несовершеннолетних и защите их прав (ч. 1 ст. 23.2 КоАП РФ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1" name="Рисунок 8" descr="http://img1.labirint.ru/books/105473/big.jpg"/>
          <p:cNvPicPr/>
          <p:nvPr/>
        </p:nvPicPr>
        <p:blipFill>
          <a:blip r:embed="rId1"/>
          <a:stretch/>
        </p:blipFill>
        <p:spPr>
          <a:xfrm>
            <a:off x="611280" y="2149560"/>
            <a:ext cx="3529080" cy="42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        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Уголовная ответственност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в России в полном объёме наступает 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 16 л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643280" y="1599840"/>
            <a:ext cx="4043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Ст. 20, ч. 2 УК РФ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Уголовной ответственности подлежит  лицо, достигшее ко времени совершения преступления шестнадцатилетнего возраста а за отдельные из них - с 14 лет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4" name="Picture 5" descr="24948"/>
          <p:cNvPicPr/>
          <p:nvPr/>
        </p:nvPicPr>
        <p:blipFill>
          <a:blip r:embed="rId1"/>
          <a:stretch/>
        </p:blipFill>
        <p:spPr>
          <a:xfrm>
            <a:off x="517680" y="1773360"/>
            <a:ext cx="398304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35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есовершеннолетними согласно ст. 87 УК РФ признаются лица, которым ко времени совершения преступления исполнилось 14, но не исполнилось 18 лет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643280" y="1916280"/>
            <a:ext cx="404352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роступок – </a:t>
            </a: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это нарушение общепризнанных правил поведения; вызывающее поведение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Правонарушение – это нарушение закона, за него наступает административная ответственность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Преступление – это грубое нарушение закона. Все возможные преступления собраны в Уголовном Кодексе Российской Федераци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7" name="Рисунок 4" descr="http://go1.imgsmail.ru/imgpreview?key=http%3A//18.mvd.ru/upload/site22/document%5Fimages/7234b4809263fa52ae2f439b4fe3b51e-800x600.jpg&amp;mb=imgdb_preview_2045"/>
          <p:cNvPicPr/>
          <p:nvPr/>
        </p:nvPicPr>
        <p:blipFill>
          <a:blip r:embed="rId1"/>
          <a:stretch/>
        </p:blipFill>
        <p:spPr>
          <a:xfrm>
            <a:off x="131760" y="2421000"/>
            <a:ext cx="4368960" cy="36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Лица, достигшие ко времени совершения преступления 14-летнего возраста, подлежат уголовной ответственности за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убийство (ст. 105 УК РФ)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умышленное причинение тяжкого вреда здоровью (ст. 111 УК)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похищение человека (ст. 126 УК РФ)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изнасилование (ст. 131 УК РФ)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кража(ст.158УКРФ)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грабёж (ст. 161 УК РФ)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разбой (ст. 162 УК РФ)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вымогательство (ст. 163 УК РФ)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неправомерное завладение автомобилем или иным транспортным средством без цели хищения (ст. 166 УК РФ)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умышленное уничтожение или повреждение имущества при отягчающих обстоятельствах (ст. 167 ч.2 УК РФ)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терроризм (ст. 205 УК РФ)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захват заложника (ст. 206 УК РФ)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заведомо ложное сообщение об акте терроризма (ст.207 УК РФ)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хулиганство при отягчающих обстоятельствах (ст.213 ч,2,3 УК РФ)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вандализм (ст.214 УК РФ)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хищение, либо вымогательство оружия, боеприпасов, взрывчатых веществ и взрывных устройств (ст.226 УК РФ)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хищение, либо вымогательство наркотических средств или психотропных веществ (ст.229 УК РФ)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приведение в негодность транспортных средств или путей сообщения (ст.267 УК РФ)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0" name="Рисунок 3" descr="http://go2.imgsmail.ru/imgpreview?key=http%3A//img.nr2.ru/pict/arts1/r19/dop1/10/11/15.jpg&amp;mb=imgdb_preview_144"/>
          <p:cNvPicPr/>
          <p:nvPr/>
        </p:nvPicPr>
        <p:blipFill>
          <a:blip r:embed="rId1"/>
          <a:stretch/>
        </p:blipFill>
        <p:spPr>
          <a:xfrm>
            <a:off x="6588000" y="1341360"/>
            <a:ext cx="2200320" cy="16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рименение принудительных мер воспитательного воздейств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а) предупреждение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б) передача под надзор родителей или лиц, их заменяющих, либо специализированного государственного органа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в) возложение обязанности загладить причиненный вред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г) ограничение досуга и установление особых требований к поведению несовершеннолетнего.       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УК предусмотрены следующие виды наказаний, назначаемые несовершеннолетним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а) Штраф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б) Лишение права заниматься определенной деятельностью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в) Обязательные работы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г) Исправительные работы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д) Арест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е) Лишение свободы на определенный срок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234</dc:creator>
  <dc:description/>
  <dc:language>en-US</dc:language>
  <cp:lastModifiedBy>1234</cp:lastModifiedBy>
  <dcterms:modified xsi:type="dcterms:W3CDTF">2020-03-25T09:20:16Z</dcterms:modified>
  <cp:revision>1</cp:revision>
  <dc:subject/>
  <dc:title>Уголовная и административная ответственность несовершеннолетних</dc:title>
</cp:coreProperties>
</file>