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EC8-C621-4B70-AD51-3D76BA33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B2F-A581-49FE-8A86-8AAFCFD0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15D-4B8A-4A89-BB49-CE7CF550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1D1B-24DA-417C-9888-2AA7062E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8898-C3CC-4714-AD55-6CC54874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583A-B1AC-4CDA-8D4E-B1C3769F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3A27-E8DF-453B-8BC7-B9FD0883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A8B8-36D6-4A6F-AC3C-47233CF8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4BA7-79C3-4696-BF56-65DD5A5B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FF14-2DD8-4A6B-AFA8-A4964A3B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455D-2B1C-45DC-9353-196BF284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F22F-FE11-4AED-8003-D3C83675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ED77-6F4F-4B18-8872-C32E7A9D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1673-2C8A-440C-BFA2-F028F2E3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91D2-0D91-4F57-9500-38D8D050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2E51-96A5-4785-9BB7-EEB7794A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E867-3E2A-4E5F-80C6-172B78F5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B5C-95C1-4CF2-B5A1-411210E0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724-DF59-4A34-9031-41825ABB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00E-2662-4976-95F4-F45F6444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95E-331D-4DC0-A9A7-972F4412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C1B-EB07-496E-837A-5761B184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D2B-B5A2-4D34-BF3F-74DD75A8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3EC3-0B52-49F0-949C-879B8866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7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72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240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6360" y="42984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56840" y="40017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4680" y="37429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3880" y="34261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5320" y="31719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040" y="289116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3040" y="26287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59912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2200" y="18183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0640" y="428364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7980-13D5-4CC2-9089-E223F2DB70EA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7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72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5120" y="452196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2600" y="433476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3080" y="403812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0920" y="377928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1920" y="34628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1560" y="320832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720" y="292752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09280" y="266508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800" y="240552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3480" y="212112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78440" y="185472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72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72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72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72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77DE-021E-47D3-9830-35739F5BD06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98840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800080"/>
                </a:solidFill>
                <a:latin typeface="AngsanaUPC"/>
              </a:rPr>
              <a:t>Уголовная и административная ответственность несовершеннолетних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Picture 4" descr="16499_20060222110031"/>
          <p:cNvPicPr/>
          <p:nvPr/>
        </p:nvPicPr>
        <p:blipFill>
          <a:blip r:embed="rId1"/>
          <a:stretch/>
        </p:blipFill>
        <p:spPr>
          <a:xfrm>
            <a:off x="2340000" y="2997360"/>
            <a:ext cx="487980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d60093"/>
                </a:solidFill>
                <a:latin typeface="Arial"/>
              </a:rPr>
              <a:t>Конец презентаци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7" name="Рисунок 3" descr="На главную страницу: КонсультантПлюс - общероссийская сеть распространения правовой информации"/>
          <p:cNvPicPr/>
          <p:nvPr/>
        </p:nvPicPr>
        <p:blipFill>
          <a:blip r:embed="rId1"/>
          <a:stretch/>
        </p:blipFill>
        <p:spPr>
          <a:xfrm>
            <a:off x="826920" y="476280"/>
            <a:ext cx="2376720" cy="201600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" descr="http://go1.imgsmail.ru/imgpreview?key=http%3A//xn--80aa1bj.xn--p1ai/uploads/posts/2012-07/1341889380%5F2.jpg&amp;mb=imgdb_preview_388"/>
          <p:cNvPicPr/>
          <p:nvPr/>
        </p:nvPicPr>
        <p:blipFill>
          <a:blip r:embed="rId2"/>
          <a:stretch/>
        </p:blipFill>
        <p:spPr>
          <a:xfrm>
            <a:off x="4500720" y="3645000"/>
            <a:ext cx="3735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Законы нужны не только для того, чтобы устрашать граждан, но и для того, чтобы помогать им». А. Вольтер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Picture 4" descr="2505_picture"/>
          <p:cNvPicPr/>
          <p:nvPr/>
        </p:nvPicPr>
        <p:blipFill>
          <a:blip r:embed="rId1"/>
          <a:stretch/>
        </p:blipFill>
        <p:spPr>
          <a:xfrm>
            <a:off x="1187280" y="2197080"/>
            <a:ext cx="6337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1 января 1997 года введен новый Уголовный кодекс РФ, в котором есть специальный раздел, посвященный уголовной ответственности несовершеннолетних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284720" y="2133360"/>
            <a:ext cx="44020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Несовершеннолетние, достигшие 14 и 16 лет, в достаточной мере могут осмысливать свои действия, признаваемые законом преступлениями, осознавать их общественную опас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8" name="Рисунок 7" descr="http://img1.labirint.ru/books/123189/big.jpg"/>
          <p:cNvPicPr/>
          <p:nvPr/>
        </p:nvPicPr>
        <p:blipFill>
          <a:blip r:embed="rId1"/>
          <a:stretch/>
        </p:blipFill>
        <p:spPr>
          <a:xfrm>
            <a:off x="395280" y="2133720"/>
            <a:ext cx="3384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   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дминистративным правонарушением признаётся противоправное, виновное действие (бездействие) физического или юридического лица, за которое установлена административная ответственность (ч. 1 ст. 2.1 КоАП РФ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284720" y="1700280"/>
            <a:ext cx="4402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Административной ответственности подлежит лицо, достигшее к моменту совершения правонарушения возраста 16 лет (ч.1 ст. 2.3. КоАП РФ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Административное наказание применяется в целях предупреждения совершения новых правонарушений в ст. 3.2 КоАП РФ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Дела об административных правонарушениях несовершеннолетних рассматриваются комиссиями по делам несовершеннолетних и защите их прав (ч. 1 ст. 23.2 КоАП РФ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1" name="Рисунок 8" descr="http://img1.labirint.ru/books/105473/big.jpg"/>
          <p:cNvPicPr/>
          <p:nvPr/>
        </p:nvPicPr>
        <p:blipFill>
          <a:blip r:embed="rId1"/>
          <a:stretch/>
        </p:blipFill>
        <p:spPr>
          <a:xfrm>
            <a:off x="611280" y="2149560"/>
            <a:ext cx="35290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     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Уголовная ответственнос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в России в полном объёме наступает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16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4328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Ст. 20, ч. 2 УК Р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Уголовной ответственности подлежит  лицо, достигшее ко времени совершения преступления шестнадцатилетнего возраста а за отдельные из них - с 14 ле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4" name="Picture 5" descr="24948"/>
          <p:cNvPicPr/>
          <p:nvPr/>
        </p:nvPicPr>
        <p:blipFill>
          <a:blip r:embed="rId1"/>
          <a:stretch/>
        </p:blipFill>
        <p:spPr>
          <a:xfrm>
            <a:off x="517680" y="1773360"/>
            <a:ext cx="39830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совершеннолетними согласно ст. 87 УК РФ признаются лица, которым ко времени совершения преступления исполнилось 14, но не исполнилось 18 лет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3280" y="1916280"/>
            <a:ext cx="40435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ступок –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это нарушение общепризнанных правил поведения; вызывающее поведе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равонарушение – это нарушение закона, за него наступает административная ответственнос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Преступление – это грубое нарушение закона. Все возможные преступления собраны в Уголовном Кодексе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7" name="Рисунок 4" descr="http://go1.imgsmail.ru/imgpreview?key=http%3A//18.mvd.ru/upload/site22/document%5Fimages/7234b4809263fa52ae2f439b4fe3b51e-800x600.jpg&amp;mb=imgdb_preview_2045"/>
          <p:cNvPicPr/>
          <p:nvPr/>
        </p:nvPicPr>
        <p:blipFill>
          <a:blip r:embed="rId1"/>
          <a:stretch/>
        </p:blipFill>
        <p:spPr>
          <a:xfrm>
            <a:off x="131760" y="2421000"/>
            <a:ext cx="436896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ица, достигшие ко времени совершения преступления 14-летнего возраста, подлежат уголовной ответственности за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убийство (ст. 105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умышленное причинение тяжкого вреда здоровью (ст. 111 УК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похищение человека (ст. 12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изнасилование (ст. 131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кража(ст.158УК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грабёж (ст. 161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разбой (ст. 162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вымогательство (ст. 163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неправомерное завладение автомобилем или иным транспортным средством без цели хищения (ст. 16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умышленное уничтожение или повреждение имущества при отягчающих обстоятельствах (ст. 167 ч.2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терроризм (ст. 205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захват заложника (ст. 20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заведомо ложное сообщение об акте терроризма (ст.207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улиганство при отягчающих обстоятельствах (ст.213 ч,2,3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вандализм (ст.214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ищение, либо вымогательство оружия, боеприпасов, взрывчатых веществ и взрывных устройств (ст.226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хищение, либо вымогательство наркотических средств или психотропных веществ (ст.229 УК РФ),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Verdana"/>
              </a:rPr>
              <a:t>приведение в негодность транспортных средств или путей сообщения (ст.267 УК РФ)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0" name="Рисунок 3" descr="http://go2.imgsmail.ru/imgpreview?key=http%3A//img.nr2.ru/pict/arts1/r19/dop1/10/11/15.jpg&amp;mb=imgdb_preview_144"/>
          <p:cNvPicPr/>
          <p:nvPr/>
        </p:nvPicPr>
        <p:blipFill>
          <a:blip r:embed="rId1"/>
          <a:stretch/>
        </p:blipFill>
        <p:spPr>
          <a:xfrm>
            <a:off x="6588000" y="1341360"/>
            <a:ext cx="220032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именение принудительных мер воспитательного воздейств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а) предупреждение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б) передача под надзор родителей или лиц, их заменяющих, либо специализированного государственного органа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) возложение обязанности загладить причиненный вред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г) ограничение досуга и установление особых требований к поведению несовершеннолетнего.      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К предусмотрены следующие виды наказаний, назначаемые несовершеннолетним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а) Штраф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б) Лишение права заниматься определенной деятельностью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) Обязательные работ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г) Исправительные работ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д) Арест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е) Лишение свободы на определенный сро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4</dc:creator>
  <dc:description/>
  <dc:language>en-US</dc:language>
  <cp:lastModifiedBy>1234</cp:lastModifiedBy>
  <dcterms:modified xsi:type="dcterms:W3CDTF">2020-03-25T09:20:16Z</dcterms:modified>
  <cp:revision>1</cp:revision>
  <dc:subject/>
  <dc:title>Уголовная и административная ответственность несовершеннолетних</dc:title>
</cp:coreProperties>
</file>