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.jpeg" ContentType="image/jpeg"/>
  <Override PartName="/ppt/media/image3.gif" ContentType="image/gif"/>
  <Override PartName="/ppt/media/image4.png" ContentType="image/png"/>
  <Override PartName="/ppt/media/image9.png" ContentType="image/png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1A08-E9E7-4577-B74E-2864190229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7C663-9120-4898-BF2C-1560EAE3D9EB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22.08.2010 г. Последнюю версию конструктор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CBDB-730D-47E6-82E5-203537E49429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2486-BCB3-47B0-9A93-C94262279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D8BC-C9A0-42C3-B428-6C728A03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DC76-1995-41CA-B24F-A3BF4D087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6FDA-EB78-4191-90A7-F2396AEF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26BF-29C5-4E34-B3F2-C19944BD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7C7E-3FEC-4ABD-8A68-4179075C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3C69-B3CF-45EE-A988-C52670616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4E0E-D53E-436F-92D2-037649C26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2663-2FB2-4EBE-B16E-75B8584D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1AC7-2C32-4621-BD8B-4014F687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F6D3-DAEE-4EF5-994C-80CC3B10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B26-71AE-4299-8227-E60559003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8405-2BE8-4E5C-B4A7-0346FF3429B2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C:\Users\Win 7\Desktop\588a83f8a8c72.jpg"/>
          <p:cNvPicPr/>
          <p:nvPr/>
        </p:nvPicPr>
        <p:blipFill>
          <a:blip r:embed="rId1"/>
          <a:stretch/>
        </p:blipFill>
        <p:spPr>
          <a:xfrm>
            <a:off x="-11160" y="0"/>
            <a:ext cx="9144000" cy="6435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0" y="628668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3" name="Out_Zd"/>
          <p:cNvSpPr/>
          <p:nvPr/>
        </p:nvSpPr>
        <p:spPr>
          <a:xfrm>
            <a:off x="1835280" y="643572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4" name="Out_Tim"/>
          <p:cNvSpPr/>
          <p:nvPr/>
        </p:nvSpPr>
        <p:spPr>
          <a:xfrm>
            <a:off x="8053560" y="6435720"/>
            <a:ext cx="50292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5" name="Tx_Zd"/>
          <p:cNvSpPr/>
          <p:nvPr/>
        </p:nvSpPr>
        <p:spPr>
          <a:xfrm>
            <a:off x="539640" y="649116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6" name="Tx_Tim"/>
          <p:cNvSpPr/>
          <p:nvPr/>
        </p:nvSpPr>
        <p:spPr>
          <a:xfrm>
            <a:off x="6227640" y="649116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7" name="Tx_min"/>
          <p:cNvSpPr/>
          <p:nvPr/>
        </p:nvSpPr>
        <p:spPr>
          <a:xfrm>
            <a:off x="8629560" y="649116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a2500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674640" y="549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КОУ для детей – сирот с. Камышл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БО, 5 класс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Dalee"/>
          <p:cNvSpPr/>
          <p:nvPr/>
        </p:nvSpPr>
        <p:spPr>
          <a:xfrm>
            <a:off x="3492360" y="6427800"/>
            <a:ext cx="2159280" cy="33804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137849" h="21600">
                <a:moveTo>
                  <a:pt x="0" y="0"/>
                </a:moveTo>
                <a:lnTo>
                  <a:pt x="137849" y="0"/>
                </a:lnTo>
                <a:lnTo>
                  <a:pt x="137849" y="21600"/>
                </a:lnTo>
                <a:lnTo>
                  <a:pt x="0" y="21600"/>
                </a:lnTo>
                <a:close/>
              </a:path>
              <a:path fill="lightenLess" w="137849" h="21600">
                <a:moveTo>
                  <a:pt x="0" y="0"/>
                </a:moveTo>
                <a:lnTo>
                  <a:pt x="137849" y="0"/>
                </a:lnTo>
                <a:lnTo>
                  <a:pt x="136449" y="1400"/>
                </a:lnTo>
                <a:lnTo>
                  <a:pt x="1400" y="1400"/>
                </a:lnTo>
                <a:close/>
              </a:path>
              <a:path fill="darken" w="137849" h="21600">
                <a:moveTo>
                  <a:pt x="137849" y="0"/>
                </a:moveTo>
                <a:lnTo>
                  <a:pt x="137849" y="21600"/>
                </a:lnTo>
                <a:lnTo>
                  <a:pt x="136449" y="20200"/>
                </a:lnTo>
                <a:lnTo>
                  <a:pt x="136449" y="1400"/>
                </a:lnTo>
                <a:close/>
              </a:path>
              <a:path fill="darkenLess" w="137849" h="21600">
                <a:moveTo>
                  <a:pt x="137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449" y="20200"/>
                </a:lnTo>
                <a:close/>
              </a:path>
              <a:path fill="lighten" w="137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6673320" y="4395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Хайруллина М.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2236680" y="1530360"/>
            <a:ext cx="51022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6222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1" name="Rectangle 47"/>
          <p:cNvSpPr/>
          <p:nvPr/>
        </p:nvSpPr>
        <p:spPr>
          <a:xfrm>
            <a:off x="250920" y="260280"/>
            <a:ext cx="844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 правильно двигаться пешеходу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1258920" y="1989000"/>
            <a:ext cx="7634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середине дороги около разделительной полосы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3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 ходу транспорт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4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встречу транспорту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5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56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57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58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59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360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61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62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3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4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5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6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67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68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9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0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1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2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73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74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5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6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7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8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3" name="Rectangle 47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ила поведения в школьном автобусе: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4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ди спокойно, не пристегивайся, мусори</a:t>
            </a:r>
            <a:endParaRPr b="0" lang="en-US" sz="27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5" name="Rectangle 49"/>
          <p:cNvSpPr/>
          <p:nvPr/>
        </p:nvSpPr>
        <p:spPr>
          <a:xfrm>
            <a:off x="1292400" y="2647800"/>
            <a:ext cx="785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ди спокойно, пристегнись, не отвлекай водителя</a:t>
            </a:r>
            <a:endParaRPr b="0" lang="en-US" sz="27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6" name="Rectangle 50"/>
          <p:cNvSpPr/>
          <p:nvPr/>
        </p:nvSpPr>
        <p:spPr>
          <a:xfrm>
            <a:off x="1292400" y="3282840"/>
            <a:ext cx="785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скакивай с места, пристегнись, отвлекай водителя</a:t>
            </a:r>
            <a:endParaRPr b="0" lang="en-US" sz="27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Итог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8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39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9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9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5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9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0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1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40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7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411" name="Picture 35" descr="C:\Users\Win 7\Desktop\СБО\гифки\transporta-656.gif"/>
          <p:cNvPicPr/>
          <p:nvPr/>
        </p:nvPicPr>
        <p:blipFill>
          <a:blip r:embed="rId1"/>
          <a:stretch/>
        </p:blipFill>
        <p:spPr>
          <a:xfrm>
            <a:off x="3203640" y="3860640"/>
            <a:ext cx="30970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3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5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6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7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8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стирования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0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e1dfc1"/>
          </a:solidFill>
          <a:ln w="69840">
            <a:solidFill>
              <a:srgbClr val="a5a7a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25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1" name="Cena"/>
          <p:cNvSpPr/>
          <p:nvPr/>
        </p:nvSpPr>
        <p:spPr>
          <a:xfrm>
            <a:off x="2424240" y="6440400"/>
            <a:ext cx="563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2" name="Out_ver"/>
          <p:cNvSpPr/>
          <p:nvPr/>
        </p:nvSpPr>
        <p:spPr>
          <a:xfrm>
            <a:off x="5075280" y="3102120"/>
            <a:ext cx="1079280" cy="50292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3" name="Out_proc"/>
          <p:cNvSpPr/>
          <p:nvPr/>
        </p:nvSpPr>
        <p:spPr>
          <a:xfrm>
            <a:off x="6218280" y="310500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4" name="Out_oc"/>
          <p:cNvSpPr/>
          <p:nvPr/>
        </p:nvSpPr>
        <p:spPr>
          <a:xfrm>
            <a:off x="7451640" y="3102120"/>
            <a:ext cx="1079640" cy="122364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789120" y="305280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ильных ответ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789120" y="377352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бранных балл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7130880" y="2286000"/>
            <a:ext cx="168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ценк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8" name="Out_osh"/>
          <p:cNvSpPr/>
          <p:nvPr/>
        </p:nvSpPr>
        <p:spPr>
          <a:xfrm>
            <a:off x="2627280" y="4830840"/>
            <a:ext cx="5977080" cy="253800"/>
          </a:xfrm>
          <a:prstGeom prst="rect">
            <a:avLst/>
          </a:prstGeom>
          <a:noFill/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9" name="T_osh"/>
          <p:cNvSpPr/>
          <p:nvPr/>
        </p:nvSpPr>
        <p:spPr>
          <a:xfrm>
            <a:off x="1330200" y="4678200"/>
            <a:ext cx="13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шибки в выборе ответов на задания: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0" name="Out_bal"/>
          <p:cNvSpPr/>
          <p:nvPr/>
        </p:nvSpPr>
        <p:spPr>
          <a:xfrm>
            <a:off x="5075280" y="381636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1" name="Out_prb"/>
          <p:cNvSpPr/>
          <p:nvPr/>
        </p:nvSpPr>
        <p:spPr>
          <a:xfrm>
            <a:off x="6218280" y="381960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432" name="Picture 22" descr="C:\Users\Win 7\Desktop\СБО\гифки\203529681.gif"/>
          <p:cNvPicPr/>
          <p:nvPr/>
        </p:nvPicPr>
        <p:blipFill>
          <a:blip r:embed="rId1"/>
          <a:stretch/>
        </p:blipFill>
        <p:spPr>
          <a:xfrm>
            <a:off x="324000" y="1011240"/>
            <a:ext cx="2636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237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227160" y="317520"/>
            <a:ext cx="866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земный транспорт– это…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1332000" y="1989000"/>
            <a:ext cx="7377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бус, поезд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1" name="Rectangle 49"/>
          <p:cNvSpPr/>
          <p:nvPr/>
        </p:nvSpPr>
        <p:spPr>
          <a:xfrm>
            <a:off x="1258920" y="26370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рабль, грузовик 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оллейбус, вертолет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8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8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8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8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89" name="KAN 1"/>
          <p:cNvGrpSpPr/>
          <p:nvPr/>
        </p:nvGrpSpPr>
        <p:grpSpPr>
          <a:xfrm>
            <a:off x="428760" y="2009880"/>
            <a:ext cx="647640" cy="395280"/>
            <a:chOff x="428760" y="2009880"/>
            <a:chExt cx="647640" cy="395280"/>
          </a:xfrm>
        </p:grpSpPr>
        <p:sp>
          <p:nvSpPr>
            <p:cNvPr id="90" name="Fon"/>
            <p:cNvSpPr/>
            <p:nvPr/>
          </p:nvSpPr>
          <p:spPr>
            <a:xfrm>
              <a:off x="428760" y="2009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1" name="Prkl"/>
            <p:cNvSpPr/>
            <p:nvPr/>
          </p:nvSpPr>
          <p:spPr>
            <a:xfrm>
              <a:off x="447480" y="2027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2" name="Oval 9"/>
            <p:cNvSpPr/>
            <p:nvPr/>
          </p:nvSpPr>
          <p:spPr>
            <a:xfrm>
              <a:off x="484200" y="2063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3" name="Oval 10"/>
            <p:cNvSpPr/>
            <p:nvPr/>
          </p:nvSpPr>
          <p:spPr>
            <a:xfrm>
              <a:off x="520560" y="2098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4" name="Metka" hidden="1"/>
            <p:cNvSpPr/>
            <p:nvPr/>
          </p:nvSpPr>
          <p:spPr>
            <a:xfrm>
              <a:off x="555480" y="2135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9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7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0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3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4680" y="-15840"/>
            <a:ext cx="9139320" cy="62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250920" y="2746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лишнее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втобус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втомобиль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амолет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2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2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28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9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0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34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5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6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140" name="Picture 35" descr="C:\Users\Win 7\Desktop\СБО\гифки\df485638a8a4.gif"/>
          <p:cNvPicPr/>
          <p:nvPr/>
        </p:nvPicPr>
        <p:blipFill>
          <a:blip r:embed="rId2"/>
          <a:stretch/>
        </p:blipFill>
        <p:spPr>
          <a:xfrm>
            <a:off x="2411280" y="3260880"/>
            <a:ext cx="178128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7" descr="C:\Users\Win 7\Desktop\СБО\гифки\bus.gif"/>
          <p:cNvPicPr/>
          <p:nvPr/>
        </p:nvPicPr>
        <p:blipFill>
          <a:blip r:embed="rId3"/>
          <a:stretch/>
        </p:blipFill>
        <p:spPr>
          <a:xfrm>
            <a:off x="2700360" y="1471680"/>
            <a:ext cx="157788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50920" y="2746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не относится к воздушному транспорту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бус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амолет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1258920" y="328464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ртолет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5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55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56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57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8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62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3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4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68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69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0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174" name="Picture 36" descr="C:\Users\Win 7\Desktop\СБО\гифки\transport%20(278).gif"/>
          <p:cNvPicPr/>
          <p:nvPr/>
        </p:nvPicPr>
        <p:blipFill>
          <a:blip r:embed="rId1"/>
          <a:stretch/>
        </p:blipFill>
        <p:spPr>
          <a:xfrm>
            <a:off x="2916360" y="177804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7" descr="C:\Users\Win 7\Desktop\СБО\гифки\transport%20(13).gif"/>
          <p:cNvPicPr/>
          <p:nvPr/>
        </p:nvPicPr>
        <p:blipFill>
          <a:blip r:embed="rId2"/>
          <a:stretch/>
        </p:blipFill>
        <p:spPr>
          <a:xfrm>
            <a:off x="2916360" y="2448000"/>
            <a:ext cx="676080" cy="1047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8" descr="C:\Users\Win 7\Desktop\СБО\гифки\40497936.jpg"/>
          <p:cNvPicPr/>
          <p:nvPr/>
        </p:nvPicPr>
        <p:blipFill>
          <a:blip r:embed="rId3"/>
          <a:stretch/>
        </p:blipFill>
        <p:spPr>
          <a:xfrm>
            <a:off x="2556000" y="32767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237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лишнее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бус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амва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дк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9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9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9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98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99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0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04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05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6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4" name="Rectangle 47"/>
          <p:cNvSpPr/>
          <p:nvPr/>
        </p:nvSpPr>
        <p:spPr>
          <a:xfrm>
            <a:off x="1951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ассажир – это … . 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5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, который едет в транспорте.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258920" y="27082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, который идет по тротуару.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, который управляет транспортом.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23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24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25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6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9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30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31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2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3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4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5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36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37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8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41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242" name="Picture 34" descr=""/>
          <p:cNvPicPr/>
          <p:nvPr/>
        </p:nvPicPr>
        <p:blipFill>
          <a:blip r:embed="rId1"/>
          <a:stretch/>
        </p:blipFill>
        <p:spPr>
          <a:xfrm>
            <a:off x="6870600" y="1308240"/>
            <a:ext cx="1428840" cy="1028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6" descr=""/>
          <p:cNvPicPr/>
          <p:nvPr/>
        </p:nvPicPr>
        <p:blipFill>
          <a:blip r:embed="rId2"/>
          <a:stretch/>
        </p:blipFill>
        <p:spPr>
          <a:xfrm>
            <a:off x="5950080" y="386064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6" descr="C:\Users\Win 7\Desktop\СБО\гифки\AG_bizman_briefcase.gif"/>
          <p:cNvPicPr/>
          <p:nvPr/>
        </p:nvPicPr>
        <p:blipFill>
          <a:blip r:embed="rId3"/>
          <a:stretch/>
        </p:blipFill>
        <p:spPr>
          <a:xfrm>
            <a:off x="6496200" y="2503440"/>
            <a:ext cx="1009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9" name="Rectangle 47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 какой свет светофора можно переходить дорогу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0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елены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расны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желты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5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59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60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1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6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6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7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7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7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3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277" name="Picture 34" descr="C:\Users\Win 7\Desktop\СБО\гифки\svetofor-animatsionnaya-kartinka-0032.gif"/>
          <p:cNvPicPr/>
          <p:nvPr/>
        </p:nvPicPr>
        <p:blipFill>
          <a:blip r:embed="rId1"/>
          <a:stretch/>
        </p:blipFill>
        <p:spPr>
          <a:xfrm>
            <a:off x="4245120" y="2230560"/>
            <a:ext cx="167616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7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2" name="Rectangle 47"/>
          <p:cNvSpPr/>
          <p:nvPr/>
        </p:nvSpPr>
        <p:spPr>
          <a:xfrm>
            <a:off x="195120" y="274680"/>
            <a:ext cx="86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ила поведения в транспорте: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гай, кричи, не толкайся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толкайся, уступи место старшим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ричи, не толкайся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9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9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98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99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0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04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05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6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310" name="Picture 34" descr="C:\Users\Win 7\Desktop\СБО\гифки\880410716.gif"/>
          <p:cNvPicPr/>
          <p:nvPr/>
        </p:nvPicPr>
        <p:blipFill>
          <a:blip r:embed="rId1"/>
          <a:stretch/>
        </p:blipFill>
        <p:spPr>
          <a:xfrm>
            <a:off x="4979880" y="3255840"/>
            <a:ext cx="218772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5" descr=""/>
          <p:cNvPicPr/>
          <p:nvPr/>
        </p:nvPicPr>
        <p:blipFill>
          <a:blip r:embed="rId1"/>
          <a:stretch/>
        </p:blipFill>
        <p:spPr>
          <a:xfrm>
            <a:off x="2771640" y="1030320"/>
            <a:ext cx="1397160" cy="13968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6" name="Rectangle 47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де оплачивают проезд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7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аптеке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 кондуктор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 почте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325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26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27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8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32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33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4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38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39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0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344" name="Picture 34" descr=""/>
          <p:cNvPicPr/>
          <p:nvPr/>
        </p:nvPicPr>
        <p:blipFill>
          <a:blip r:embed="rId2"/>
          <a:stretch/>
        </p:blipFill>
        <p:spPr>
          <a:xfrm>
            <a:off x="3505320" y="2430360"/>
            <a:ext cx="1676160" cy="1082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6" descr=""/>
          <p:cNvPicPr/>
          <p:nvPr/>
        </p:nvPicPr>
        <p:blipFill>
          <a:blip r:embed="rId3"/>
          <a:stretch/>
        </p:blipFill>
        <p:spPr>
          <a:xfrm>
            <a:off x="2819520" y="3616200"/>
            <a:ext cx="2698560" cy="15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В  конструкторе использована идея перемещения объектов в режиме просмотра демонстрации, предложенная Гансом Хофманом (Hans Werner Hofmann hw@lemitec.de)</dc:description>
  <dc:language>en-US</dc:language>
  <cp:lastModifiedBy>Win 7</cp:lastModifiedBy>
  <dcterms:modified xsi:type="dcterms:W3CDTF">2017-02-11T15:28:11Z</dcterms:modified>
  <cp:revision>86</cp:revision>
  <dc:subject/>
  <dc:title>Шаблон для создания тестов</dc:title>
</cp:coreProperties>
</file>