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754B7-7749-490D-AD41-90B82DBAB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44011-E3E8-4333-8707-40DE7129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019E2-1EC6-43A8-AB8C-72387D9E0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87939-964C-40CC-A8DD-4CE689729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9516-A526-4642-AE61-DD318E202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78B7-AB10-402A-BB9F-7E7C47D83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1F13-9088-4445-AA89-F31263EB3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A6DD5-9B0C-4C2A-841E-6D4DE198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350E-7F82-4B60-A019-3EF50C24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DE5D0-9E73-4A89-94D1-827FDAA4E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F70E-06DB-4F09-9323-056A0C02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3589D-9A9A-4F21-A856-65ECBF9C3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A74E-C371-428C-BCEE-7F49C16BC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F9A06-C46E-4B91-9F35-10695C92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E0BE8-070B-4292-9548-34E3DB16B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29F6-19AD-4A82-9EDD-C3C3DE43D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D0E4-53EA-4B1A-9F81-D56AC1AF6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5C43C-954E-4858-9CCC-775E1ACB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90217-0087-4BA5-B7D6-2EDEA753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5C7385-7FC3-40A4-A1AE-459B29F00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2E89D-FB9E-41C1-8C28-B165BDD4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930B6-380D-4F05-AA4E-98B9C1737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4DF87-8900-4377-AEBF-1B52BCC2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5BAC6-5365-4EA9-883C-D895D7CD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B34A-71D0-48A7-862F-AE074DD4B4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6BC0-ABFF-43A5-AC12-C01B355D0EB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257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Основные этапы развития информационного общества. </a:t>
            </a:r>
            <a:br>
              <a:rPr sz="4800"/>
            </a:b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Этапы развития технических средств и информационных ресурсов 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Произойдёт переоценка ценностей, уклада жизни и изменится культурный досуг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Развиваются компьютерная техника, компьютерные сети, информационные технологи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У людей дома появляются всевозможные электронные приборы и компьютеризированные устройств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Производством энергии и материальных продуктов будут заниматься машины, а человек главным образом обработкой информаци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 сфере образования будет создана система непрерывного образовани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Дети и взрослые смогут обучаться на дому с помощью компьютерных программ и телекоммуникаци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является и развивается рынок информационных услуг. 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Информация становится товаром и особым видом услуг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85840" y="428400"/>
            <a:ext cx="88581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ятельность человека, связанную с процессами получения, преобразования, накопления и передачи информации, называют 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информационной деятельностью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настоящее время компьютеры используются для обработки не только чисел, но и других видов информации. Благодаря этому компьютеры прочно вошли в жизнь современного человека, широко применяются в производстве, проектно-конструкторских работах, бизнесе и многих других отрасля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214200"/>
            <a:ext cx="8715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о к современным 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техническим средствам 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боты с информацией относятся не только компьютеры, но и другие устройства, обеспечивающие ее передачу, обработку и хранени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етевое оборудование: модемы, кабели, сетевые адаптер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налого-цифровые и цифро-аналоговые преобразовател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ифровые фото- и видеокамеры, цифровые диктофо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писывающие устройства (CD-R, CD-RW, DVD-RW и др.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лиграфическое оборудова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ифровые музыкальные студ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дицинское оборудование для УЗИ и томограф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канеры в архивах, библиотеках, магазинах, на экзаме­нах и избирательных участках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В-тюнеры для подачи телевизионного сигнала в компьют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лоттеры и различные принтер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ультимедийные проектор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лэш-память, используемая также в плеерах и фотоап­парата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обильные телефо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214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роме персональных компьютеров существуют мощные вычислительные системы для решения сложных научно-технических и оборонных задач, обработки огромных баз данных, работы телекоммуникационных сетей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ногопроцессорные системы параллельной обработки данных (управление сложными технологическими про­цессами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ерверы в глобальной компьютерной сети, управляю­щие работой и хранящие огромный объем информ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пециальные компьютеры для проектно-конструкторских рабо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6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6600" spc="-1" strike="noStrike">
                <a:solidFill>
                  <a:srgbClr val="ffffff"/>
                </a:solidFill>
                <a:latin typeface="Garamond"/>
              </a:rPr>
              <a:t>Информация – как вы понимаете данное понятие?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2803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Информация – это фундаментальное понятие науки, очень емкое, но не однозначное.</a:t>
            </a:r>
            <a:br>
              <a:rPr sz="4000"/>
            </a:b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Слово информация  произошло от латинского  слова </a:t>
            </a: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information</a:t>
            </a: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 – «СВЕДЕНИЯ, РАЗЪЯСНЕНИЯ, ИЗЛОЖЕНИЯ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Наука информатика - это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новая , сильно развивающаяся наука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Возникла она сравнительно недавно – в 60 – е годы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XX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век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Информатика делится на прикладную  и теоретическую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.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держательные линии базового курс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79280" y="2349360"/>
            <a:ext cx="2303640" cy="91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формация и информационные процесс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55640" y="3933720"/>
            <a:ext cx="208764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ставление информац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492360" y="2349360"/>
            <a:ext cx="1656000" cy="78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пьюте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731040" y="3933720"/>
            <a:ext cx="210096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делировани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формализац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6732720" y="2349360"/>
            <a:ext cx="216036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лгоритмизаци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рограммирован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6948360" y="378936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6804000" y="386064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6516720" y="3933720"/>
            <a:ext cx="237636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формационные технолог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1332000" y="1989000"/>
            <a:ext cx="6769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1332000" y="1989000"/>
            <a:ext cx="0" cy="28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18"/>
          <p:cNvSpPr/>
          <p:nvPr/>
        </p:nvSpPr>
        <p:spPr>
          <a:xfrm>
            <a:off x="2771640" y="1989000"/>
            <a:ext cx="0" cy="187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4284720" y="1989000"/>
            <a:ext cx="0" cy="28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5364000" y="1989000"/>
            <a:ext cx="0" cy="187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8101080" y="1989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22"/>
          <p:cNvSpPr/>
          <p:nvPr/>
        </p:nvSpPr>
        <p:spPr>
          <a:xfrm>
            <a:off x="6588000" y="1989000"/>
            <a:ext cx="0" cy="187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357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Информация - это новые знания, сведения.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Приведите примеры новых знаний?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Знания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214280"/>
            <a:ext cx="86868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кларативные                  Процедур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Я знаю, что…»                 «Я знаю, как…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утверждение)                   (определяет действ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 достижения какой-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либо цели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4"/>
          <p:cNvSpPr/>
          <p:nvPr/>
        </p:nvSpPr>
        <p:spPr>
          <a:xfrm flipH="1">
            <a:off x="3357720" y="785880"/>
            <a:ext cx="1000080" cy="571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4857840" y="714240"/>
            <a:ext cx="1000080" cy="6429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А что можно делать с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информацией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1. Передача информаци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Источник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риемни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51" name="Прямая со стрелкой 4"/>
          <p:cNvCxnSpPr/>
          <p:nvPr/>
        </p:nvCxnSpPr>
        <p:spPr>
          <a:xfrm flipV="1">
            <a:off x="3143160" y="3357000"/>
            <a:ext cx="2643840" cy="1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2. Обработка информаци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28760" y="11430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древности люди решили, каждой цифре от 1 до 9 соответствует определенная планета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- Солнце,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5- Юпит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- Лун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6-Вене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- Марс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-Сатур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- Меркури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8-Ур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9-Непту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следовательно складывая цифры своего дня рождения, можно определить «свою » планет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3. Хранение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цесс          Источник      Приемник         Где хранитс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смотр передачи           ТВ                              человек                         видеоплен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Т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еник решает задачу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 учебни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ловек разговаривает п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фону с друг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ловек играет в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пьютерную игру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92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Процессы получения, хранения, обработки и передачи информации называются </a:t>
            </a:r>
            <a:r>
              <a:rPr b="0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информационными процессам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войства информаци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79280" y="107172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42080" indent="-442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ъективность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зависимость от личного мнения или сужд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42080" indent="-442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лнота – количество информации, необходимое для решения поставленной задач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42080" indent="-442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ктуальность – степень соответствия текущему моменту време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42080" indent="-442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стоверность - мера соответствия исти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42080" indent="-442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ступность – степень доступа к определенной информац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42080" indent="-442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декватность – мера соответствия текущему состоянию систем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 форме представления информация бывает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кстов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ислов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афическ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вуков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идеоинформац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e5e5ff"/>
                </a:solidFill>
                <a:uFillTx/>
                <a:latin typeface="Garamond"/>
              </a:rPr>
              <a:t>Информатика</a:t>
            </a: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 – </a:t>
            </a:r>
            <a:br>
              <a:rPr sz="4800"/>
            </a:b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это наука, которая изучает все аспекты получения, хранения, обработки и передачи информации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5661000"/>
            <a:ext cx="82184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 форме восприяти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ритель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лухов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кусов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язатель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онятель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 степени значимост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ч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ществен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пециальная (научная, культурная и т. д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На протяжении своего развития человек осваивал три очень важные субстанции: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Garamond"/>
              </a:rPr>
              <a:t>вещество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Garamond"/>
              </a:rPr>
              <a:t>энергию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Garamond"/>
              </a:rPr>
              <a:t>информацию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В истории человечества произошло несколько информационных революций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 революция – связана с изобретением письмен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2 революция (середина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XVI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в.)- книгопечата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3 революция (конец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XIX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.)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электричество – телеграф, радио, телевидение, телефо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4 революция (середина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XX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в.) – создание компьюте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Что такое информационное общество?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Информационное общество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 — общество, в котором большинство работающих занято производством, хранением, переработкой и реализацией информации, особенно высшей её формы — знаний. 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Некоторые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 </a:t>
            </a: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характерные черты информационного общества: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Объёмы информации возрастут и человек будет привлекать для её обработки и хранения специальные технические средств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Неизбежно использование компьютеров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Движущей силой общества станет производство информационного продукт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Увеличится доля умственного труда, т.к. продуктом производства в информационном обществе станут знания и интеллект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4T19:37:31Z</dcterms:created>
  <dc:creator>User</dc:creator>
  <dc:description/>
  <dc:language>en-US</dc:language>
  <cp:lastModifiedBy>User</cp:lastModifiedBy>
  <dcterms:modified xsi:type="dcterms:W3CDTF">2017-09-09T02:28:16Z</dcterms:modified>
  <cp:revision>31</cp:revision>
  <dc:subject/>
  <dc:title>Введение в дисциплину. Информация и ее виды.</dc:title>
</cp:coreProperties>
</file>