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38E07F-ED43-41B7-A0D4-ADBB3F6B29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7DD35B-C206-4BAC-A9BA-422108A1D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5473C7-9C99-4634-A24D-8DDA41B31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63F20-A371-45F8-A39F-FEF6F3692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58CC6-BCB6-4FCF-B35B-FE002ABA7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EB124B-2BCE-45AC-AE82-2577D17AA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C8A87-E0A1-4AC8-8133-F3AC5C3996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CBB17-5BA1-4C5D-A619-2DFB63238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8BB9E-36C2-404D-962F-42B3FBB7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B4D73-D2BE-4C3D-A7A0-B7596AE2B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8A183-E2B9-427A-8AA4-995B6906D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1AFBB-30FC-44D3-B541-1286C4599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35E9-8C77-4438-8A8F-5B9295B2E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36CA7-7510-4AB7-9E51-832D60E02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760B1-EBAE-4C3C-B81F-D51E10D84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1D3FD-B5C9-4E36-A68B-FE0EFCA4F0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68FFE-3DBD-466D-8B9F-164846C86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07DAD8-AC14-4104-A95A-D06883BE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FA238C-5698-4562-9A92-168334256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68E5-A62C-47DA-8590-FC220E4B7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35DECA-4AFF-4053-8E16-05418C74A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9491F1-ACE1-4E80-B769-1616A6426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15BEAB-B3FC-493E-AB6E-A2D6AB3D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17314-C0B7-40BF-B92F-B15C64382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FC8C-9E4D-4C4C-A29E-3380B00316B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>
                  <a:gd name="textAreaLeft" fmla="*/ 0 w 4575240"/>
                  <a:gd name="textAreaRight" fmla="*/ 4575600 w 4575240"/>
                  <a:gd name="textAreaTop" fmla="*/ 0 h 2652840"/>
                  <a:gd name="textAreaBottom" fmla="*/ 2653200 h 2652840"/>
                </a:gdLst>
                <a:ahLst/>
                <a:rect l="textAreaLeft" t="textAreaTop" r="textAreaRight" b="textAreaBottom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>
                  <a:gd name="textAreaLeft" fmla="*/ 0 w 1998360"/>
                  <a:gd name="textAreaRight" fmla="*/ 1998720 w 1998360"/>
                  <a:gd name="textAreaTop" fmla="*/ 0 h 1287720"/>
                  <a:gd name="textAreaBottom" fmla="*/ 1287720 h 1287720"/>
                </a:gdLst>
                <a:ahLst/>
                <a:rect l="textAreaLeft" t="textAreaTop" r="textAreaRight" b="textAreaBottom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>
                  <a:gd name="textAreaLeft" fmla="*/ 0 w 4522680"/>
                  <a:gd name="textAreaRight" fmla="*/ 4522680 w 4522680"/>
                  <a:gd name="textAreaTop" fmla="*/ 0 h 1538280"/>
                  <a:gd name="textAreaBottom" fmla="*/ 1538640 h 1538280"/>
                </a:gdLst>
                <a:ahLst/>
                <a:rect l="textAreaLeft" t="textAreaTop" r="textAreaRight" b="textAreaBottom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>
                  <a:gd name="textAreaLeft" fmla="*/ 0 w 4773600"/>
                  <a:gd name="textAreaRight" fmla="*/ 4773960 w 4773600"/>
                  <a:gd name="textAreaTop" fmla="*/ 0 h 3309840"/>
                  <a:gd name="textAreaBottom" fmla="*/ 3310200 h 3309840"/>
                </a:gdLst>
                <a:ahLst/>
                <a:rect l="textAreaLeft" t="textAreaTop" r="textAreaRight" b="textAreaBottom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>
                  <a:gd name="textAreaLeft" fmla="*/ 0 w 1981080"/>
                  <a:gd name="textAreaRight" fmla="*/ 1981440 w 1981080"/>
                  <a:gd name="textAreaTop" fmla="*/ 0 h 855720"/>
                  <a:gd name="textAreaBottom" fmla="*/ 856080 h 855720"/>
                </a:gdLst>
                <a:ahLst/>
                <a:rect l="textAreaLeft" t="textAreaTop" r="textAreaRight" b="textAreaBottom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>
                <a:gd name="textAreaLeft" fmla="*/ 0 w 2897280"/>
                <a:gd name="textAreaRight" fmla="*/ 2897640 w 2897280"/>
                <a:gd name="textAreaTop" fmla="*/ 0 h 2440080"/>
                <a:gd name="textAreaBottom" fmla="*/ 2440440 h 2440080"/>
              </a:gdLst>
              <a:ahLst/>
              <a:rect l="textAreaLeft" t="textAreaTop" r="textAreaRight" b="textAreaBottom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819520"/>
                <a:gd name="textAreaBottom" fmla="*/ 2819880 h 2819520"/>
              </a:gdLst>
              <a:ahLst/>
              <a:rect l="textAreaLeft" t="textAreaTop" r="textAreaRight" b="textAreaBottom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8F7CE-6E86-49FB-88D3-D63C9BFF24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14240" y="2571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Основные этапы развития информационного общества. </a:t>
            </a:r>
            <a:br>
              <a:rPr sz="4800"/>
            </a:br>
            <a:r>
              <a:rPr b="1" lang="ru-RU" sz="4800" spc="-1" strike="noStrike">
                <a:solidFill>
                  <a:srgbClr val="e5e5ff"/>
                </a:solidFill>
                <a:latin typeface="Garamond"/>
              </a:rPr>
              <a:t>Этапы развития технических средств и информационных ресурсов 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9528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оизойдёт переоценка ценностей, уклада жизни и изменится культурный досуг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Развиваются компьютерная техника, компьютерные сети, информационные технологи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22200" indent="-322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68360" y="404640"/>
            <a:ext cx="8229600" cy="528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 людей дома появляются всевозможные электронные приборы и компьютеризированные устройств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Производством энергии и материальных продуктов будут заниматься машины, а человек главным образом обработкой информации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28440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В сфере образования будет создана система непрерывного образования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Дети и взрослые смогут обучаться на дому с помощью компьютерных программ и телекоммуникаций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Garamond"/>
              </a:rPr>
              <a:t>Появляется и развивается рынок информационных услуг. 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284400" indent="-28440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Garamond"/>
              </a:rPr>
              <a:t>Информация становится товаром и особым видом услуг!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285840" y="428400"/>
            <a:ext cx="8858160" cy="584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ятельность человека, связанную с процессами получения, преобразования, накопления и передачи информации, называют </a:t>
            </a:r>
            <a:r>
              <a:rPr b="1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информационной деятельностью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Garamond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 настоящее время компьютеры используются для обработки не только чисел, но и других видов информации. Благодаря этому компьютеры прочно вошли в жизнь современного человека, широко применяются в производстве, проектно-конструкторских работах, бизнесе и многих других отрасля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5280" indent="-3052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214200" y="214200"/>
            <a:ext cx="8715600" cy="5911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Но к современным 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техническим средствам 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работы с информацией относятся не только компьютеры, но и другие устройства, обеспечивающие ее передачу, обработку и хранение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тевое оборудование: модемы, кабели, сетевые адапте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Аналого-цифровые и цифро-аналоговые преобразовател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ифровые фото- и видеокамеры, цифровые диктофо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214200" y="213840"/>
            <a:ext cx="8715600" cy="635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аписывающие устройства (CD-R, CD-RW, DVD-RW и др.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лиграфическое оборудов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Цифровые музыкальные студ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едицинское оборудование для УЗИ и томографии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канеры в архивах, библиотеках, магазинах, на экзаме­нах и избирательных участках;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В-тюнеры для подачи телевизионного сигнала в компьютер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лоттеры и различные принте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ультимедийные проектор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Флэш-память, используемая также в плеерах и фотоап­паратах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обильные телефоны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214200" y="214200"/>
            <a:ext cx="871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0000"/>
          </a:bodyPr>
          <a:p>
            <a:pPr marL="240120" indent="-24012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Кроме персональных компьютеров существуют мощные вычислительные системы для решения сложных научно-технических и оборонных задач, обработки огромных баз данных, работы телекоммуникационных сетей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Многопроцессорные системы параллельной обработки данных (управление сложными технологическими про­цессами)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ерверы в глобальной компьютерной сети, управляю­щие работой и хранящие огромный объем информаци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240120" indent="-24012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ециальные компьютеры для проектно-конструкторских работ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6600" spc="-1" strike="noStrike">
                <a:solidFill>
                  <a:srgbClr val="ffffff"/>
                </a:solidFill>
                <a:latin typeface="Garamond"/>
              </a:rPr>
              <a:t>Информация – как вы понимаете данное понятие?</a:t>
            </a:r>
            <a:endParaRPr b="0" lang="en-US" sz="6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280" y="907560"/>
            <a:ext cx="8280360" cy="352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Информация – это фундаментальное понятие науки, очень емкое, но не однозначное.</a:t>
            </a:r>
            <a:br>
              <a:rPr sz="4000"/>
            </a:b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Слово информация  произошло от латинского  слова </a:t>
            </a:r>
            <a:r>
              <a:rPr b="0" lang="en-US" sz="4000" spc="-1" strike="noStrike">
                <a:solidFill>
                  <a:srgbClr val="ff0000"/>
                </a:solidFill>
                <a:latin typeface="Garamond"/>
              </a:rPr>
              <a:t>information</a:t>
            </a: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 – «СВЕДЕНИЯ, РАЗЪЯСНЕНИЯ, ИЗЛОЖЕНИЯ»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Наука информатика - это</a:t>
            </a: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новая , сильно развивающаяся наука.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озникла она сравнительно недавно – в 60 – е годы </a:t>
            </a:r>
            <a:r>
              <a:rPr b="1" lang="en-US" sz="4000" spc="-1" strike="noStrike">
                <a:solidFill>
                  <a:srgbClr val="ffffff"/>
                </a:solidFill>
                <a:latin typeface="Garamond"/>
              </a:rPr>
              <a:t>XX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век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Информатика делится на прикладную  и теоретическую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.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одержательные линии базового курс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79280" y="2349360"/>
            <a:ext cx="2303640" cy="916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я и информационные процессы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Text Box 5"/>
          <p:cNvSpPr/>
          <p:nvPr/>
        </p:nvSpPr>
        <p:spPr>
          <a:xfrm>
            <a:off x="755640" y="3933720"/>
            <a:ext cx="208764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Представление информац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3492360" y="2349360"/>
            <a:ext cx="1656000" cy="7855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Компьют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Text Box 7"/>
          <p:cNvSpPr/>
          <p:nvPr/>
        </p:nvSpPr>
        <p:spPr>
          <a:xfrm>
            <a:off x="3731040" y="3933720"/>
            <a:ext cx="210096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оделировани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формализация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1" name="Text Box 8"/>
          <p:cNvSpPr/>
          <p:nvPr/>
        </p:nvSpPr>
        <p:spPr>
          <a:xfrm>
            <a:off x="6732720" y="2349360"/>
            <a:ext cx="2160360" cy="119124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Алгоритмизаци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 программирование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Text Box 9"/>
          <p:cNvSpPr/>
          <p:nvPr/>
        </p:nvSpPr>
        <p:spPr>
          <a:xfrm>
            <a:off x="6948360" y="3789360"/>
            <a:ext cx="1871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3" name="Text Box 10"/>
          <p:cNvSpPr/>
          <p:nvPr/>
        </p:nvSpPr>
        <p:spPr>
          <a:xfrm>
            <a:off x="6804000" y="3860640"/>
            <a:ext cx="1728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Text Box 11"/>
          <p:cNvSpPr/>
          <p:nvPr/>
        </p:nvSpPr>
        <p:spPr>
          <a:xfrm>
            <a:off x="6516720" y="3933720"/>
            <a:ext cx="2376360" cy="6426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Информационные технологии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5" name="Line 16"/>
          <p:cNvSpPr/>
          <p:nvPr/>
        </p:nvSpPr>
        <p:spPr>
          <a:xfrm>
            <a:off x="1332000" y="1989000"/>
            <a:ext cx="676908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6" name="Line 17"/>
          <p:cNvSpPr/>
          <p:nvPr/>
        </p:nvSpPr>
        <p:spPr>
          <a:xfrm>
            <a:off x="1332000" y="198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7" name="Line 18"/>
          <p:cNvSpPr/>
          <p:nvPr/>
        </p:nvSpPr>
        <p:spPr>
          <a:xfrm>
            <a:off x="2771640" y="1989000"/>
            <a:ext cx="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Line 19"/>
          <p:cNvSpPr/>
          <p:nvPr/>
        </p:nvSpPr>
        <p:spPr>
          <a:xfrm>
            <a:off x="4284720" y="1989000"/>
            <a:ext cx="0" cy="287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Line 20"/>
          <p:cNvSpPr/>
          <p:nvPr/>
        </p:nvSpPr>
        <p:spPr>
          <a:xfrm>
            <a:off x="5364000" y="1989000"/>
            <a:ext cx="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Line 21"/>
          <p:cNvSpPr/>
          <p:nvPr/>
        </p:nvSpPr>
        <p:spPr>
          <a:xfrm>
            <a:off x="8101080" y="1989000"/>
            <a:ext cx="0" cy="3603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Line 22"/>
          <p:cNvSpPr/>
          <p:nvPr/>
        </p:nvSpPr>
        <p:spPr>
          <a:xfrm>
            <a:off x="6588000" y="1989000"/>
            <a:ext cx="0" cy="18716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0040" y="3571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Информация - это новые знания, сведения.</a:t>
            </a:r>
            <a:br>
              <a:rPr sz="4800"/>
            </a:br>
            <a:br>
              <a:rPr sz="4800"/>
            </a:b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Приведите примеры новых знаний?</a:t>
            </a:r>
            <a:br>
              <a:rPr sz="4800"/>
            </a:br>
            <a:br>
              <a:rPr sz="4800"/>
            </a:br>
            <a:endParaRPr b="1" lang="en-US" sz="48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Знания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214280"/>
            <a:ext cx="86868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екларативные                  Процедурны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«Я знаю, что…»                 «Я знаю, как…»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(утверждение)                   (определяет действие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                                 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для  достижения какой-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либо цели)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4"/>
          <p:cNvSpPr/>
          <p:nvPr/>
        </p:nvSpPr>
        <p:spPr>
          <a:xfrm flipH="1">
            <a:off x="3357720" y="785880"/>
            <a:ext cx="1000080" cy="57132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Line 4"/>
          <p:cNvSpPr/>
          <p:nvPr/>
        </p:nvSpPr>
        <p:spPr>
          <a:xfrm>
            <a:off x="4857840" y="714240"/>
            <a:ext cx="1000080" cy="642960"/>
          </a:xfrm>
          <a:prstGeom prst="line">
            <a:avLst/>
          </a:prstGeom>
          <a:ln w="572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А что можно делать с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1" lang="ru-RU" sz="6000" spc="-1" strike="noStrike">
                <a:solidFill>
                  <a:srgbClr val="ffffff"/>
                </a:solidFill>
                <a:latin typeface="Garamond"/>
              </a:rPr>
              <a:t>информацией?</a:t>
            </a:r>
            <a:endParaRPr b="0" lang="en-US" sz="6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1. Передача информ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28760" y="1428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сточник 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Приемник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  <p:cxnSp>
        <p:nvCxnSpPr>
          <p:cNvPr id="151" name="Прямая со стрелкой 4"/>
          <p:cNvCxnSpPr/>
          <p:nvPr/>
        </p:nvCxnSpPr>
        <p:spPr>
          <a:xfrm flipV="1">
            <a:off x="3143160" y="3357000"/>
            <a:ext cx="2643840" cy="1080"/>
          </a:xfrm>
          <a:prstGeom prst="straightConnector1">
            <a:avLst/>
          </a:prstGeom>
          <a:ln w="5724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2. Обработка информ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28760" y="1143000"/>
            <a:ext cx="822960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В древности люди решили, каждой цифре от 1 до 9 соответствует определенная планета: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1- Солнце,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       5- Юпитер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2- Луна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6-Венер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3- Марс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7-Сатур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4- Меркурий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8-Ура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9-Непту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Последовательно складывая цифры своего дня рождения, можно определить «свою » планет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25800" indent="-3258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3. Хранение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цесс          Источник      Приемник         Где хранитс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осмотр передачи           ТВ                              человек                         видеоплен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о ТВ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ченик решает задач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Из учебник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ловек разговаривает по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Телефону с друг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Человек играет в 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компьютерную игру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2920" y="2428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e5ff"/>
                </a:solidFill>
                <a:latin typeface="Garamond"/>
              </a:rPr>
              <a:t>Процессы получения, хранения, обработки и передачи информации называются </a:t>
            </a:r>
            <a:r>
              <a:rPr b="0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информационными процессам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Свойства информаци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179280" y="1071720"/>
            <a:ext cx="8964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Объективност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 –</a:t>
            </a: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независимость от личного мнения или суждени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Полнота – количество информации, необходимое для решения поставленной задач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ктуальность – степень соответствия текущему моменту времен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оверность - мера соответствия истине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Доступность – степень доступа к определенной информации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442080" indent="-442080">
              <a:spcBef>
                <a:spcPts val="700"/>
              </a:spcBef>
              <a:buClr>
                <a:srgbClr val="ffcc00"/>
              </a:buClr>
              <a:buSzPct val="70000"/>
              <a:buFont typeface="Garamond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Garamond"/>
              </a:rPr>
              <a:t>Адекватность – мера соответствия текущему состоянию систем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 форме представления информация бывает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Текст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Числ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Графическ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вук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идеоинформаци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27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e5e5ff"/>
                </a:solidFill>
                <a:uFillTx/>
                <a:latin typeface="Garamond"/>
              </a:rPr>
              <a:t>Информатика</a:t>
            </a: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 – </a:t>
            </a:r>
            <a:br>
              <a:rPr sz="4800"/>
            </a:br>
            <a:r>
              <a:rPr b="0" lang="ru-RU" sz="4800" spc="-1" strike="noStrike">
                <a:solidFill>
                  <a:srgbClr val="e5e5ff"/>
                </a:solidFill>
                <a:latin typeface="Garamond"/>
              </a:rPr>
              <a:t>это наука, которая изучает все аспекты получения, хранения, обработки и передачи информации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68000" y="5661000"/>
            <a:ext cx="821844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 форме восприятия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Зритель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лух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Вкусов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сязатель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онятель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По степени значимости: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Лич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Общественна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Специальная (научная, культурная и т. д.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1" lang="ru-RU" sz="4800" spc="-1" strike="noStrike">
                <a:solidFill>
                  <a:srgbClr val="ffffff"/>
                </a:solidFill>
                <a:latin typeface="Garamond"/>
              </a:rPr>
              <a:t>На протяжении своего развития человек осваивал три очень важные субстанции: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вещество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энергию,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 u="sng">
                <a:solidFill>
                  <a:srgbClr val="ffffff"/>
                </a:solidFill>
                <a:uFillTx/>
                <a:latin typeface="Garamond"/>
              </a:rPr>
              <a:t>информацию. 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e5e5ff"/>
                </a:solidFill>
                <a:latin typeface="Garamond"/>
              </a:rPr>
              <a:t>В истории человечества произошло несколько информационных революций</a:t>
            </a:r>
            <a:br>
              <a:rPr sz="4000"/>
            </a:b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5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1 революция – связана с изобретением письменност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2 революция (середина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XVI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в.)- книгопечатание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3 революция (конец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XIX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в.)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- 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электричество – телеграф, радио, телевидение, телефон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4 революция (середина </a:t>
            </a:r>
            <a:r>
              <a:rPr b="1" lang="en-US" sz="3200" spc="-1" strike="noStrike">
                <a:solidFill>
                  <a:srgbClr val="ffffff"/>
                </a:solidFill>
                <a:latin typeface="Garamond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Garamond"/>
              </a:rPr>
              <a:t> в.) – создание компьютера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e5e5ff"/>
                </a:solidFill>
                <a:latin typeface="Garamond"/>
              </a:rPr>
              <a:t>Что такое информационное общество?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16430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Garamond"/>
              </a:rPr>
              <a:t>Информационное общество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 — общество, в котором большинство работающих занято производством, хранением, переработкой и реализацией информации, особенно высшей её формы — знаний. 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12120" indent="-3121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42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Некоторые</a:t>
            </a:r>
            <a:r>
              <a:rPr b="1" lang="ru-RU" sz="4400" spc="-1" strike="noStrike">
                <a:solidFill>
                  <a:srgbClr val="e5e5ff"/>
                </a:solidFill>
                <a:latin typeface="Garamond"/>
              </a:rPr>
              <a:t> </a:t>
            </a:r>
            <a:r>
              <a:rPr b="1" lang="ru-RU" sz="4400" spc="-1" strike="noStrike" u="sng">
                <a:solidFill>
                  <a:srgbClr val="e5e5ff"/>
                </a:solidFill>
                <a:uFillTx/>
                <a:latin typeface="Garamond"/>
              </a:rPr>
              <a:t>характерные черты информационного общества: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Объёмы информации возрастут и человек будет привлекать для её обработки и хранения специальные технические средств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 </a:t>
            </a: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Неизбежно использование компьютеров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250560" y="981000"/>
            <a:ext cx="8569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Движущей силой общества станет производство информационного продукта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-301680">
              <a:spcBef>
                <a:spcPts val="10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Garamond"/>
              </a:rPr>
              <a:t>Увеличится доля умственного труда, т.к. продуктом производства в информационном обществе станут знания и интеллект.</a:t>
            </a: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  <a:p>
            <a:pPr marL="30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04T19:37:31Z</dcterms:created>
  <dc:creator>User</dc:creator>
  <dc:description/>
  <dc:language>en-US</dc:language>
  <cp:lastModifiedBy>User</cp:lastModifiedBy>
  <dcterms:modified xsi:type="dcterms:W3CDTF">2017-09-09T02:28:16Z</dcterms:modified>
  <cp:revision>31</cp:revision>
  <dc:subject/>
  <dc:title>Введение в дисциплину. Информация и ее виды.</dc:title>
</cp:coreProperties>
</file>