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28A-A63D-47D6-B006-BCF1EA19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D15-6A84-4E58-94D1-CE7BB4D2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9527-85C7-4032-A3C9-794BBCE0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2EF7D-3A91-4F98-8C65-9EE38B61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862C-F76F-4035-B2DF-A15FD136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36D2-3AC8-4463-B8E0-41B36F1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A138-2FDE-480E-A543-B479DD8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28C59-5DB7-41C0-B8B3-3DBF921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5CEBE-56BB-4DEC-A797-B2BA747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BDE1-6C60-4CD8-A217-B37DFED7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B39A-B952-4591-AF00-003FA406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DA20-53EE-4599-9894-A789B984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250-688A-49F7-8D60-D96294A5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0BB6C-7963-4970-8F2B-4B81F9F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79BBD-65C9-4909-B415-9F537788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41C6B-1E28-4894-A553-4A2280A2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FE652-F4DE-4A36-A598-0EB3F9EA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CEFC1-80E6-4008-B1F3-DA2B4A76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0394-3216-470F-8BEE-BE887679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AEB22-D0E7-434E-A18E-D0051AF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73102-997A-40ED-9A80-ED98774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7FEB-A181-4D0B-B511-48EB3CA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3064E-6312-4C68-8B70-E2040BF7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154-C25A-4F46-8647-D17490CD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8499-9F0A-4466-89EC-FC3C0D3C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95F7-1C6A-489A-8C08-AAEE8E6F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3572-C31E-49BE-872C-D4E375CD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C192B-1F13-45AC-9EF4-54C66FBC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97C8E-2283-4D16-80AA-B7CE821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C07BD-5909-4DB3-90A9-431BC4B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5E59-A772-4D1B-B1B1-2E683312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1D05-33CC-456E-B443-D32CC63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4B327-EC07-437C-A9B4-5BBC32B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7EF2A-77CE-4D37-B1B7-D4659209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5E5-46DB-4EE5-93EE-3736061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A8AD0-B369-4CEF-848D-D12A4E84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DC2C-16BD-4FC9-9FF4-50177B9F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1886C-3EB0-4C52-B4F8-ED2E5DBF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39997-E2DA-4BFA-A1E4-B4219FA9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AB327-BE3A-41E4-88D2-9B022D6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F1944-B28F-449E-8827-DD8EE477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9CD3D-8DC3-44A1-8542-663DF179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417D5-73E4-483A-A8C2-C6DFEE3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EB1AA-6901-4638-A41D-2F24F03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C7B2-585A-4D65-8894-A675F637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3A6-8BAD-473F-8A5D-2165840B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2C86F-D8B0-445C-9775-7C93834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D3A8-0840-45F4-9A50-6EFBAA6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02526-4A93-4840-B3D7-43D74C3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A2086-673C-44E8-9DF4-A0BCFF0C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E7756-EB98-408B-B9CD-6D9E33CE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F4BE3-0780-499A-815F-A3AFD9FD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D0A52-E563-4B5E-A5D0-A9934E0E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985C1-41F0-4771-94C4-357B403C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AB871-A8E4-4958-B1C5-AE81C3C7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35231-8DAD-44EF-B3D3-A6866AC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E03-CB86-45FE-AA9E-ED0DEB4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783E7-8F07-45E8-B3DD-76E597A2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E258D-6ACB-4C78-AE90-2C601D0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08F33-D35A-4929-9A22-328E25A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96874-EDA0-47C8-936B-6618859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872D6-8BE8-4778-9929-85D4CCAF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D5E3-A591-43F1-9F2A-146331E5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24D08-2813-4694-BAF3-0D0D568C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A4F-3B4D-4434-986C-D59D086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0ECE-75A8-495F-A017-4C40074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A083-0DF0-41F3-8FAC-6E6D8501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E0AE-26D1-40A3-BE52-25C9321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917-A3D3-480A-905B-5FB09781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9DD0-6D3C-471B-8C5B-74C24DB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677-862B-47EE-8237-085BBC4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3D66-B4A5-44E8-AC30-ADC3A1A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3CB7-0C75-4BA6-AC6B-E424996D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5360-ABD0-4299-B613-483E2ACE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1430-BD26-4408-94AB-34A645D7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0F5B-8B9F-4AA2-BAB3-B9CEBDE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F6EF-C20C-46EA-B6E3-F5C17D4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B0F6-10B5-4810-A78A-209CF65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EB09-79FC-4C7C-A944-F645B56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4B5-FB77-4D0E-AD9A-34063C3C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3CF7-7ACD-47FF-AA74-C0ED725C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FE07-02D5-45B9-AD6A-198F53A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6657-5C79-4D73-8964-A4A3119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49D8-22CA-4658-AFA9-461F2EF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7BBA-D6B7-48F4-A3E3-4203FEF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EE1F-B88C-4211-92AC-D2976AC4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A871-6B3C-4393-8B57-5FC46FD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39CB-46B5-4459-8D98-F7FC3C7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98DDD-66CA-4E4A-ADBB-8C80EE1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2408-435A-4F4B-B6CD-B6055333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DAF-4B82-4187-B835-CEF097B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ADBE8-0B50-40C4-98B4-66BD9B6E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9B18-57F1-4217-9294-9A6C44F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E089-3EAF-497A-B6DC-5A1FB8E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1E63-F66E-44EB-84E7-7CF1235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8D93-1F4E-45E2-B34D-CAD2BF9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FCE0-E656-46AA-9B21-BE5A04E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936A-4D55-4090-B61B-3287C788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4AE7-EB66-4172-B193-866FB0FC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1713-75F8-47E6-BDD2-BAEEB75B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817B-F080-40DD-BC10-1D59F3BB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626-DFEE-4390-B532-98E1AA4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E2B8-30B1-4202-9F18-7440CABC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5FCF-45BD-4FE4-8F43-FD1E3E4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A3CF-BEDA-438C-9727-413B3FC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8559-4FB4-42D1-A9DB-66CF2C36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A08F-ACCC-4E83-BA89-A810BF4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07DD-E6E5-4ED2-BFFF-05226DE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E800-3418-4FB2-8091-1928EB8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007F-64D8-4F91-8788-63E4012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03E9-A268-4E02-B326-512A76F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7361-7C2C-4383-97DA-E0EDDEF0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946-371B-40D4-9371-5E7A9A9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1605-E203-41FD-9C33-4687BB0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E6FE-EF4B-4F5B-B30E-CD28233B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E412-C43B-4ECC-891D-CF85E60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31670-1932-4B8E-A03E-FFBB7D7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3EF0-0C71-456A-983F-DCF07364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40C6-0779-4047-B405-81A54ED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F067-E7A5-440E-905D-8D3B340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2B85-40A6-4A45-8ED2-6FFAE97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6678-7806-4401-940A-7A315E7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D417E-5441-4AED-8128-127B18E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7C0-5DC0-48E2-8697-E62A6DE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2A6F-33C9-4307-A8A5-060ACAF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8EA46-9F1F-445A-A7F4-099771DF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C8B3E-8819-4288-9959-315B1FA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F517-868A-45FB-BCA1-2461C4CB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5B9F-D03B-4C24-968F-D56C002B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0D36-9740-4CE0-B6C6-801622A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A417D-E240-423C-8278-78010A1E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0938-07A3-45D6-80BD-CCF18B9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5C0B-4D39-4011-9473-98D26D2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F51A2-E863-41A6-BB09-C9A20CE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A6F-050E-4ADC-8D23-BF9143B1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11C3-FF5D-41D8-A823-30475A0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2F8C2-E292-4CD7-9392-CFB950D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E9E5-FDD4-4424-8CF4-2FF4F1C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083C-E77A-49D2-951B-40BD5CA9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93DC-38B3-4D05-BBDC-5368297E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6F46-1EC7-4701-89B0-EF5000D2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B1232-EBC2-4172-85ED-CF46D5E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A451-58F5-4F3F-A869-739A73A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5EA42-08DA-4E24-A796-54838AC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587D0-9035-4EB4-935C-84CE7DC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B31-31FD-4F87-81C4-325451F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F462-EDB9-4B9B-915A-43759D3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15ED9-2101-4390-8D44-91ED087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5541B-53A0-4F90-A448-A1AB328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1FBA9-1629-433E-AC8E-BE1E89C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C385-B8D4-4160-8A46-B891A31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7CDF-0769-4B5E-AAC3-4F350353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F389-1A37-4E69-A5F6-83BF9C16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216E1-EA9C-4790-BAA4-CC743151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45167-CEEE-4C9B-8E78-4EC63DBB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32EFB-233E-4C2C-B262-7C2E81F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5E6-C002-4EA3-8DC8-88ECB5F8DABE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480960" y="1335240"/>
            <a:ext cx="4761000" cy="3249360"/>
            <a:chOff x="480960" y="1335240"/>
            <a:chExt cx="4761000" cy="324936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480960" y="1335240"/>
              <a:ext cx="476100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5640" y="1338120"/>
              <a:ext cx="474840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5511-0F68-4AB9-8C27-C3C25556022F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847800" y="2279520"/>
            <a:ext cx="3687840" cy="2517840"/>
            <a:chOff x="847800" y="2279520"/>
            <a:chExt cx="3687840" cy="251784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847800" y="2279520"/>
              <a:ext cx="36878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55720" y="2286000"/>
              <a:ext cx="36720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32C-A1D8-44B2-A5A3-B7AB060AE06B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4D19-3587-4FCD-AEB5-5092EDA28DC5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5748480" y="438120"/>
            <a:ext cx="3402000" cy="5426280"/>
            <a:chOff x="5748480" y="438120"/>
            <a:chExt cx="3402000" cy="54262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5748480" y="438120"/>
              <a:ext cx="340200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51360" y="446040"/>
              <a:ext cx="33926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AutoShape 4"/>
          <p:cNvSpPr/>
          <p:nvPr/>
        </p:nvSpPr>
        <p:spPr>
          <a:xfrm>
            <a:off x="5234040" y="0"/>
            <a:ext cx="39099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B16-5EF8-42ED-8607-72E481083645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6480" y="-12600"/>
            <a:ext cx="9156960" cy="5217840"/>
            <a:chOff x="-6480" y="-12600"/>
            <a:chExt cx="9156960" cy="521784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12600"/>
              <a:ext cx="915696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323-3CF0-4DD4-9191-5863EE16CCC3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FB9-0DCF-4B20-947F-9B4E792C43E1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6480" y="-6480"/>
            <a:ext cx="9156960" cy="5218200"/>
            <a:chOff x="-6480" y="-6480"/>
            <a:chExt cx="9156960" cy="521820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32E-DE90-414F-9EB0-39A7E8F41E80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90BD-BC5A-400E-A9CD-DED2FC3DB3C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32E-ED05-4587-B35B-E29A75CE417F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1AB-CE4F-4391-AE49-7D17D95388D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798480" y="438120"/>
            <a:ext cx="2670120" cy="1828800"/>
            <a:chOff x="798480" y="438120"/>
            <a:chExt cx="2670120" cy="182880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798480" y="438120"/>
              <a:ext cx="2670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04960" y="446040"/>
              <a:ext cx="266040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B4D3-1A69-44A1-94A5-23AA76A42CCD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2914200" y="6041520"/>
            <a:ext cx="731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42800" y="6041520"/>
            <a:ext cx="247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364644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5DE-B718-40AF-A538-CCD15CF0FAD4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2492280"/>
            <a:ext cx="7481880" cy="122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efefe"/>
                </a:solidFill>
                <a:latin typeface="Century Gothic"/>
                <a:ea typeface="맑은 고딕"/>
              </a:rPr>
              <a:t>Хрущевская оттепель (1953-64гг.)</a:t>
            </a:r>
            <a:endParaRPr b="1" lang="en-US" sz="54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564000" y="5589360"/>
            <a:ext cx="4960800" cy="93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Социально-экономическая политика.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57г. – Совнархозы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0г. – республиканские СНХ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3г. – Высший совет народного хозяйства СССР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solidFill>
            <a:srgbClr val="00958c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07" name="Picture 6" descr="В отличие от кукурузы заговоры в России всегда хорошо вызревали. Фото: Аркадий Колыбалов"/>
          <p:cNvPicPr/>
          <p:nvPr/>
        </p:nvPicPr>
        <p:blipFill>
          <a:blip r:embed="rId1"/>
          <a:stretch/>
        </p:blipFill>
        <p:spPr>
          <a:xfrm>
            <a:off x="809640" y="1679400"/>
            <a:ext cx="3174840" cy="2476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8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Закупочные цен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Приусадебные участк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ТС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олхоз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Целина (рекорд 1956г.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укуруз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ясная кампани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9" name="Picture 7" descr="Картинка 1 из 3"/>
          <p:cNvPicPr/>
          <p:nvPr/>
        </p:nvPicPr>
        <p:blipFill>
          <a:blip r:embed="rId2"/>
          <a:stretch/>
        </p:blipFill>
        <p:spPr>
          <a:xfrm>
            <a:off x="611280" y="4156200"/>
            <a:ext cx="396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: итоги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9640" y="2997360"/>
            <a:ext cx="7524720" cy="286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Повышение цен на 25-30 % на основные продукты питания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2г. – События в Новочеркасске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3г. – первая закупка хлеба за границей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157960" cy="1332000"/>
          </a:xfrm>
          <a:prstGeom prst="rect">
            <a:avLst/>
          </a:prstGeom>
          <a:solidFill>
            <a:srgbClr val="00635d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Юрий Гагарин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12 апреля – День космонавтики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13" name="Picture 4" descr="Картинка 4 из 1998"/>
          <p:cNvPicPr/>
          <p:nvPr/>
        </p:nvPicPr>
        <p:blipFill>
          <a:blip r:embed="rId1"/>
          <a:stretch/>
        </p:blipFill>
        <p:spPr>
          <a:xfrm>
            <a:off x="0" y="1773360"/>
            <a:ext cx="332424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4" name="Picture 5" descr="Картинка 9 из 1998"/>
          <p:cNvPicPr/>
          <p:nvPr/>
        </p:nvPicPr>
        <p:blipFill>
          <a:blip r:embed="rId2"/>
          <a:stretch/>
        </p:blipFill>
        <p:spPr>
          <a:xfrm>
            <a:off x="3995640" y="1773360"/>
            <a:ext cx="4248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НТР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9280" y="2484360"/>
            <a:ext cx="5327640" cy="3114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57г. – «Спутник - 1»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1г. – «Восток - 1» (108 минут)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5г. – выход в открытый космос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7" name="Picture 7" descr="Картинка 2 из 38"/>
          <p:cNvPicPr/>
          <p:nvPr/>
        </p:nvPicPr>
        <p:blipFill>
          <a:blip r:embed="rId1"/>
          <a:stretch/>
        </p:blipFill>
        <p:spPr>
          <a:xfrm>
            <a:off x="6227640" y="2484360"/>
            <a:ext cx="2381400" cy="311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116000" y="5516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4г. – АЭС</a:t>
            </a:r>
            <a:br>
              <a:rPr sz="2400"/>
            </a:b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7г. – ледокол «Ленин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9" name="Picture 5" descr="Картинка 10 из 172"/>
          <p:cNvPicPr/>
          <p:nvPr/>
        </p:nvPicPr>
        <p:blipFill>
          <a:blip r:embed="rId1"/>
          <a:stretch/>
        </p:blipFill>
        <p:spPr>
          <a:xfrm>
            <a:off x="1042920" y="620640"/>
            <a:ext cx="68151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оциальная политика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0964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илищное строительств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ост зарплат и пенс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нижение пенсионного возра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окращение рабочей недели до 46 ча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тмена платы за обучен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енсии и паспорта колхозника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2" name="Picture 6" descr="Картинка 10 из 38"/>
          <p:cNvPicPr/>
          <p:nvPr/>
        </p:nvPicPr>
        <p:blipFill>
          <a:blip r:embed="rId1"/>
          <a:stretch/>
        </p:blipFill>
        <p:spPr>
          <a:xfrm>
            <a:off x="4500720" y="2133720"/>
            <a:ext cx="4103640" cy="290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3" name="Rectangle 7"/>
          <p:cNvSpPr/>
          <p:nvPr/>
        </p:nvSpPr>
        <p:spPr>
          <a:xfrm>
            <a:off x="521964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«Хрущёвки»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Срок эксплуатации: 20 – 25 ле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entury Gothic"/>
              </a:rPr>
              <a:t>Хрущевская </a:t>
            </a:r>
            <a:r>
              <a:rPr b="1" lang="ru-RU" sz="3600" spc="-1" strike="noStrike">
                <a:solidFill>
                  <a:srgbClr val="006600"/>
                </a:solidFill>
                <a:latin typeface="Century Gothic"/>
              </a:rPr>
              <a:t>оттепель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94920" y="2217600"/>
            <a:ext cx="4753080" cy="1882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«Карибский»    кризи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Испытания водородной бомбы мощностью 50 М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02320" y="1989000"/>
            <a:ext cx="4038480" cy="165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Улучшение отношений с СШ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68360" y="3645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обытия в Венгрии в 1956г.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троительство Берлинской стены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Ухудшение отношений с Кита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5022720" y="3102120"/>
            <a:ext cx="36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Мирные инициативы ССС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597640" y="4235400"/>
            <a:ext cx="34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Отношения со странам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народной             демократ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Результаты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09640" y="2565360"/>
            <a:ext cx="7524720" cy="329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ост численности государствен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аппа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Частичная реабилитаци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епрессирова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Высокие темпы урбанизаци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Уничтожение личного подсоб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хозяйства колхозник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Экспорт хлеба за рубежо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Сохранение высоких темпов роста производств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Обилие научно-технических открыти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Мировое лидерство в отдельных отраслях производств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1640" y="1213920"/>
            <a:ext cx="7524720" cy="97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Октябрьский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пленум ЦК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1964 г.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33" name="Picture 4" descr="semichast"/>
          <p:cNvPicPr/>
          <p:nvPr/>
        </p:nvPicPr>
        <p:blipFill>
          <a:blip r:embed="rId1"/>
          <a:stretch/>
        </p:blipFill>
        <p:spPr>
          <a:xfrm>
            <a:off x="179280" y="1052640"/>
            <a:ext cx="1733760" cy="250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34" name="Rectangle 5"/>
          <p:cNvSpPr/>
          <p:nvPr/>
        </p:nvSpPr>
        <p:spPr>
          <a:xfrm>
            <a:off x="18720" y="35733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емичастный В.Н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5" name="Picture 6" descr="Косыгин"/>
          <p:cNvPicPr/>
          <p:nvPr/>
        </p:nvPicPr>
        <p:blipFill>
          <a:blip r:embed="rId2"/>
          <a:stretch/>
        </p:blipFill>
        <p:spPr>
          <a:xfrm>
            <a:off x="6804000" y="981000"/>
            <a:ext cx="1663560" cy="2376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7"/>
          <p:cNvSpPr/>
          <p:nvPr/>
        </p:nvSpPr>
        <p:spPr>
          <a:xfrm>
            <a:off x="6738840" y="3429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сыгин А.Н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7" name="Picture 8" descr="Громыкокочб"/>
          <p:cNvPicPr/>
          <p:nvPr/>
        </p:nvPicPr>
        <p:blipFill>
          <a:blip r:embed="rId3"/>
          <a:stretch/>
        </p:blipFill>
        <p:spPr>
          <a:xfrm>
            <a:off x="179280" y="3933720"/>
            <a:ext cx="1986120" cy="2232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9"/>
          <p:cNvSpPr/>
          <p:nvPr/>
        </p:nvSpPr>
        <p:spPr>
          <a:xfrm>
            <a:off x="579600" y="630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ромыко А.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10" descr="Микоян"/>
          <p:cNvPicPr/>
          <p:nvPr/>
        </p:nvPicPr>
        <p:blipFill>
          <a:blip r:embed="rId4"/>
          <a:stretch/>
        </p:blipFill>
        <p:spPr>
          <a:xfrm>
            <a:off x="6716880" y="3757680"/>
            <a:ext cx="1993680" cy="25398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11"/>
          <p:cNvSpPr/>
          <p:nvPr/>
        </p:nvSpPr>
        <p:spPr>
          <a:xfrm>
            <a:off x="6657840" y="6308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икоян А.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41" name="Picture 12" descr="Брежнев"/>
          <p:cNvPicPr/>
          <p:nvPr/>
        </p:nvPicPr>
        <p:blipFill>
          <a:blip r:embed="rId5"/>
          <a:stretch/>
        </p:blipFill>
        <p:spPr>
          <a:xfrm>
            <a:off x="2484360" y="170028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3"/>
          <p:cNvSpPr/>
          <p:nvPr/>
        </p:nvSpPr>
        <p:spPr>
          <a:xfrm>
            <a:off x="2916360" y="6165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.И. Брежн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347640" y="5589360"/>
            <a:ext cx="5545080" cy="981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Хрущев Н.С. о ближайшем окружен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46836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Мы получили после смерти Сталина тяжелое наследие. Страна была разорена. Руководство ею, сложившееся при Сталине, было, если так можно выразиться, нехорошим. Собрались в кучу разношерстные люди. Тут и неспособный к новациям Молотов, и опасный для всех Берия, и перекати-поле Маленков, и слепой исполнитель сталинской воли Каганович. В лагерях сидело 10 миллионов человек. Тюрьмы были переполнены. Имелась даже особая тюрьма для партийного актива, которую создал по специальному заданию Сталина Маленков. В международной обстановке не виделось просвета, шла вовсю «холодная война».</a:t>
            </a: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72" name="Picture 7" descr="Рисунок8"/>
          <p:cNvPicPr/>
          <p:nvPr/>
        </p:nvPicPr>
        <p:blipFill>
          <a:blip r:embed="rId1"/>
          <a:stretch/>
        </p:blipFill>
        <p:spPr>
          <a:xfrm>
            <a:off x="539640" y="1700280"/>
            <a:ext cx="4032360" cy="31510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3" name=""/>
          <p:cNvSpPr txBox="1"/>
          <p:nvPr/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5 марта 1953 г. скончался Сталин и среди его соратников началась борьба за власть.  На 1 этапе ключевые позиции заняли Г.Маленков-председатель Со-вета Министров и Л.Берия-глава МВД. В это время началась критика культа личности, реальная власть перешла от партийных к государственным органам. Защитником интересов партийного аппарата выступил Н.С.Хрущев. Воспользовавшись тем, что после амнистии, проведенной Берия, в стране вырос уровень преступности он организовал загово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116000" y="5084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Москвич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идут прощать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о Сталины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Молотов"/>
          <p:cNvPicPr/>
          <p:nvPr/>
        </p:nvPicPr>
        <p:blipFill>
          <a:blip r:embed="rId1"/>
          <a:stretch/>
        </p:blipFill>
        <p:spPr>
          <a:xfrm>
            <a:off x="684360" y="404640"/>
            <a:ext cx="190476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6" name="Rectangle 5"/>
          <p:cNvSpPr/>
          <p:nvPr/>
        </p:nvSpPr>
        <p:spPr>
          <a:xfrm>
            <a:off x="817200" y="220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лотов В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77" name="Picture 6" descr="stalin_-4"/>
          <p:cNvPicPr/>
          <p:nvPr/>
        </p:nvPicPr>
        <p:blipFill>
          <a:blip r:embed="rId2"/>
          <a:stretch/>
        </p:blipFill>
        <p:spPr>
          <a:xfrm>
            <a:off x="2700360" y="1484280"/>
            <a:ext cx="3673440" cy="311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8" name="Picture 7" descr="4356"/>
          <p:cNvPicPr/>
          <p:nvPr/>
        </p:nvPicPr>
        <p:blipFill>
          <a:blip r:embed="rId3"/>
          <a:stretch/>
        </p:blipFill>
        <p:spPr>
          <a:xfrm>
            <a:off x="6659640" y="620640"/>
            <a:ext cx="128088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9" name="Rectangle 8"/>
          <p:cNvSpPr/>
          <p:nvPr/>
        </p:nvSpPr>
        <p:spPr>
          <a:xfrm>
            <a:off x="6662520" y="227664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рошилов К.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0" name="Picture 9" descr="Маленков"/>
          <p:cNvPicPr/>
          <p:nvPr/>
        </p:nvPicPr>
        <p:blipFill>
          <a:blip r:embed="rId4"/>
          <a:stretch/>
        </p:blipFill>
        <p:spPr>
          <a:xfrm>
            <a:off x="611280" y="3860640"/>
            <a:ext cx="1861920" cy="23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1" name="Rectangle 10"/>
          <p:cNvSpPr/>
          <p:nvPr/>
        </p:nvSpPr>
        <p:spPr>
          <a:xfrm>
            <a:off x="618480" y="63086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ленков Г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2" name="Picture 11" descr="ерия"/>
          <p:cNvPicPr/>
          <p:nvPr/>
        </p:nvPicPr>
        <p:blipFill>
          <a:blip r:embed="rId5"/>
          <a:stretch/>
        </p:blipFill>
        <p:spPr>
          <a:xfrm>
            <a:off x="3132000" y="4581360"/>
            <a:ext cx="2233800" cy="18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3" name="Rectangle 12"/>
          <p:cNvSpPr/>
          <p:nvPr/>
        </p:nvSpPr>
        <p:spPr>
          <a:xfrm>
            <a:off x="3776400" y="6308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ерия Л.П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4" name="Picture 13" descr="Каганович2"/>
          <p:cNvPicPr/>
          <p:nvPr/>
        </p:nvPicPr>
        <p:blipFill>
          <a:blip r:embed="rId6"/>
          <a:stretch/>
        </p:blipFill>
        <p:spPr>
          <a:xfrm>
            <a:off x="6516720" y="3716280"/>
            <a:ext cx="1888920" cy="2519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4"/>
          <p:cNvSpPr/>
          <p:nvPr/>
        </p:nvSpPr>
        <p:spPr>
          <a:xfrm>
            <a:off x="6434280" y="6237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аганович Л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87" name="Picture 7" descr="Рисунок7"/>
          <p:cNvPicPr/>
          <p:nvPr/>
        </p:nvPicPr>
        <p:blipFill>
          <a:blip r:embed="rId1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8" name=""/>
          <p:cNvSpPr txBox="1"/>
          <p:nvPr/>
        </p:nvSpPr>
        <p:spPr>
          <a:xfrm>
            <a:off x="4211280" y="1600200"/>
            <a:ext cx="4475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6 июня на заседании правительства Л.Берия был арестован и в декабре 1953 г.расстрелян как «английский шпион».С этого момента и до начала 1955 г.основная борьба развернулась между Г.Маленковым и Н.Хрущевым. В сентябре 1953 г. Он стал 1 секретарем ЦК партии. В к.1954г. состоялся суд над соратниками Берия(В.Абакумов и др.) обвиненных в фабрикации «ленинградского дела».В результате удар был нанесен и по Г.Маленкову, как одному из организаторов этого дела. В январе 1955 г.он подал в отставку а его пост занял Н.Булганин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1182240" y="50846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Арест Л.Бер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90" name="Picture 9" descr="Рисунок7"/>
          <p:cNvPicPr/>
          <p:nvPr/>
        </p:nvPicPr>
        <p:blipFill>
          <a:blip r:embed="rId2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2" name="Picture 7" descr="Рисунок6"/>
          <p:cNvPicPr/>
          <p:nvPr/>
        </p:nvPicPr>
        <p:blipFill>
          <a:blip r:embed="rId1"/>
          <a:stretch/>
        </p:blipFill>
        <p:spPr>
          <a:xfrm>
            <a:off x="684360" y="1557360"/>
            <a:ext cx="2894040" cy="39704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3" name=""/>
          <p:cNvSpPr txBox="1"/>
          <p:nvPr/>
        </p:nvSpPr>
        <p:spPr>
          <a:xfrm>
            <a:off x="3635280" y="1600200"/>
            <a:ext cx="550872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На третьем этапе(1955-сер. 1958 г.)началось противостояние Хрущева и «сталинской гвардии» (Молотов, Каганович, Маленков.) На июньском 1957 г. Пленуме ЦК они попытались снять Хрущева. Но ЦК оказался на стороне Первого секретаря и противники Хрущева были сняты со своих постов. В марте 1958 г.с поста главы правительства снимается Н.Булганин и Хрущев совмещает посты руководителя партии и государства. На этом борьба за власть завершилас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976680" y="5734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Н.С.Хрущ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6" name="Picture 6" descr="Картинка 17 из 90"/>
          <p:cNvPicPr/>
          <p:nvPr/>
        </p:nvPicPr>
        <p:blipFill>
          <a:blip r:embed="rId1"/>
          <a:stretch/>
        </p:blipFill>
        <p:spPr>
          <a:xfrm>
            <a:off x="0" y="1916280"/>
            <a:ext cx="4495680" cy="27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МГБ              КГБ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начало реабилитаци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6г. – </a:t>
            </a: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XX</a:t>
            </a: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 съезд КПСС: развенчание культа личности Сталин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entury Gothic"/>
              </a:rPr>
              <a:t>XX</a:t>
            </a: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 съезд КПСС.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9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1557360"/>
            <a:ext cx="3000600" cy="38116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0" name=""/>
          <p:cNvSpPr txBox="1"/>
          <p:nvPr/>
        </p:nvSpPr>
        <p:spPr>
          <a:xfrm>
            <a:off x="3276720" y="1600200"/>
            <a:ext cx="541008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В последний день работы съезда Н.Хрущев зачитал доклад посвященный беззакониям, тво-рившимся в стране в 30-50-е гг. Но дальше критики Сталина, Ежова и Берии Хрущев не пошел. Он заявил, что «сталинизм» не изменил природы социализма. Съезд специальным постановлением осудил культ личности, но в его тексте никаких фактов не содержалось. Тем не менее доклад положил начало процессу десталинизации. На свободу вышло ок. 700000 челове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684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Рабочие 1 ГПЗ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обсуждают решени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entury Gothic"/>
              </a:rPr>
              <a:t>XX </a:t>
            </a: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ъезда парт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1г. – вынос тела Сталина из Мавзоле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4г. – Проект Конституци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в соответствии с Программой построения коммунизма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entury Gothic"/>
              </a:rPr>
              <a:t>Реабилитация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жертв сталинских репресс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«управляемая десталинизация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Ядро системы - КПС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0:39:07Z</dcterms:created>
  <dc:creator>Залега</dc:creator>
  <dc:description/>
  <dc:language>en-US</dc:language>
  <cp:lastModifiedBy>эвм 6</cp:lastModifiedBy>
  <dcterms:modified xsi:type="dcterms:W3CDTF">2020-03-27T04:06:2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