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B32-6E61-4762-AE10-B9074C30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8EA-BDF0-4AF4-B6EC-1BE4B38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D0EA1-16A0-4287-9A3E-B940D97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D97BD-E936-4E1F-84B9-687B6753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A47DF-E3A7-4F71-AC11-5FB59349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74C8-BA52-4D85-B00E-3F40BCA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B85D3-4767-416D-BA69-670C8ED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C675A-CFCA-49B2-905E-0653CB90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54E2A-7164-408D-A646-9CA5E9B4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B1EE1-8A45-4F99-8F2D-4BDEC6D3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14D7-B8BA-4CDD-ADEB-63B101D6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4C7A8-B7BC-4303-8EBC-C82DB55C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A1A-F15D-474D-A5D4-AB063BEC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38027-3A80-4742-B677-09D365AA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DCFB0-3490-4DE6-91A3-8B35C568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229D6-5633-46BB-8C7D-8674BAE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F3F3A-E86F-4E1C-9E46-144CD5B4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E2CC8-CCA0-4050-A50D-7922B09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3C99A-7A03-4D30-8708-BDB8B32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3FF43-234F-4524-A1B8-7BC99C9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06EBF-5FD2-4E3B-AFAC-CE8D193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0AD90-FB83-4970-8A15-BCB89412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2358E-399B-4352-8D75-ED56AC93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DDC-0D38-4EF7-81EF-98A8B9A6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57206-574C-4DD6-B16B-347D8C4C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ED714-9C54-4519-804A-68306913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EB7ED-504F-4F13-B865-DD9D0C4B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7F724-B373-4B00-9FA0-05F47E89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F3CBD-CDDA-419F-9278-CB994709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1A2E-6376-4848-873F-D403EFD3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07C67-6517-4CB7-83C5-4AF57978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B093-6833-46E3-934E-B7301F8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ADB51-C300-406E-97C7-86076C9D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3B049-EDD0-4F37-BA02-897D81CA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313E-50F5-4D2F-8F1E-017277B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EC2A9-D0CB-43D2-A825-5C033E45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5166F-F701-4A3E-839E-159EE113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E8FC4-54DF-436B-B4EB-845123E2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01860-09DD-4C4C-9943-EA79C3C3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89247-EB0F-41A9-A91C-99EBFB14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AA94E-F3ED-4147-9720-607DC9E0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5031E-0CA8-4C43-A982-3F09242C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FE75-D9B1-4955-8DBE-D59FDAC5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4698-6A09-4E1B-B37E-9ABD7275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BB281-AC5F-4570-BC36-75F019B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49DD-0EAA-48DE-80FB-B9085698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67F3E-C72F-473D-9A5B-F411467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BB2C3-99BE-4C89-BB6E-0544DAE5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33083-71A5-4EB6-977A-F5A0382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E6525-2A42-4CCB-AA00-533AEC1E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F70A8-CB59-44B6-9A66-4EE87C66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1B46A-93F0-49AE-A452-C64E3CA0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48A50-C89E-4295-8FF5-B639295E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7D5D2-9FE4-42F8-A4D5-46B99C88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08E3D-7E96-4A23-854C-F3012E86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4459A-F4E3-4A2E-BEC7-8863ACF2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2A93-8054-41EE-89F2-126556EC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6E634-8405-43B5-8823-A1AB94B2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1F19A-9308-4974-8012-9D5E5F36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35FFB-807A-497A-8E74-165EA70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DCB7C-B344-4E1D-86F9-CEB4092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BE0CE-E8E0-4ABC-85D8-5AA4DD0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3E5CE-B41D-4A41-B01A-8C2CBFCF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17F12-29E2-477E-A8DC-AAD00C5E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C626-2687-4F14-883F-9B162D89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BFD2-7671-4766-A263-E1E5D175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2CB2-355E-48BB-95EA-F2F69F28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DCB2-4B8E-4887-B3A3-33968FD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22A-37BE-4287-BDD9-6B6E503C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43A9-D558-4901-B9EC-B39CFBC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637E-3519-4DF1-B9A4-A07DA8D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6DD-D063-4F50-8700-8921B472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8ADE-3115-4767-B771-ECD55120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89AE-ECEA-471B-BDC6-B55808AA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E532-867D-42ED-9AA0-804F0BCB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2EF0-13FD-4CD6-98FC-2326DE0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D209-A826-4CDA-874D-507109E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CC28-3343-4D17-B694-2CBF29BE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3B77-F30A-4207-B671-9C0BF2A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300-4053-4EB3-B99C-24AC937E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5EBC6-CBFD-4F20-BE57-FD57652F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350B-D8AC-4D42-B59E-DB95B54B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9191-963E-4E7C-93B3-FB19A4E4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EF38-B87A-47ED-9E40-5B2EC9F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4359-2DA4-4A68-8821-6413552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8460-7731-48E6-8A9B-20B03859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D629-36FD-4EAB-B94D-978527C9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6F392-3059-47C8-995A-3D4170E8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DB60-FDA9-4F99-9238-F75F8AF8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3A5F-E44F-460F-B9D4-E39449E7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0B8-974E-415B-BEC0-A14A227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42B3-8E8F-4B78-96DB-B8850FA3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2179-7185-4B69-A387-A965A52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6997-7505-4D41-9F2F-68ECBBD0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1F5A-7758-4D60-8F53-EF93281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6FB1F-5668-4844-AB4F-DF4CA27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F5B9-D714-47A1-AB88-03A5E038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B193-0B70-43D0-8723-8DAC0284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B3CF-B33B-4991-96E4-A9FCE7F7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57CC-D7D9-4918-92BB-3A898834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D434-1D3D-4556-88B9-4A52DADD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A95-29FB-4129-9877-468A029D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514F5-F8E4-4ECF-8DB3-6CB19A31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C43C-ED4F-4724-9770-333FE741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369E2-E6D8-45F6-A0BA-14A21D86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34E0-A54F-443E-9E86-4B3968F9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1ED8-1FD5-4636-8907-5617612F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7F4F-53AC-4638-9366-10D3B41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70F9-6CAA-4FF8-BBE5-D580B1A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452B-1802-4918-B1C3-8AD55465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92F6-232F-4541-B452-06047602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E427E-9E03-48F0-9F2C-2FB0C6CA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7CA-078C-46C8-B7AD-C731A3BD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3244-F9CD-40A2-9B41-3E4C9DE9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8A475-5B05-4A14-9BA7-4A6B319D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BFFC7-7C50-4816-9000-74C5BB74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2202B-2878-4828-A7EF-1827A6A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F0556-D95A-431F-A66F-85DC3C40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BC9D-C3E3-4577-9D36-9C49F1D0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89B82-9154-4676-BBCF-10689AFB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26AB-B325-4CCF-BF12-4E3B4831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5432-7FBA-4DDC-8380-28E8D162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C2B3-13C3-4830-A5F4-7AE3BD1A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08D-D4CE-4389-82DC-464BD3FE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30F58-B42E-48FC-BB83-C31593D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D554E-2D96-4DB8-98BC-DE09893C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BE361-CC94-4358-953B-BC5276AB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94CC-29A9-43AA-946E-68406A4F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CA229-21F7-412D-93C8-FD625E89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CF70-8C23-4176-AC39-4D08EFC8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BCD2-7549-4281-9AE8-647FE58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A807-9EAD-45AC-8F13-D36838D2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9FB73-B3D4-4DE1-8F4B-9352F547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FC78E-7026-4C52-838E-773B443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9AA-C833-44BA-BCD7-F024321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314D9-31DD-4D03-B275-C8B0F5E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91FDE-3D2F-46C5-939B-CD75E9F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0209-44D8-4B64-B69D-570EA578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6623-AD1D-4DA1-A73A-06282B97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2C82C-C928-4F06-8FF2-85061A83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FDF7-144C-4F77-9628-48BCC7C3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A335B-5D9F-4397-B99D-73BA8EEB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2736-D4D2-4214-8BBB-3275284A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39C1-2E42-466D-B661-E7A509F4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5A3D-6C9D-4556-8EB6-1BB0B63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B9D-EF86-4103-8669-7AFBE09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D3D9-8C4C-478C-9DD8-228A83FD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F3FE9-E314-4141-9F7C-8C9A736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35BA1-F684-4A12-A517-8B8254C2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04C1-3155-4F9F-AE1E-758224B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4E23F-3819-46E3-84B2-18B275A0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62ECE-F0A6-4197-B0A9-E05CE235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9BB4C-F60B-48A4-8E88-492F6D86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9D867-A51B-46D9-9C52-619FFCE2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18DF4-536C-4376-971E-037C1D83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A4215-3DCD-489E-86D9-3B0B73FB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6B74-2A6B-47E4-8FF1-0E3F07E1146F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480960" y="1335240"/>
            <a:ext cx="4761000" cy="3249360"/>
            <a:chOff x="480960" y="1335240"/>
            <a:chExt cx="4761000" cy="324936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480960" y="1335240"/>
              <a:ext cx="476100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85640" y="1338120"/>
              <a:ext cx="474840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6FA-FC3A-47B3-807D-580DEBACEC35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847800" y="2279520"/>
            <a:ext cx="3687840" cy="2517840"/>
            <a:chOff x="847800" y="2279520"/>
            <a:chExt cx="3687840" cy="251784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847800" y="2279520"/>
              <a:ext cx="368784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55720" y="2286000"/>
              <a:ext cx="36720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6A26-2D26-4EBD-9764-859FAB78CBBC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FC45-16DA-475F-B176-9B816197E55F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5748480" y="438120"/>
            <a:ext cx="3402000" cy="5426280"/>
            <a:chOff x="5748480" y="438120"/>
            <a:chExt cx="3402000" cy="54262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5748480" y="438120"/>
              <a:ext cx="3402000" cy="54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751360" y="446040"/>
              <a:ext cx="3392640" cy="54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AutoShape 4"/>
          <p:cNvSpPr/>
          <p:nvPr/>
        </p:nvSpPr>
        <p:spPr>
          <a:xfrm>
            <a:off x="5234040" y="0"/>
            <a:ext cx="39099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298B-AC49-4B02-A9BE-F6E450959F6C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6480" y="-12600"/>
            <a:ext cx="9156960" cy="5217840"/>
            <a:chOff x="-6480" y="-12600"/>
            <a:chExt cx="9156960" cy="521784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12600"/>
              <a:ext cx="9156960" cy="52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DF25-D954-4162-8D56-1218B042A086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DDA-6BF6-4D96-ACE4-BAD8842C586D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6480" y="-6480"/>
            <a:ext cx="9156960" cy="5218200"/>
            <a:chOff x="-6480" y="-6480"/>
            <a:chExt cx="9156960" cy="521820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25A1-52ED-4BE3-8AE2-15769531906B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DE05-2270-41B9-B5BC-79923DC16E10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095-F5D2-43CA-946B-01B60BD70A2C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485-AFE9-467E-BCB2-6BCE10BB1001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798480" y="438120"/>
            <a:ext cx="2670120" cy="1828800"/>
            <a:chOff x="798480" y="438120"/>
            <a:chExt cx="2670120" cy="182880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798480" y="438120"/>
              <a:ext cx="26701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04960" y="446040"/>
              <a:ext cx="266040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13F-60FF-443C-8DDD-16470D79CB83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2914200" y="6041520"/>
            <a:ext cx="731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42800" y="6041520"/>
            <a:ext cx="247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364644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704D-3DAE-4BAE-8D21-FAA4564F1180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2560" y="2492280"/>
            <a:ext cx="7481880" cy="1224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efefe"/>
                </a:solidFill>
                <a:latin typeface="Century Gothic"/>
                <a:ea typeface="맑은 고딕"/>
              </a:rPr>
              <a:t>Хрущевская оттепель (1953-64гг.)</a:t>
            </a:r>
            <a:endParaRPr b="1" lang="en-US" sz="54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3564000" y="5589360"/>
            <a:ext cx="4960800" cy="93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Социально-экономическая политика.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57г. – Совнархозы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60г. – республиканские СНХ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63г. – Высший совет народного хозяйства СССР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solidFill>
            <a:srgbClr val="00958c"/>
          </a:solidFill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ельское хозяйство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07" name="Picture 6" descr="В отличие от кукурузы заговоры в России всегда хорошо вызревали. Фото: Аркадий Колыбалов"/>
          <p:cNvPicPr/>
          <p:nvPr/>
        </p:nvPicPr>
        <p:blipFill>
          <a:blip r:embed="rId1"/>
          <a:stretch/>
        </p:blipFill>
        <p:spPr>
          <a:xfrm>
            <a:off x="809640" y="1679400"/>
            <a:ext cx="3174840" cy="2476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8" name=""/>
          <p:cNvSpPr txBox="1"/>
          <p:nvPr/>
        </p:nvSpPr>
        <p:spPr>
          <a:xfrm>
            <a:off x="466236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Закупочные цен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Приусадебные участк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МТС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Колхоз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Целина (рекорд 1956г.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Кукуруз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Мясная кампания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9" name="Picture 7" descr="Картинка 1 из 3"/>
          <p:cNvPicPr/>
          <p:nvPr/>
        </p:nvPicPr>
        <p:blipFill>
          <a:blip r:embed="rId2"/>
          <a:stretch/>
        </p:blipFill>
        <p:spPr>
          <a:xfrm>
            <a:off x="611280" y="4156200"/>
            <a:ext cx="3960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ельское хозяйство: итоги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09640" y="2997360"/>
            <a:ext cx="7524720" cy="286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Повышение цен на 25-30 % на основные продукты питания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1962г. – События в Новочеркасске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1963г. – первая закупка хлеба за границей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157960" cy="1332000"/>
          </a:xfrm>
          <a:prstGeom prst="rect">
            <a:avLst/>
          </a:prstGeom>
          <a:solidFill>
            <a:srgbClr val="00635d"/>
          </a:solidFill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Юрий Гагарин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12 апреля – День космонавтики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13" name="Picture 4" descr="Картинка 4 из 1998"/>
          <p:cNvPicPr/>
          <p:nvPr/>
        </p:nvPicPr>
        <p:blipFill>
          <a:blip r:embed="rId1"/>
          <a:stretch/>
        </p:blipFill>
        <p:spPr>
          <a:xfrm>
            <a:off x="0" y="1773360"/>
            <a:ext cx="3324240" cy="40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4" name="Picture 5" descr="Картинка 9 из 1998"/>
          <p:cNvPicPr/>
          <p:nvPr/>
        </p:nvPicPr>
        <p:blipFill>
          <a:blip r:embed="rId2"/>
          <a:stretch/>
        </p:blipFill>
        <p:spPr>
          <a:xfrm>
            <a:off x="3995640" y="1773360"/>
            <a:ext cx="4248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НТР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9280" y="2484360"/>
            <a:ext cx="5327640" cy="3114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57г. – «Спутник - 1»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61г. – «Восток - 1» (108 минут)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65г. – выход в открытый космос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17" name="Picture 7" descr="Картинка 2 из 38"/>
          <p:cNvPicPr/>
          <p:nvPr/>
        </p:nvPicPr>
        <p:blipFill>
          <a:blip r:embed="rId1"/>
          <a:stretch/>
        </p:blipFill>
        <p:spPr>
          <a:xfrm>
            <a:off x="6227640" y="2484360"/>
            <a:ext cx="2381400" cy="311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4"/>
          <p:cNvSpPr/>
          <p:nvPr/>
        </p:nvSpPr>
        <p:spPr>
          <a:xfrm>
            <a:off x="1116000" y="5516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1954г. – АЭС</a:t>
            </a:r>
            <a:br>
              <a:rPr sz="2400"/>
            </a:b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1957г. – ледокол «Ленин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19" name="Picture 5" descr="Картинка 10 из 172"/>
          <p:cNvPicPr/>
          <p:nvPr/>
        </p:nvPicPr>
        <p:blipFill>
          <a:blip r:embed="rId1"/>
          <a:stretch/>
        </p:blipFill>
        <p:spPr>
          <a:xfrm>
            <a:off x="1042920" y="620640"/>
            <a:ext cx="68151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оциальная политика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0964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Жилищное строительств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ост зарплат и пенс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нижение пенсионного возра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окращение рабочей недели до 46 ча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тмена платы за обучени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енсии и паспорта колхозника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2" name="Picture 6" descr="Картинка 10 из 38"/>
          <p:cNvPicPr/>
          <p:nvPr/>
        </p:nvPicPr>
        <p:blipFill>
          <a:blip r:embed="rId1"/>
          <a:stretch/>
        </p:blipFill>
        <p:spPr>
          <a:xfrm>
            <a:off x="4500720" y="2133720"/>
            <a:ext cx="4103640" cy="290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3" name="Rectangle 7"/>
          <p:cNvSpPr/>
          <p:nvPr/>
        </p:nvSpPr>
        <p:spPr>
          <a:xfrm>
            <a:off x="5219640" y="530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6363"/>
                </a:solidFill>
                <a:latin typeface="Century Gothic"/>
              </a:rPr>
              <a:t>«Хрущёвки»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6363"/>
                </a:solidFill>
                <a:latin typeface="Century Gothic"/>
              </a:rPr>
              <a:t>Срок эксплуатации: 20 – 25 ле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entury Gothic"/>
              </a:rPr>
              <a:t>Хрущевская </a:t>
            </a:r>
            <a:r>
              <a:rPr b="1" lang="ru-RU" sz="3600" spc="-1" strike="noStrike">
                <a:solidFill>
                  <a:srgbClr val="006600"/>
                </a:solidFill>
                <a:latin typeface="Century Gothic"/>
              </a:rPr>
              <a:t>оттепель</a:t>
            </a:r>
            <a:br>
              <a:rPr sz="3600"/>
            </a:b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94920" y="2217600"/>
            <a:ext cx="4753080" cy="1882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cc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«Карибский»    кризи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cc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Испытания водородной бомбы мощностью 50 М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702320" y="1989000"/>
            <a:ext cx="4038480" cy="165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Улучшение отношений с СШ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68360" y="364500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События в Венгрии в 1956г.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Строительство Берлинской стены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Ухудшение отношений с Китае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5022720" y="3102120"/>
            <a:ext cx="36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Мирные инициативы ССС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597640" y="4235400"/>
            <a:ext cx="34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Отношения со странами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народной             демократ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Century Gothic"/>
              </a:rPr>
              <a:t>Результаты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09640" y="2565360"/>
            <a:ext cx="7524720" cy="3294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Рост численности государственног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аппа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Частичная реабилитаци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репрессирова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Высокие темпы урбанизаци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Уничтожение личного подсобног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хозяйства колхозник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Экспорт хлеба за рубежо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Сохранение высоких темпов роста производств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Обилие научно-технических открыти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Мировое лидерство в отдельных отраслях производств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1640" y="1213920"/>
            <a:ext cx="7524720" cy="97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Октябрьский</a:t>
            </a: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пленум ЦК</a:t>
            </a: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1964 г.</a:t>
            </a:r>
            <a:br>
              <a:rPr sz="3600"/>
            </a:b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33" name="Picture 4" descr="semichast"/>
          <p:cNvPicPr/>
          <p:nvPr/>
        </p:nvPicPr>
        <p:blipFill>
          <a:blip r:embed="rId1"/>
          <a:stretch/>
        </p:blipFill>
        <p:spPr>
          <a:xfrm>
            <a:off x="179280" y="1052640"/>
            <a:ext cx="1733760" cy="250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34" name="Rectangle 5"/>
          <p:cNvSpPr/>
          <p:nvPr/>
        </p:nvSpPr>
        <p:spPr>
          <a:xfrm>
            <a:off x="18720" y="35733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емичастный В.Н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5" name="Picture 6" descr="Косыгин"/>
          <p:cNvPicPr/>
          <p:nvPr/>
        </p:nvPicPr>
        <p:blipFill>
          <a:blip r:embed="rId2"/>
          <a:stretch/>
        </p:blipFill>
        <p:spPr>
          <a:xfrm>
            <a:off x="6804000" y="981000"/>
            <a:ext cx="1663560" cy="23767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7"/>
          <p:cNvSpPr/>
          <p:nvPr/>
        </p:nvSpPr>
        <p:spPr>
          <a:xfrm>
            <a:off x="6738840" y="3429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сыгин А.Н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7" name="Picture 8" descr="Громыкокочб"/>
          <p:cNvPicPr/>
          <p:nvPr/>
        </p:nvPicPr>
        <p:blipFill>
          <a:blip r:embed="rId3"/>
          <a:stretch/>
        </p:blipFill>
        <p:spPr>
          <a:xfrm>
            <a:off x="179280" y="3933720"/>
            <a:ext cx="1986120" cy="2232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9"/>
          <p:cNvSpPr/>
          <p:nvPr/>
        </p:nvSpPr>
        <p:spPr>
          <a:xfrm>
            <a:off x="579600" y="63086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ромыко А.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9" name="Picture 10" descr="Микоян"/>
          <p:cNvPicPr/>
          <p:nvPr/>
        </p:nvPicPr>
        <p:blipFill>
          <a:blip r:embed="rId4"/>
          <a:stretch/>
        </p:blipFill>
        <p:spPr>
          <a:xfrm>
            <a:off x="6716880" y="3757680"/>
            <a:ext cx="1993680" cy="253980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11"/>
          <p:cNvSpPr/>
          <p:nvPr/>
        </p:nvSpPr>
        <p:spPr>
          <a:xfrm>
            <a:off x="6657840" y="6308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икоян А.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41" name="Picture 12" descr="Брежнев"/>
          <p:cNvPicPr/>
          <p:nvPr/>
        </p:nvPicPr>
        <p:blipFill>
          <a:blip r:embed="rId5"/>
          <a:stretch/>
        </p:blipFill>
        <p:spPr>
          <a:xfrm>
            <a:off x="2484360" y="1700280"/>
            <a:ext cx="3672000" cy="44654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3"/>
          <p:cNvSpPr/>
          <p:nvPr/>
        </p:nvSpPr>
        <p:spPr>
          <a:xfrm>
            <a:off x="2916360" y="6165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Л.И. Брежне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347640" y="5589360"/>
            <a:ext cx="5545080" cy="981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Хрущев Н.С. о ближайшем окружен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468360" y="476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Мы получили после смерти Сталина тяжелое наследие. Страна была разорена. Руководство ею, сложившееся при Сталине, было, если так можно выразиться, нехорошим. Собрались в кучу разношерстные люди. Тут и неспособный к новациям Молотов, и опасный для всех Берия, и перекати-поле Маленков, и слепой исполнитель сталинской воли Каганович. В лагерях сидело 10 миллионов человек. Тюрьмы были переполнены. Имелась даже особая тюрьма для партийного актива, которую создал по специальному заданию Сталина Маленков. В международной обстановке не виделось просвета, шла вовсю «холодная война».</a:t>
            </a: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.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72" name="Picture 7" descr="Рисунок8"/>
          <p:cNvPicPr/>
          <p:nvPr/>
        </p:nvPicPr>
        <p:blipFill>
          <a:blip r:embed="rId1"/>
          <a:stretch/>
        </p:blipFill>
        <p:spPr>
          <a:xfrm>
            <a:off x="539640" y="1700280"/>
            <a:ext cx="4032360" cy="31510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3" name=""/>
          <p:cNvSpPr txBox="1"/>
          <p:nvPr/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Times New Roman"/>
              </a:rPr>
              <a:t>5 марта 1953 г. скончался Сталин и среди его соратников началась борьба за власть.  На 1 этапе ключевые позиции заняли Г.Маленков-председатель Со-вета Министров и Л.Берия-глава МВД. В это время началась критика культа личности, реальная власть перешла от партийных к государственным органам. Защитником интересов партийного аппарата выступил Н.С.Хрущев. Воспользовавшись тем, что после амнистии, проведенной Берия, в стране вырос уровень преступности он организовал загово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1116000" y="5084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Москвич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идут прощатьс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со Сталины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Молотов"/>
          <p:cNvPicPr/>
          <p:nvPr/>
        </p:nvPicPr>
        <p:blipFill>
          <a:blip r:embed="rId1"/>
          <a:stretch/>
        </p:blipFill>
        <p:spPr>
          <a:xfrm>
            <a:off x="684360" y="404640"/>
            <a:ext cx="1904760" cy="171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6" name="Rectangle 5"/>
          <p:cNvSpPr/>
          <p:nvPr/>
        </p:nvSpPr>
        <p:spPr>
          <a:xfrm>
            <a:off x="817200" y="220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олотов В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77" name="Picture 6" descr="stalin_-4"/>
          <p:cNvPicPr/>
          <p:nvPr/>
        </p:nvPicPr>
        <p:blipFill>
          <a:blip r:embed="rId2"/>
          <a:stretch/>
        </p:blipFill>
        <p:spPr>
          <a:xfrm>
            <a:off x="2700360" y="1484280"/>
            <a:ext cx="3673440" cy="311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78" name="Picture 7" descr="4356"/>
          <p:cNvPicPr/>
          <p:nvPr/>
        </p:nvPicPr>
        <p:blipFill>
          <a:blip r:embed="rId3"/>
          <a:stretch/>
        </p:blipFill>
        <p:spPr>
          <a:xfrm>
            <a:off x="6659640" y="620640"/>
            <a:ext cx="1280880" cy="17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9" name="Rectangle 8"/>
          <p:cNvSpPr/>
          <p:nvPr/>
        </p:nvSpPr>
        <p:spPr>
          <a:xfrm>
            <a:off x="6662520" y="227664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рошилов К.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0" name="Picture 9" descr="Маленков"/>
          <p:cNvPicPr/>
          <p:nvPr/>
        </p:nvPicPr>
        <p:blipFill>
          <a:blip r:embed="rId4"/>
          <a:stretch/>
        </p:blipFill>
        <p:spPr>
          <a:xfrm>
            <a:off x="611280" y="3860640"/>
            <a:ext cx="1861920" cy="23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1" name="Rectangle 10"/>
          <p:cNvSpPr/>
          <p:nvPr/>
        </p:nvSpPr>
        <p:spPr>
          <a:xfrm>
            <a:off x="618480" y="630864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ленков Г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2" name="Picture 11" descr="ерия"/>
          <p:cNvPicPr/>
          <p:nvPr/>
        </p:nvPicPr>
        <p:blipFill>
          <a:blip r:embed="rId5"/>
          <a:stretch/>
        </p:blipFill>
        <p:spPr>
          <a:xfrm>
            <a:off x="3132000" y="4581360"/>
            <a:ext cx="2233800" cy="183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3" name="Rectangle 12"/>
          <p:cNvSpPr/>
          <p:nvPr/>
        </p:nvSpPr>
        <p:spPr>
          <a:xfrm>
            <a:off x="3776400" y="63086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ерия Л.П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4" name="Picture 13" descr="Каганович2"/>
          <p:cNvPicPr/>
          <p:nvPr/>
        </p:nvPicPr>
        <p:blipFill>
          <a:blip r:embed="rId6"/>
          <a:stretch/>
        </p:blipFill>
        <p:spPr>
          <a:xfrm>
            <a:off x="6516720" y="3716280"/>
            <a:ext cx="1888920" cy="2519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4"/>
          <p:cNvSpPr/>
          <p:nvPr/>
        </p:nvSpPr>
        <p:spPr>
          <a:xfrm>
            <a:off x="6434280" y="62373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аганович Л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87" name="Picture 7" descr="Рисунок7"/>
          <p:cNvPicPr/>
          <p:nvPr/>
        </p:nvPicPr>
        <p:blipFill>
          <a:blip r:embed="rId1"/>
          <a:stretch/>
        </p:blipFill>
        <p:spPr>
          <a:xfrm>
            <a:off x="324000" y="2421000"/>
            <a:ext cx="3927240" cy="23353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8" name=""/>
          <p:cNvSpPr txBox="1"/>
          <p:nvPr/>
        </p:nvSpPr>
        <p:spPr>
          <a:xfrm>
            <a:off x="4211280" y="1600200"/>
            <a:ext cx="447516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6 июня на заседании правительства Л.Берия был арестован и в декабре 1953 г.расстрелян как «английский шпион».С этого момента и до начала 1955 г.основная борьба развернулась между Г.Маленковым и Н.Хрущевым. В сентябре 1953 г. Он стал 1 секретарем ЦК партии. В к.1954г. состоялся суд над соратниками Берия(В.Абакумов и др.) обвиненных в фабрикации «ленинградского дела».В результате удар был нанесен и по Г.Маленкову, как одному из организаторов этого дела. В январе 1955 г.он подал в отставку а его пост занял Н.Булганин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1182240" y="50846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Арест Л.Бер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90" name="Picture 9" descr="Рисунок7"/>
          <p:cNvPicPr/>
          <p:nvPr/>
        </p:nvPicPr>
        <p:blipFill>
          <a:blip r:embed="rId2"/>
          <a:stretch/>
        </p:blipFill>
        <p:spPr>
          <a:xfrm>
            <a:off x="324000" y="2421000"/>
            <a:ext cx="3927240" cy="2335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.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2" name="Picture 7" descr="Рисунок6"/>
          <p:cNvPicPr/>
          <p:nvPr/>
        </p:nvPicPr>
        <p:blipFill>
          <a:blip r:embed="rId1"/>
          <a:stretch/>
        </p:blipFill>
        <p:spPr>
          <a:xfrm>
            <a:off x="684360" y="1557360"/>
            <a:ext cx="2894040" cy="39704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3" name=""/>
          <p:cNvSpPr txBox="1"/>
          <p:nvPr/>
        </p:nvSpPr>
        <p:spPr>
          <a:xfrm>
            <a:off x="3635280" y="1600200"/>
            <a:ext cx="5508720" cy="4997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На третьем этапе(1955-сер. 1958 г.)началось противостояние Хрущева и «сталинской гвардии» (Молотов, Каганович, Маленков.) На июньском 1957 г. Пленуме ЦК они попытались снять Хрущева. Но ЦК оказался на стороне Первого секретаря и противники Хрущева были сняты со своих постов. В марте 1958 г.с поста главы правительства снимается Н.Булганин и Хрущев совмещает посты руководителя партии и государства. На этом борьба за власть завершилас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976680" y="5734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Н.С.Хруще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Политические шаги 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Н.С. Хрущева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6" name="Picture 6" descr="Картинка 17 из 90"/>
          <p:cNvPicPr/>
          <p:nvPr/>
        </p:nvPicPr>
        <p:blipFill>
          <a:blip r:embed="rId1"/>
          <a:stretch/>
        </p:blipFill>
        <p:spPr>
          <a:xfrm>
            <a:off x="0" y="1916280"/>
            <a:ext cx="4495680" cy="272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"/>
          <p:cNvSpPr txBox="1"/>
          <p:nvPr/>
        </p:nvSpPr>
        <p:spPr>
          <a:xfrm>
            <a:off x="466236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4г. – МГБ              КГБ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4г. – начало реабилитации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6г. – </a:t>
            </a:r>
            <a:r>
              <a:rPr b="1" lang="en-US" sz="2600" spc="-1" strike="noStrike">
                <a:solidFill>
                  <a:srgbClr val="808080"/>
                </a:solidFill>
                <a:latin typeface="Century Gothic"/>
              </a:rPr>
              <a:t>XX</a:t>
            </a: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 съезд КПСС: развенчание культа личности Сталин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entury Gothic"/>
              </a:rPr>
              <a:t>XX</a:t>
            </a:r>
            <a:r>
              <a:rPr b="1" lang="ru-RU" sz="4000" spc="-1" strike="noStrike">
                <a:solidFill>
                  <a:srgbClr val="99cc00"/>
                </a:solidFill>
                <a:latin typeface="Century Gothic"/>
              </a:rPr>
              <a:t> съезд КПСС.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9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1557360"/>
            <a:ext cx="3000600" cy="38116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0" name=""/>
          <p:cNvSpPr txBox="1"/>
          <p:nvPr/>
        </p:nvSpPr>
        <p:spPr>
          <a:xfrm>
            <a:off x="3276720" y="1600200"/>
            <a:ext cx="541008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В последний день работы съезда Н.Хрущев зачитал доклад посвященный беззакониям, тво-рившимся в стране в 30-50-е гг. Но дальше критики Сталина, Ежова и Берии Хрущев не пошел. Он заявил, что «сталинизм» не изменил природы социализма. Съезд специальным постановлением осудил культ личности, но в его тексте никаких фактов не содержалось. Тем не менее доклад положил начало процессу десталинизации. На свободу вышло ок. 700000 человек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684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Рабочие 1 ГПЗ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обсуждают решени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entury Gothic"/>
              </a:rPr>
              <a:t>XX </a:t>
            </a: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съезда парт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Политические шаги 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Н.С. Хрущева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961г. – вынос тела Сталина из Мавзоле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964г. – Проект Конституци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в соответствии с Программой построения коммунизма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entury Gothic"/>
              </a:rPr>
              <a:t>Реабилитация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жертв сталинских репресси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«управляемая десталинизация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Ядро системы - КПС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0:39:07Z</dcterms:created>
  <dc:creator>Залега</dc:creator>
  <dc:description/>
  <dc:language>en-US</dc:language>
  <cp:lastModifiedBy>эвм 6</cp:lastModifiedBy>
  <dcterms:modified xsi:type="dcterms:W3CDTF">2020-03-27T04:06:26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