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6.jpeg" ContentType="image/jpeg"/>
  <Override PartName="/ppt/media/image2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EC00-B97B-4D61-8DA7-3CFA528D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47AD-DED2-4367-9A74-34E158A4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98A7F-52EE-4270-877E-49DDE844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3074D-7D07-4AA5-9681-3F7061F9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590D2-94C0-4167-ABF5-20FF267A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233E8-C2C6-4D34-910E-F80C8DBA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2C242-E419-4375-8D1F-473F975B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E28D2-FE93-446B-917E-517335BD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8661F-7B73-4FD8-811A-742FBB58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0A329-6839-4AE0-8745-42C94C17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9F01E-8E7E-4058-97FB-C5C89E93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0FB4A-1842-4586-8143-81C8B895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616-831A-4CCA-80C8-DAE00436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D6B32-F16D-4081-A2AA-A8435717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13134-7DC4-4C34-80D1-258DE206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4C6AC-945F-414D-A508-E4747100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9262E-9F05-42F0-98E2-EBB5CA1D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25A0C-5F47-47BE-84CD-AC08AEF0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81332-3941-4FD6-B841-D02DF823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3FF1F-A63C-4C7D-B4A6-EA658973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877DB-CBAB-4E01-9759-0CAC18E2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E3128-D42D-43FF-9B9B-DF4E8EA5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19B96-9C23-43ED-B60E-E9B870B2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DBEC-F523-49F3-A0E6-5154E06A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08ED0C-8DA4-48EA-AE01-5283766D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71F13-8AB2-4017-9031-2B2E1449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6507B-87DB-4F16-B323-3C8F5F1D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C8D4E-B0F7-4D90-BDC1-CED7F580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EA6C6-05CD-4866-BD2C-C2B1C1DE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73147-C01E-436A-A6A2-BFFDF726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AB764-22BE-430E-986B-F3E80722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310FF-7BBF-4B91-B897-59D6BFD6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BF986-67A5-44F4-9C88-CDC717E2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8A419-3062-4C56-8824-3F3401BD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B2A6-FF4F-4EAF-94E2-D016ECC1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13D13-CE58-4455-AF24-901339C9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B1C6F-EB36-46FD-812F-94F845FB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74337-E1EF-430F-8704-6F50B3D5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24828-9381-485B-9C2B-F3032DC2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060E3-8EB7-45D1-90BA-F087A171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ED384-372C-4019-A908-4C6601C5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43314-9410-4BA3-97C4-9A70D9A9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266DA-1DA9-4421-8569-1FE4F3C2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213C2-9C23-409C-AC35-B4355928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EAB12-32A8-4527-8033-05B52B7C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07A6-A900-4D4A-97FC-602435EC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F6D00-FD27-4BEA-A7BE-30CDB6C0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7CC01-F41D-4647-AA6D-8FFEC9F6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25113-1382-4ECE-B7D4-B8060D4D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FA00B-0856-47EA-8B1F-DCD99D7F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E7849-2F7D-4DEE-9809-ED7A6D9E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C64D4-9825-4AD0-9868-CC90CF51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FABD10-1A46-4EA2-AC26-229B07CE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94C63-E527-4280-AA36-AAD15C89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13310F-DC22-4B7C-A7DC-38DB8987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E334E-494D-4AEE-8D40-7F9C3744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AD8E-6963-4B77-B5E3-13F4E294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2CDB9-4064-41C4-9A53-A4962D09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607CC-9589-491F-88D2-3E0CFEEB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3C053D-CDC1-4CDD-B9FE-EA5501F7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465A51-1E7D-4F89-AFBF-73DC3C33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FF7330-7FD1-4595-B85A-83B3DEE2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21D8B-5E91-4D32-96AA-5DC07F9E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7606C8-5AA5-44BB-897C-5433F4F0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4F5F-6A11-4FC5-8F01-C7BBDFFA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D22F-15DF-4D61-B377-6DEA38BF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914C-2AD3-4235-A242-0FE2E899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F631-D2B7-4462-86E0-FF6628DD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BAEF-8E9C-4655-A855-D9626DDF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A86C-EC13-40D6-AB13-2F4B7208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A893-C632-4659-AA5B-0164E43A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4BEE-3427-48D6-97DF-7318B68F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6851-93ED-426E-A2FE-2FB97E3E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8E5A-88FB-41CE-B5CB-894ADC82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9F06A-33BF-478D-91AF-B589A9D4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DE941-5641-4959-8455-61A4495A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2FAC5-EDF7-4778-98D3-D8A24496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D8D42-FA60-457D-802E-36713E97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CF6DC-2BEE-4FE8-8535-1675D808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46E7-1962-41BB-8AB0-F6CA556E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E7E78-4E2E-43E7-B96D-F21B6DE0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ACBC6-DCEC-4D0C-BB7B-44BDE5EA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45129-5D47-424A-BFEB-41C59A23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F6721-BBBF-4D99-BD3F-5B71044B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BB090-6BBD-491E-953F-C76E8A83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8F588-D472-47B5-B38A-1FE14C0F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1BA12-C885-4C0B-8491-A9F0F19A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83FB9-B689-49C3-9123-9B4E85BB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1A002-3BE6-4604-A605-DB259B23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399F6-F86D-4B9C-94A7-CD083C44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EE8-7799-4CBC-8296-93CDDB97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CD6BE-A359-4D67-8A4B-48A8A714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F9FAB-4B50-4A9F-B7C4-302DA052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4B73C-1C64-47D2-A0BB-2DF31FAF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0528C-7993-451A-9375-E5D1C2E3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28B4D-3FFA-47C9-8518-F0B37DA8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857F2-8737-4BA6-B339-577AC5D0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A17E5-1FA7-420D-9357-C9B5EE52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46EB3-F625-48C1-8BDC-031B2FDC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2554C-DD9D-45B2-8258-88207F7D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F31CA-ADE4-4110-8A68-F10DEDB8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2929-B0B2-4798-864E-A1BCE338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C64FC-8134-43E1-884B-A4C7D28C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9482E-101E-4838-B72C-7073D610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0B0D1-416F-4F3C-A52C-EF5BAD74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0AE0D-77E0-44B1-937D-FBDB9A7D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A8AFB-7701-497C-87F3-35B5A316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7F312-1C68-4F7B-970C-2A07EFE3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00644-362D-47DF-8A44-44218616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79965-C3E3-44A7-8091-E0B8F408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9C25A-42E4-4994-BD8B-83885FC6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40810-8086-4713-A91E-AA3204BF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FE1B-E4F5-4457-B8CA-3AC622CD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7EC4B-813A-4069-B710-B3804447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08CA2-E13E-4BFA-B85A-FFFA90ED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6EBA3-A9F6-48AA-B0D3-D92B8009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C7D57-8866-4B1D-993A-2E8DBF18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4FEBD-35E1-4994-B2A1-03081727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94406-66EC-4620-9A4F-13526FB5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69AE2-837D-430F-9203-8A4CA043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DD2C9-D401-49B8-80FB-2AEF6A5E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004C8-2301-4DD1-8752-CE6C3B1F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09CD5-58AF-4A0F-A530-A2F2497F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8FAC-98D8-491C-9332-C0E57808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0E772-8541-4442-8FC3-8162B513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D15BF-9723-4CA3-BA09-5F326CEC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FAD24-A036-4A99-806F-B22E9111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57472-4CC3-4E8B-B63F-338C0762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00A3E-D730-49C7-B7F5-3D88E977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C226A-B911-4675-A795-D4BD3B93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8616F-B2D6-4A14-9F3A-4E3C979A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D0863-93A1-499A-B1CB-9AC0F3A6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AA375-76B1-49ED-A0C1-1E52C776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F5CA5-EF55-40D9-B880-5F85FB85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CE7-EE17-4C08-8B45-CD94B447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B0D42-8DAA-42A8-9990-4161E1C4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CD3DC-5A5E-496C-8165-1681BC64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2C087-1827-4FE7-9A26-1496DF9D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1AE32-3969-4C61-9AF5-D6BA7925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5D78D-F16A-4111-B16F-3EBC0D2D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2D203-99A8-458F-ACD4-DCE4CB2B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4BF62-B8ED-4672-8212-EE7D1232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081DC-4CA5-470A-9D7F-C4C5C377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8EB6E-AE55-4B9D-BA99-25165543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4BD88-1882-4B6D-9926-48584AB6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2FB6-571D-44A8-9EC5-7943A0CA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30651-1C51-4C37-BEBB-4B79DFE6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427D4-0250-4BFA-8664-B2C48BCF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A354B-A7A4-4819-847A-5F5032C5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8EB2E-9243-4DAD-BD9F-7968FEEE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4D7EF-1411-48F6-AA89-D0D050A8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24E01-38ED-410E-9EB4-BE5C474D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1AEBC-659B-4A6A-8ADE-856F5988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3961A-00EA-4702-92B9-CA4476FE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0C51F-EA16-4B9F-93F9-489FED4A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95DA0-EC01-4724-8FD0-CB213561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65C3-7EE1-4BB8-9237-DADA062AE1BA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480960" y="1335240"/>
            <a:ext cx="4761000" cy="3249360"/>
            <a:chOff x="480960" y="1335240"/>
            <a:chExt cx="4761000" cy="324936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480960" y="1335240"/>
              <a:ext cx="4761000" cy="32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85640" y="1338120"/>
              <a:ext cx="4748400" cy="32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637D-8940-48E5-AA11-42AF2F64650C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847800" y="2279520"/>
            <a:ext cx="3687840" cy="2517840"/>
            <a:chOff x="847800" y="2279520"/>
            <a:chExt cx="3687840" cy="251784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847800" y="2279520"/>
              <a:ext cx="368784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855720" y="2286000"/>
              <a:ext cx="3672000" cy="250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DD7F-D0F1-452C-A264-AFF738D01680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6480" y="-6480"/>
            <a:ext cx="9156960" cy="2200320"/>
            <a:chOff x="-6480" y="-6480"/>
            <a:chExt cx="9156960" cy="220032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914400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7C0E-8DE3-4A9D-9C68-95B5E9907A88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5748480" y="438120"/>
            <a:ext cx="3402000" cy="5426280"/>
            <a:chOff x="5748480" y="438120"/>
            <a:chExt cx="3402000" cy="54262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5748480" y="438120"/>
              <a:ext cx="3402000" cy="542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5751360" y="446040"/>
              <a:ext cx="3392640" cy="54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AutoShape 4"/>
          <p:cNvSpPr/>
          <p:nvPr/>
        </p:nvSpPr>
        <p:spPr>
          <a:xfrm>
            <a:off x="5234040" y="0"/>
            <a:ext cx="39099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7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8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9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E09D-8A75-4605-B4BF-BDCF07B50D62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6480" y="-12600"/>
            <a:ext cx="9156960" cy="5217840"/>
            <a:chOff x="-6480" y="-12600"/>
            <a:chExt cx="9156960" cy="521784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12600"/>
              <a:ext cx="9156960" cy="52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9144000" cy="52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E15A-D7D6-47DA-9EF7-7456CBF8C8D4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6480" y="-6480"/>
            <a:ext cx="9156960" cy="2200320"/>
            <a:chOff x="-6480" y="-6480"/>
            <a:chExt cx="9156960" cy="220032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914400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E59F-ED62-4597-9E0C-5C246068DBF6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6480" y="-6480"/>
            <a:ext cx="9156960" cy="5218200"/>
            <a:chOff x="-6480" y="-6480"/>
            <a:chExt cx="9156960" cy="521820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521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9144000" cy="52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B19A-6135-4B89-82DF-C195CFE0FDDA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6480" y="-6480"/>
            <a:ext cx="9156960" cy="2200320"/>
            <a:chOff x="-6480" y="-6480"/>
            <a:chExt cx="9156960" cy="220032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914400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EB6E-8DE5-4E38-98D0-356D161492F3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6480" y="-6480"/>
            <a:ext cx="9156960" cy="2200320"/>
            <a:chOff x="-6480" y="-6480"/>
            <a:chExt cx="9156960" cy="220032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7FC0-8911-483B-8CC9-D541B5065C90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6480" y="-6480"/>
            <a:ext cx="9156960" cy="2200320"/>
            <a:chOff x="-6480" y="-6480"/>
            <a:chExt cx="9156960" cy="220032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914400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209B-1271-45E3-A794-1BBBDEE75994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798480" y="438120"/>
            <a:ext cx="2670120" cy="1828800"/>
            <a:chOff x="798480" y="438120"/>
            <a:chExt cx="2670120" cy="182880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798480" y="438120"/>
              <a:ext cx="26701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04960" y="446040"/>
              <a:ext cx="2660400" cy="18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97AD-F909-49C4-8169-FA102B705B3C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2914200" y="6041520"/>
            <a:ext cx="731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442800" y="6041520"/>
            <a:ext cx="247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364644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D2C3-270F-4CF6-AA42-CF7019DCE5B8}" type="slidenum">
              <a:rPr b="0" lang="en-US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42560" y="2492280"/>
            <a:ext cx="7481880" cy="1224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efefe"/>
                </a:solidFill>
                <a:latin typeface="Century Gothic"/>
                <a:ea typeface="맑은 고딕"/>
              </a:rPr>
              <a:t>Хрущевская оттепель (1953-64гг.)</a:t>
            </a:r>
            <a:endParaRPr b="1" lang="en-US" sz="54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3564000" y="5589360"/>
            <a:ext cx="4960800" cy="93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800" spc="-1" strike="noStrike">
                <a:solidFill>
                  <a:srgbClr val="99cc00"/>
                </a:solidFill>
                <a:latin typeface="Century Gothic"/>
              </a:rPr>
              <a:t>Социально-экономическая политика.</a:t>
            </a:r>
            <a:endParaRPr b="1" lang="en-US" sz="3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809640" y="2222640"/>
            <a:ext cx="7524720" cy="3636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9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Century Gothic"/>
              </a:rPr>
              <a:t>1957г. – Совнархозы</a:t>
            </a:r>
            <a:endParaRPr b="0" lang="en-US" sz="3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9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Century Gothic"/>
              </a:rPr>
              <a:t>1960г. – республиканские СНХ</a:t>
            </a:r>
            <a:endParaRPr b="0" lang="en-US" sz="3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9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Century Gothic"/>
              </a:rPr>
              <a:t>1963г. – Высший совет народного хозяйства СССР</a:t>
            </a:r>
            <a:endParaRPr b="0" lang="en-US" sz="3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9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solidFill>
            <a:srgbClr val="00958c"/>
          </a:solidFill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99cc00"/>
                </a:solidFill>
                <a:latin typeface="Century Gothic"/>
              </a:rPr>
              <a:t>Сельское хозяйство</a:t>
            </a:r>
            <a:endParaRPr b="1" lang="en-US" sz="42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607" name="Picture 6" descr="В отличие от кукурузы заговоры в России всегда хорошо вызревали. Фото: Аркадий Колыбалов"/>
          <p:cNvPicPr/>
          <p:nvPr/>
        </p:nvPicPr>
        <p:blipFill>
          <a:blip r:embed="rId1"/>
          <a:stretch/>
        </p:blipFill>
        <p:spPr>
          <a:xfrm>
            <a:off x="809640" y="1679400"/>
            <a:ext cx="3174840" cy="2476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608" name=""/>
          <p:cNvSpPr txBox="1"/>
          <p:nvPr/>
        </p:nvSpPr>
        <p:spPr>
          <a:xfrm>
            <a:off x="4662360" y="2222280"/>
            <a:ext cx="3672000" cy="3638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Century Gothic"/>
              </a:rPr>
              <a:t>Закупочные цены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Century Gothic"/>
              </a:rPr>
              <a:t>Приусадебные участки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Century Gothic"/>
              </a:rPr>
              <a:t>МТС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Century Gothic"/>
              </a:rPr>
              <a:t>Колхозы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Century Gothic"/>
              </a:rPr>
              <a:t>Целина (рекорд 1956г.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Century Gothic"/>
              </a:rPr>
              <a:t>Кукуруза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808080"/>
                </a:solidFill>
                <a:latin typeface="Century Gothic"/>
              </a:rPr>
              <a:t>Мясная кампания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09" name="Picture 7" descr="Картинка 1 из 3"/>
          <p:cNvPicPr/>
          <p:nvPr/>
        </p:nvPicPr>
        <p:blipFill>
          <a:blip r:embed="rId2"/>
          <a:stretch/>
        </p:blipFill>
        <p:spPr>
          <a:xfrm>
            <a:off x="611280" y="4156200"/>
            <a:ext cx="39607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99cc00"/>
                </a:solidFill>
                <a:latin typeface="Century Gothic"/>
              </a:rPr>
              <a:t>Сельское хозяйство: итоги</a:t>
            </a:r>
            <a:endParaRPr b="1" lang="en-US" sz="42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809640" y="2997360"/>
            <a:ext cx="7524720" cy="2862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entury Gothic"/>
              </a:rPr>
              <a:t>Повышение цен на 25-30 % на основные продукты питания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entury Gothic"/>
              </a:rPr>
              <a:t>1962г. – События в Новочеркасске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entury Gothic"/>
              </a:rPr>
              <a:t>1963г. – первая закупка хлеба за границей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8157960" cy="1332000"/>
          </a:xfrm>
          <a:prstGeom prst="rect">
            <a:avLst/>
          </a:prstGeom>
          <a:solidFill>
            <a:srgbClr val="00635d"/>
          </a:solidFill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800" spc="-1" strike="noStrike">
                <a:solidFill>
                  <a:srgbClr val="99cc00"/>
                </a:solidFill>
                <a:latin typeface="Century Gothic"/>
              </a:rPr>
              <a:t>Юрий Гагарин</a:t>
            </a:r>
            <a:br>
              <a:rPr sz="3800"/>
            </a:br>
            <a:r>
              <a:rPr b="1" lang="ru-RU" sz="3800" spc="-1" strike="noStrike">
                <a:solidFill>
                  <a:srgbClr val="99cc00"/>
                </a:solidFill>
                <a:latin typeface="Century Gothic"/>
              </a:rPr>
              <a:t>12 апреля – День космонавтики</a:t>
            </a:r>
            <a:endParaRPr b="1" lang="en-US" sz="38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613" name="Picture 4" descr="Картинка 4 из 1998"/>
          <p:cNvPicPr/>
          <p:nvPr/>
        </p:nvPicPr>
        <p:blipFill>
          <a:blip r:embed="rId1"/>
          <a:stretch/>
        </p:blipFill>
        <p:spPr>
          <a:xfrm>
            <a:off x="0" y="1773360"/>
            <a:ext cx="3324240" cy="4000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4" name="Picture 5" descr="Картинка 9 из 1998"/>
          <p:cNvPicPr/>
          <p:nvPr/>
        </p:nvPicPr>
        <p:blipFill>
          <a:blip r:embed="rId2"/>
          <a:stretch/>
        </p:blipFill>
        <p:spPr>
          <a:xfrm>
            <a:off x="3995640" y="1773360"/>
            <a:ext cx="42483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99cc00"/>
                </a:solidFill>
                <a:latin typeface="Century Gothic"/>
              </a:rPr>
              <a:t>НТР</a:t>
            </a:r>
            <a:endParaRPr b="1" lang="en-US" sz="42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539280" y="2484360"/>
            <a:ext cx="5327640" cy="3114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825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entury Gothic"/>
              </a:rPr>
              <a:t>1957г. – «Спутник - 1»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825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entury Gothic"/>
              </a:rPr>
              <a:t>1961г. – «Восток - 1» (108 минут)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825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entury Gothic"/>
              </a:rPr>
              <a:t>1965г. – выход в открытый космос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825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17" name="Picture 7" descr="Картинка 2 из 38"/>
          <p:cNvPicPr/>
          <p:nvPr/>
        </p:nvPicPr>
        <p:blipFill>
          <a:blip r:embed="rId1"/>
          <a:stretch/>
        </p:blipFill>
        <p:spPr>
          <a:xfrm>
            <a:off x="6227640" y="2484360"/>
            <a:ext cx="2381400" cy="311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4"/>
          <p:cNvSpPr/>
          <p:nvPr/>
        </p:nvSpPr>
        <p:spPr>
          <a:xfrm>
            <a:off x="1116000" y="551664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6363"/>
                </a:solidFill>
                <a:latin typeface="Century Gothic"/>
              </a:rPr>
              <a:t>1954г. – АЭС</a:t>
            </a:r>
            <a:br>
              <a:rPr sz="2400"/>
            </a:br>
            <a:r>
              <a:rPr b="1" lang="ru-RU" sz="2400" spc="-1" strike="noStrike">
                <a:solidFill>
                  <a:srgbClr val="636363"/>
                </a:solidFill>
                <a:latin typeface="Century Gothic"/>
              </a:rPr>
              <a:t>1957г. – ледокол «Ленин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19" name="Picture 5" descr="Картинка 10 из 172"/>
          <p:cNvPicPr/>
          <p:nvPr/>
        </p:nvPicPr>
        <p:blipFill>
          <a:blip r:embed="rId1"/>
          <a:stretch/>
        </p:blipFill>
        <p:spPr>
          <a:xfrm>
            <a:off x="1042920" y="620640"/>
            <a:ext cx="681516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200" spc="-1" strike="noStrike">
                <a:solidFill>
                  <a:srgbClr val="99cc00"/>
                </a:solidFill>
                <a:latin typeface="Century Gothic"/>
              </a:rPr>
              <a:t>Социальная политика</a:t>
            </a:r>
            <a:endParaRPr b="1" lang="en-US" sz="42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809640" y="2222280"/>
            <a:ext cx="3672000" cy="3638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Жилищное строительство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Рост зарплат и пенсий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Снижение пенсионного возраст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Сокращение рабочей недели до 46 час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Отмена платы за обучение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Пенсии и паспорта колхозникам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22" name="Picture 6" descr="Картинка 10 из 38"/>
          <p:cNvPicPr/>
          <p:nvPr/>
        </p:nvPicPr>
        <p:blipFill>
          <a:blip r:embed="rId1"/>
          <a:stretch/>
        </p:blipFill>
        <p:spPr>
          <a:xfrm>
            <a:off x="4500720" y="2133720"/>
            <a:ext cx="4103640" cy="2903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623" name="Rectangle 7"/>
          <p:cNvSpPr/>
          <p:nvPr/>
        </p:nvSpPr>
        <p:spPr>
          <a:xfrm>
            <a:off x="5219640" y="530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6363"/>
                </a:solidFill>
                <a:latin typeface="Century Gothic"/>
              </a:rPr>
              <a:t>«Хрущёвки»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6363"/>
                </a:solidFill>
                <a:latin typeface="Century Gothic"/>
              </a:rPr>
              <a:t>Срок эксплуатации: 20 – 25 лет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Century Gothic"/>
              </a:rPr>
              <a:t>Хрущевская </a:t>
            </a:r>
            <a:r>
              <a:rPr b="1" lang="ru-RU" sz="3600" spc="-1" strike="noStrike">
                <a:solidFill>
                  <a:srgbClr val="006600"/>
                </a:solidFill>
                <a:latin typeface="Century Gothic"/>
              </a:rPr>
              <a:t>оттепель</a:t>
            </a:r>
            <a:br>
              <a:rPr sz="3600"/>
            </a:br>
            <a:endParaRPr b="1" lang="en-US" sz="36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94920" y="2217600"/>
            <a:ext cx="4753080" cy="1882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cc00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Century Gothic"/>
              </a:rPr>
              <a:t>«Карибский»    кризис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cc00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Century Gothic"/>
              </a:rPr>
              <a:t>Испытания водородной бомбы мощностью 50 Мт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702320" y="1989000"/>
            <a:ext cx="4038480" cy="1656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buClr>
                <a:srgbClr val="006600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entury Gothic"/>
              </a:rPr>
              <a:t>     </a:t>
            </a:r>
            <a:r>
              <a:rPr b="1" lang="ru-RU" sz="2800" spc="-1" strike="noStrike">
                <a:solidFill>
                  <a:srgbClr val="006600"/>
                </a:solidFill>
                <a:latin typeface="Century Gothic"/>
              </a:rPr>
              <a:t>Улучшение отношений с СШ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468360" y="3645000"/>
            <a:ext cx="504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Century Gothic"/>
              </a:rPr>
              <a:t>События в Венгрии в 1956г.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0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Century Gothic"/>
              </a:rPr>
              <a:t>Строительство Берлинской стены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00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Century Gothic"/>
              </a:rPr>
              <a:t>Ухудшение отношений с Китаем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5022720" y="3102120"/>
            <a:ext cx="367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entury Gothic"/>
              </a:rPr>
              <a:t>Мирные инициативы СССР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5597640" y="4235400"/>
            <a:ext cx="34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entury Gothic"/>
              </a:rPr>
              <a:t>Отношения со странами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entury Gothic"/>
              </a:rPr>
              <a:t>    </a:t>
            </a:r>
            <a:r>
              <a:rPr b="1" lang="ru-RU" sz="2800" spc="-1" strike="noStrike">
                <a:solidFill>
                  <a:srgbClr val="006600"/>
                </a:solidFill>
                <a:latin typeface="Century Gothic"/>
              </a:rPr>
              <a:t>народной             демократи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9cc00"/>
                </a:solidFill>
                <a:latin typeface="Century Gothic"/>
              </a:rPr>
              <a:t>Результаты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809640" y="2565360"/>
            <a:ext cx="7524720" cy="3294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Рост численности государственного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аппарат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Частичная реабилитаци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репрессированных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Высокие темпы урбанизации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Уничтожение личного подсобного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хозяйства колхозников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Экспорт хлеба за рубежом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Сохранение высоких темпов роста производства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Обилие научно-технических открытий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 </a:t>
            </a:r>
            <a:r>
              <a:rPr b="1" lang="ru-RU" sz="1400" spc="-1" strike="noStrike">
                <a:solidFill>
                  <a:srgbClr val="808080"/>
                </a:solidFill>
                <a:latin typeface="Century Gothic"/>
              </a:rPr>
              <a:t>Мировое лидерство в отдельных отраслях производств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1640" y="1213920"/>
            <a:ext cx="7524720" cy="9716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0635d"/>
                </a:solidFill>
                <a:latin typeface="Century Gothic"/>
              </a:rPr>
              <a:t>Октябрьский</a:t>
            </a:r>
            <a:br>
              <a:rPr sz="3600"/>
            </a:br>
            <a:r>
              <a:rPr b="1" i="1" lang="ru-RU" sz="3600" spc="-1" strike="noStrike">
                <a:solidFill>
                  <a:srgbClr val="00635d"/>
                </a:solidFill>
                <a:latin typeface="Century Gothic"/>
              </a:rPr>
              <a:t>пленум ЦК</a:t>
            </a:r>
            <a:br>
              <a:rPr sz="3600"/>
            </a:br>
            <a:r>
              <a:rPr b="1" i="1" lang="ru-RU" sz="3600" spc="-1" strike="noStrike">
                <a:solidFill>
                  <a:srgbClr val="00635d"/>
                </a:solidFill>
                <a:latin typeface="Century Gothic"/>
              </a:rPr>
              <a:t>1964 г.</a:t>
            </a:r>
            <a:br>
              <a:rPr sz="3600"/>
            </a:br>
            <a:endParaRPr b="1" lang="en-US" sz="36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633" name="Picture 4" descr="semichast"/>
          <p:cNvPicPr/>
          <p:nvPr/>
        </p:nvPicPr>
        <p:blipFill>
          <a:blip r:embed="rId1"/>
          <a:stretch/>
        </p:blipFill>
        <p:spPr>
          <a:xfrm>
            <a:off x="179280" y="1052640"/>
            <a:ext cx="1733760" cy="2504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634" name="Rectangle 5"/>
          <p:cNvSpPr/>
          <p:nvPr/>
        </p:nvSpPr>
        <p:spPr>
          <a:xfrm>
            <a:off x="18720" y="3573360"/>
            <a:ext cx="22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емичастный В.Н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5" name="Picture 6" descr="Косыгин"/>
          <p:cNvPicPr/>
          <p:nvPr/>
        </p:nvPicPr>
        <p:blipFill>
          <a:blip r:embed="rId2"/>
          <a:stretch/>
        </p:blipFill>
        <p:spPr>
          <a:xfrm>
            <a:off x="6804000" y="981000"/>
            <a:ext cx="1663560" cy="237672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7"/>
          <p:cNvSpPr/>
          <p:nvPr/>
        </p:nvSpPr>
        <p:spPr>
          <a:xfrm>
            <a:off x="6738840" y="342900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Косыгин А.Н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7" name="Picture 8" descr="Громыкокочб"/>
          <p:cNvPicPr/>
          <p:nvPr/>
        </p:nvPicPr>
        <p:blipFill>
          <a:blip r:embed="rId3"/>
          <a:stretch/>
        </p:blipFill>
        <p:spPr>
          <a:xfrm>
            <a:off x="179280" y="3933720"/>
            <a:ext cx="1986120" cy="2232000"/>
          </a:xfrm>
          <a:prstGeom prst="rect">
            <a:avLst/>
          </a:prstGeom>
          <a:ln w="0">
            <a:noFill/>
          </a:ln>
        </p:spPr>
      </p:pic>
      <p:sp>
        <p:nvSpPr>
          <p:cNvPr id="638" name="Rectangle 9"/>
          <p:cNvSpPr/>
          <p:nvPr/>
        </p:nvSpPr>
        <p:spPr>
          <a:xfrm>
            <a:off x="579600" y="630864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Громыко А.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9" name="Picture 10" descr="Микоян"/>
          <p:cNvPicPr/>
          <p:nvPr/>
        </p:nvPicPr>
        <p:blipFill>
          <a:blip r:embed="rId4"/>
          <a:stretch/>
        </p:blipFill>
        <p:spPr>
          <a:xfrm>
            <a:off x="6716880" y="3757680"/>
            <a:ext cx="1993680" cy="253980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11"/>
          <p:cNvSpPr/>
          <p:nvPr/>
        </p:nvSpPr>
        <p:spPr>
          <a:xfrm>
            <a:off x="6657840" y="630864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Микоян А.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41" name="Picture 12" descr="Брежнев"/>
          <p:cNvPicPr/>
          <p:nvPr/>
        </p:nvPicPr>
        <p:blipFill>
          <a:blip r:embed="rId5"/>
          <a:stretch/>
        </p:blipFill>
        <p:spPr>
          <a:xfrm>
            <a:off x="2484360" y="1700280"/>
            <a:ext cx="3672000" cy="446544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13"/>
          <p:cNvSpPr/>
          <p:nvPr/>
        </p:nvSpPr>
        <p:spPr>
          <a:xfrm>
            <a:off x="2916360" y="616572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Л.И. Брежнев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3347640" y="5589360"/>
            <a:ext cx="5545080" cy="981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Хрущев Н.С. о ближайшем окружени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468360" y="47628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Мы получили после смерти Сталина тяжелое наследие. Страна была разорена. Руководство ею, сложившееся при Сталине, было, если так можно выразиться, нехорошим. Собрались в кучу разношерстные люди. Тут и неспособный к новациям Молотов, и опасный для всех Берия, и перекати-поле Маленков, и слепой исполнитель сталинской воли Каганович. В лагерях сидело 10 миллионов человек. Тюрьмы были переполнены. Имелась даже особая тюрьма для партийного актива, которую создал по специальному заданию Сталина Маленков. В международной обстановке не виделось просвета, шла вовсю «холодная война».</a:t>
            </a: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cc00"/>
                </a:solidFill>
                <a:latin typeface="Century Gothic"/>
              </a:rPr>
              <a:t>Борьба за власть после смерти Сталина.</a:t>
            </a:r>
            <a:endParaRPr b="1" lang="en-US" sz="36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572" name="Picture 7" descr="Рисунок8"/>
          <p:cNvPicPr/>
          <p:nvPr/>
        </p:nvPicPr>
        <p:blipFill>
          <a:blip r:embed="rId1"/>
          <a:stretch/>
        </p:blipFill>
        <p:spPr>
          <a:xfrm>
            <a:off x="539640" y="1700280"/>
            <a:ext cx="4032360" cy="315108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573" name=""/>
          <p:cNvSpPr txBox="1"/>
          <p:nvPr/>
        </p:nvSpPr>
        <p:spPr>
          <a:xfrm>
            <a:off x="4648320" y="1600200"/>
            <a:ext cx="4038480" cy="4997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Times New Roman"/>
              </a:rPr>
              <a:t>5 марта 1953 г. скончался Сталин и среди его соратников началась борьба за власть.  На 1 этапе ключевые позиции заняли Г.Маленков-председатель Со-вета Министров и Л.Берия-глава МВД. В это время началась критика культа личности, реальная власть перешла от партийных к государственным органам. Защитником интересов партийного аппарата выступил Н.С.Хрущев. Воспользовавшись тем, что после амнистии, проведенной Берия, в стране вырос уровень преступности он организовал заговор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4" name="Rectangle 8"/>
          <p:cNvSpPr/>
          <p:nvPr/>
        </p:nvSpPr>
        <p:spPr>
          <a:xfrm>
            <a:off x="1116000" y="508464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entury Gothic"/>
              </a:rPr>
              <a:t>Москвич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entury Gothic"/>
              </a:rPr>
              <a:t>идут прощаться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entury Gothic"/>
              </a:rPr>
              <a:t>со Сталиным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4" descr="Молотов"/>
          <p:cNvPicPr/>
          <p:nvPr/>
        </p:nvPicPr>
        <p:blipFill>
          <a:blip r:embed="rId1"/>
          <a:stretch/>
        </p:blipFill>
        <p:spPr>
          <a:xfrm>
            <a:off x="684360" y="404640"/>
            <a:ext cx="1904760" cy="1714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76" name="Rectangle 5"/>
          <p:cNvSpPr/>
          <p:nvPr/>
        </p:nvSpPr>
        <p:spPr>
          <a:xfrm>
            <a:off x="817200" y="220500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Молотов В.М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77" name="Picture 6" descr="stalin_-4"/>
          <p:cNvPicPr/>
          <p:nvPr/>
        </p:nvPicPr>
        <p:blipFill>
          <a:blip r:embed="rId2"/>
          <a:stretch/>
        </p:blipFill>
        <p:spPr>
          <a:xfrm>
            <a:off x="2700360" y="1484280"/>
            <a:ext cx="3673440" cy="311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78" name="Picture 7" descr="4356"/>
          <p:cNvPicPr/>
          <p:nvPr/>
        </p:nvPicPr>
        <p:blipFill>
          <a:blip r:embed="rId3"/>
          <a:stretch/>
        </p:blipFill>
        <p:spPr>
          <a:xfrm>
            <a:off x="6659640" y="620640"/>
            <a:ext cx="1280880" cy="172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79" name="Rectangle 8"/>
          <p:cNvSpPr/>
          <p:nvPr/>
        </p:nvSpPr>
        <p:spPr>
          <a:xfrm>
            <a:off x="6662520" y="227664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орошилов К.Е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80" name="Picture 9" descr="Маленков"/>
          <p:cNvPicPr/>
          <p:nvPr/>
        </p:nvPicPr>
        <p:blipFill>
          <a:blip r:embed="rId4"/>
          <a:stretch/>
        </p:blipFill>
        <p:spPr>
          <a:xfrm>
            <a:off x="611280" y="3860640"/>
            <a:ext cx="1861920" cy="237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81" name="Rectangle 10"/>
          <p:cNvSpPr/>
          <p:nvPr/>
        </p:nvSpPr>
        <p:spPr>
          <a:xfrm>
            <a:off x="618480" y="630864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Маленков Г.М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82" name="Picture 11" descr="ерия"/>
          <p:cNvPicPr/>
          <p:nvPr/>
        </p:nvPicPr>
        <p:blipFill>
          <a:blip r:embed="rId5"/>
          <a:stretch/>
        </p:blipFill>
        <p:spPr>
          <a:xfrm>
            <a:off x="3132000" y="4581360"/>
            <a:ext cx="2233800" cy="1838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83" name="Rectangle 12"/>
          <p:cNvSpPr/>
          <p:nvPr/>
        </p:nvSpPr>
        <p:spPr>
          <a:xfrm>
            <a:off x="3776400" y="630864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Берия Л.П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84" name="Picture 13" descr="Каганович2"/>
          <p:cNvPicPr/>
          <p:nvPr/>
        </p:nvPicPr>
        <p:blipFill>
          <a:blip r:embed="rId6"/>
          <a:stretch/>
        </p:blipFill>
        <p:spPr>
          <a:xfrm>
            <a:off x="6516720" y="3716280"/>
            <a:ext cx="1888920" cy="251928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14"/>
          <p:cNvSpPr/>
          <p:nvPr/>
        </p:nvSpPr>
        <p:spPr>
          <a:xfrm>
            <a:off x="6434280" y="623736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Каганович Л.М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5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cc00"/>
                </a:solidFill>
                <a:latin typeface="Century Gothic"/>
              </a:rPr>
              <a:t>Борьба за власть после смерти Сталина</a:t>
            </a:r>
            <a:endParaRPr b="1" lang="en-US" sz="36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587" name="Picture 7" descr="Рисунок7"/>
          <p:cNvPicPr/>
          <p:nvPr/>
        </p:nvPicPr>
        <p:blipFill>
          <a:blip r:embed="rId1"/>
          <a:stretch/>
        </p:blipFill>
        <p:spPr>
          <a:xfrm>
            <a:off x="324000" y="2421000"/>
            <a:ext cx="3927240" cy="233532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588" name=""/>
          <p:cNvSpPr txBox="1"/>
          <p:nvPr/>
        </p:nvSpPr>
        <p:spPr>
          <a:xfrm>
            <a:off x="4211280" y="1600200"/>
            <a:ext cx="4475160" cy="5068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26 июня на заседании правительства Л.Берия был арестован и в декабре 1953 г.расстрелян как «английский шпион».С этого момента и до начала 1955 г.основная борьба развернулась между Г.Маленковым и Н.Хрущевым. В сентябре 1953 г. Он стал 1 секретарем ЦК партии. В к.1954г. состоялся суд над соратниками Берия(В.Абакумов и др.) обвиненных в фабрикации «ленинградского дела».В результате удар был нанесен и по Г.Маленкову, как одному из организаторов этого дела. В январе 1955 г.он подал в отставку а его пост занял Н.Булганин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1182240" y="508464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entury Gothic"/>
              </a:rPr>
              <a:t>Арест Л.Бери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90" name="Picture 9" descr="Рисунок7"/>
          <p:cNvPicPr/>
          <p:nvPr/>
        </p:nvPicPr>
        <p:blipFill>
          <a:blip r:embed="rId2"/>
          <a:stretch/>
        </p:blipFill>
        <p:spPr>
          <a:xfrm>
            <a:off x="324000" y="2421000"/>
            <a:ext cx="3927240" cy="2335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cc00"/>
                </a:solidFill>
                <a:latin typeface="Century Gothic"/>
              </a:rPr>
              <a:t>Борьба за власть после смерти Сталина.</a:t>
            </a:r>
            <a:endParaRPr b="1" lang="en-US" sz="36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592" name="Picture 7" descr="Рисунок6"/>
          <p:cNvPicPr/>
          <p:nvPr/>
        </p:nvPicPr>
        <p:blipFill>
          <a:blip r:embed="rId1"/>
          <a:stretch/>
        </p:blipFill>
        <p:spPr>
          <a:xfrm>
            <a:off x="684360" y="1557360"/>
            <a:ext cx="2894040" cy="397044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3" name=""/>
          <p:cNvSpPr txBox="1"/>
          <p:nvPr/>
        </p:nvSpPr>
        <p:spPr>
          <a:xfrm>
            <a:off x="3635280" y="1600200"/>
            <a:ext cx="5508720" cy="4997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Times New Roman"/>
              </a:rPr>
              <a:t>На третьем этапе(1955-сер. 1958 г.)началось противостояние Хрущева и «сталинской гвардии» (Молотов, Каганович, Маленков.) На июньском 1957 г. Пленуме ЦК они попытались снять Хрущева. Но ЦК оказался на стороне Первого секретаря и противники Хрущева были сняты со своих постов. В марте 1958 г.с поста главы правительства снимается Н.Булганин и Хрущев совмещает посты руководителя партии и государства. На этом борьба за власть завершилась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4" name="Rectangle 8"/>
          <p:cNvSpPr/>
          <p:nvPr/>
        </p:nvSpPr>
        <p:spPr>
          <a:xfrm>
            <a:off x="976680" y="57340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entury Gothic"/>
              </a:rPr>
              <a:t>Н.С.Хрущев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800" spc="-1" strike="noStrike">
                <a:solidFill>
                  <a:srgbClr val="99cc00"/>
                </a:solidFill>
                <a:latin typeface="Century Gothic"/>
              </a:rPr>
              <a:t>Политические шаги </a:t>
            </a:r>
            <a:br>
              <a:rPr sz="3800"/>
            </a:br>
            <a:r>
              <a:rPr b="1" lang="ru-RU" sz="3800" spc="-1" strike="noStrike">
                <a:solidFill>
                  <a:srgbClr val="99cc00"/>
                </a:solidFill>
                <a:latin typeface="Century Gothic"/>
              </a:rPr>
              <a:t>Н.С. Хрущева</a:t>
            </a:r>
            <a:endParaRPr b="1" lang="en-US" sz="38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596" name="Picture 6" descr="Картинка 17 из 90"/>
          <p:cNvPicPr/>
          <p:nvPr/>
        </p:nvPicPr>
        <p:blipFill>
          <a:blip r:embed="rId1"/>
          <a:stretch/>
        </p:blipFill>
        <p:spPr>
          <a:xfrm>
            <a:off x="0" y="1916280"/>
            <a:ext cx="4495680" cy="2728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7" name=""/>
          <p:cNvSpPr txBox="1"/>
          <p:nvPr/>
        </p:nvSpPr>
        <p:spPr>
          <a:xfrm>
            <a:off x="4662360" y="2222280"/>
            <a:ext cx="3672000" cy="3638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808080"/>
                </a:solidFill>
                <a:latin typeface="Century Gothic"/>
              </a:rPr>
              <a:t>1954г. – МГБ              КГБ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808080"/>
                </a:solidFill>
                <a:latin typeface="Century Gothic"/>
              </a:rPr>
              <a:t>1954г. – начало реабилитации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808080"/>
                </a:solidFill>
                <a:latin typeface="Century Gothic"/>
              </a:rPr>
              <a:t>1956г. – </a:t>
            </a:r>
            <a:r>
              <a:rPr b="1" lang="en-US" sz="2600" spc="-1" strike="noStrike">
                <a:solidFill>
                  <a:srgbClr val="808080"/>
                </a:solidFill>
                <a:latin typeface="Century Gothic"/>
              </a:rPr>
              <a:t>XX</a:t>
            </a:r>
            <a:r>
              <a:rPr b="1" lang="ru-RU" sz="2600" spc="-1" strike="noStrike">
                <a:solidFill>
                  <a:srgbClr val="808080"/>
                </a:solidFill>
                <a:latin typeface="Century Gothic"/>
              </a:rPr>
              <a:t> съезд КПСС: развенчание культа личности Сталина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Century Gothic"/>
              </a:rPr>
              <a:t>XX</a:t>
            </a:r>
            <a:r>
              <a:rPr b="1" lang="ru-RU" sz="4000" spc="-1" strike="noStrike">
                <a:solidFill>
                  <a:srgbClr val="99cc00"/>
                </a:solidFill>
                <a:latin typeface="Century Gothic"/>
              </a:rPr>
              <a:t> съезд КПСС.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599" name="Picture 6" descr="Рисунок4"/>
          <p:cNvPicPr/>
          <p:nvPr/>
        </p:nvPicPr>
        <p:blipFill>
          <a:blip r:embed="rId1"/>
          <a:stretch/>
        </p:blipFill>
        <p:spPr>
          <a:xfrm>
            <a:off x="179280" y="1557360"/>
            <a:ext cx="3000600" cy="381168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600" name=""/>
          <p:cNvSpPr txBox="1"/>
          <p:nvPr/>
        </p:nvSpPr>
        <p:spPr>
          <a:xfrm>
            <a:off x="3276720" y="1600200"/>
            <a:ext cx="5410080" cy="5068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Times New Roman"/>
              </a:rPr>
              <a:t>В последний день работы съезда Н.Хрущев зачитал доклад посвященный беззакониям, тво-рившимся в стране в 30-50-е гг. Но дальше критики Сталина, Ежова и Берии Хрущев не пошел. Он заявил, что «сталинизм» не изменил природы социализма. Съезд специальным постановлением осудил культ личности, но в его тексте никаких фактов не содержалось. Тем не менее доклад положил начало процессу десталинизации. На свободу вышло ок. 700000 человек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684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entury Gothic"/>
              </a:rPr>
              <a:t>Рабочие 1 ГПЗ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Century Gothic"/>
              </a:rPr>
              <a:t>обсуждают решения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Century Gothic"/>
              </a:rPr>
              <a:t>XX </a:t>
            </a:r>
            <a:r>
              <a:rPr b="1" lang="ru-RU" sz="1800" spc="-1" strike="noStrike">
                <a:solidFill>
                  <a:srgbClr val="990033"/>
                </a:solidFill>
                <a:latin typeface="Century Gothic"/>
              </a:rPr>
              <a:t>съезда партии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800" spc="-1" strike="noStrike">
                <a:solidFill>
                  <a:srgbClr val="99cc00"/>
                </a:solidFill>
                <a:latin typeface="Century Gothic"/>
              </a:rPr>
              <a:t>Политические шаги </a:t>
            </a:r>
            <a:br>
              <a:rPr sz="3800"/>
            </a:br>
            <a:r>
              <a:rPr b="1" lang="ru-RU" sz="3800" spc="-1" strike="noStrike">
                <a:solidFill>
                  <a:srgbClr val="99cc00"/>
                </a:solidFill>
                <a:latin typeface="Century Gothic"/>
              </a:rPr>
              <a:t>Н.С. Хрущева</a:t>
            </a:r>
            <a:endParaRPr b="1" lang="en-US" sz="3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809640" y="2222640"/>
            <a:ext cx="7524720" cy="3636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1961г. – вынос тела Сталина из Мавзоле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1964г. – Проект Конституции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(в соответствии с Программой построения коммунизма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entury Gothic"/>
              </a:rPr>
              <a:t>Реабилитация</a:t>
            </a:r>
            <a:r>
              <a:rPr b="1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жертв сталинских репрессий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36363"/>
                </a:solidFill>
                <a:latin typeface="Century Gothic"/>
              </a:rPr>
              <a:t>«управляемая десталинизация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636363"/>
                </a:solidFill>
                <a:latin typeface="Century Gothic"/>
              </a:rPr>
              <a:t>Ядро системы - КПСС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5T10:39:07Z</dcterms:created>
  <dc:creator>Залега</dc:creator>
  <dc:description/>
  <dc:language>en-US</dc:language>
  <cp:lastModifiedBy>эвм 6</cp:lastModifiedBy>
  <dcterms:modified xsi:type="dcterms:W3CDTF">2020-03-27T04:06:26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01033</vt:lpwstr>
  </property>
</Properties>
</file>