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5B7B-4EB5-4FDB-93B0-9158B2B6FF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рав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CD5E-0E2A-486E-ADFD-DCCBB0FA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C487-A2FD-46E5-9BFF-138CAB937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7F48-3F91-486F-B5C6-4FEB43EB5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EC97-6744-475D-B041-224488D34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F29C-12D5-4148-A8C5-87092585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BA200-A9C2-4033-8703-B44C6773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B639-D07F-4067-A38D-0770A29CB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7397-E246-4DAA-9733-F20834F52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88CB7-D1B0-48FB-BA66-4203A4CF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1F9C-4E1C-4B02-9738-AEAE599B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FAAF-4A27-42B6-8895-42290687C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14C7-59AC-4C78-94B7-67A47B6A4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80EA-C8E9-44C6-A2D0-1E84F189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9D90-6749-476D-A81C-C9034646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B50E0-7FCC-486B-A6A2-C095AF45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661E5-8485-4E6D-8B36-FF3204878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C982-E565-4865-921D-FA8F1900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54500-CD8D-4549-A74E-5B0DA89A0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2393D-B52F-47F6-B9D0-3F7C7EA2D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D1360-E8D6-4765-814A-1EB79027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86FEA4-065C-41A3-8F15-765ECFA85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F2324-9029-4EB8-9561-574F26785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FDD0-32CE-4EDE-BC90-8F718423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8E65EC-8A94-496F-B1B7-BFEB0568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3E04D-7DF2-467D-9662-22CDB757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B8466-A84B-40E4-9966-EC5D3E96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E3061-F515-4ABA-B3A8-7F29A887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B6DEDE-61DB-42FD-AFB0-2798DD92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7A5F9-AB7F-4515-AD14-51D0E3E52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910DC-1797-44C1-882A-B41409762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BA9F2E-F841-4A23-8BBC-9DD233E66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5F3AD1-1982-4C36-B8CF-2972EF558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3B7AC-28A2-4890-BEE2-C965DCB6F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158-C302-433C-BA4D-13F1847C4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FA10A-DA8F-4C3C-A59D-3338DD884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B4818-7534-4802-8392-F5776D73A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12B2B-E6ED-4AC6-8FCD-A6336680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8B12FC-BDFB-4212-9EEE-4BBA7D0C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03B73-F58E-4457-A014-B82352BA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8CA16-EEFC-40A9-9C66-987C98668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52D8B-509C-4445-9F6B-CC62C8AF4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B4DA1-0DAC-4BAB-B5E3-2AC41A09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EFC0B-BD06-4E42-AF98-F3BD93851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E882-7411-4505-83E4-9AF75384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F578-5023-4C56-A942-B622D5F76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551B-02FA-4FB8-9F69-09F98492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EED-78AF-4F55-9164-47C5E1384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089D-A790-4883-AFB8-8D3A8B65C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A28E-8603-494E-B97C-F6D97E0B9342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11DE9-A280-4A1B-86D9-A7E519DC5B1F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09EF-7317-4C66-9991-A8A54CD2FA1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23561-C607-4DC0-BB0C-EA36F06BD2D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24000" y="333000"/>
            <a:ext cx="6786720" cy="88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Arial"/>
              </a:rPr>
              <a:t>МОУ «Сужинская СОШ», Иволгинский район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85840" y="1676520"/>
            <a:ext cx="335736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dd9"/>
                </a:solidFill>
                <a:latin typeface="Times New Roman"/>
              </a:rPr>
              <a:t>«Наши друзья-морские свинки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dd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9dd9"/>
                </a:solidFill>
                <a:latin typeface="Times New Roman"/>
              </a:rPr>
              <a:t>исследовательская работ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Times New Roman"/>
              </a:rPr>
              <a:t>Ученика 2 класса «д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dd9"/>
                </a:solidFill>
                <a:latin typeface="Times New Roman"/>
              </a:rPr>
              <a:t>Наумова Серге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Рисунок 1" descr="gerb.gif"/>
          <p:cNvPicPr/>
          <p:nvPr/>
        </p:nvPicPr>
        <p:blipFill>
          <a:blip r:embed="rId1"/>
          <a:stretch/>
        </p:blipFill>
        <p:spPr>
          <a:xfrm>
            <a:off x="214200" y="0"/>
            <a:ext cx="1543320" cy="1309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3635280" y="1989000"/>
            <a:ext cx="51847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78440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Этот звук очень напоминает мурлыканье. Он обозначает, что в этот момент свинка довольна. Свинки могут его издавать, когда Вы их гладите, или когда Вы им даете их любимую еду.</a:t>
            </a: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704880"/>
            <a:ext cx="821844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пыт №3.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Исследование звуков, которые издают морские свинки. </a:t>
            </a:r>
            <a:br>
              <a:rPr sz="32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Морские свинки издают различные звуки. Каждый звук имеет своё обо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комфортно.wav" descr=""/>
          <p:cNvPicPr/>
          <p:nvPr/>
        </p:nvPicPr>
        <p:blipFill>
          <a:blip r:embed="rId1"/>
          <a:stretch/>
        </p:blipFill>
        <p:spPr>
          <a:xfrm>
            <a:off x="7093080" y="2565360"/>
            <a:ext cx="487080" cy="48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296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738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Этот звук издает свинка в момент тревоги.  Свинка не знакома со звуками, которые она слышит, она хочет знать, что это,  кто их издает, и не являются ли они опасными для нее.</a:t>
            </a: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трев3310.wav" descr=""/>
          <p:cNvPicPr/>
          <p:nvPr/>
        </p:nvPicPr>
        <p:blipFill>
          <a:blip r:embed="rId1"/>
          <a:stretch/>
        </p:blipFill>
        <p:spPr>
          <a:xfrm>
            <a:off x="428472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375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тук зубов - свинка очень рассержена и в любую минуту может кинуться и укусить. Обычно свинки стучат зубами друг на друга перед дракой, когда они видятся в первый раз и делят территорию. Последствия могут быть плачевными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серд3310.wav" descr=""/>
          <p:cNvPicPr/>
          <p:nvPr/>
        </p:nvPicPr>
        <p:blipFill>
          <a:blip r:embed="rId1"/>
          <a:stretch/>
        </p:blipFill>
        <p:spPr>
          <a:xfrm>
            <a:off x="428472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4216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Этот звук означает, что свинке хорошо и комфортно. Она полностью удовлетворенна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комф3310.wav" descr=""/>
          <p:cNvPicPr/>
          <p:nvPr/>
        </p:nvPicPr>
        <p:blipFill>
          <a:blip r:embed="rId1"/>
          <a:stretch/>
        </p:blipFill>
        <p:spPr>
          <a:xfrm>
            <a:off x="4356000" y="501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98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296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изги, вопли - это звук предупреждение, звук одиночества. Его издает свинка, когда ей больно или она чего-то боится.</a:t>
            </a: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боль3326.wav" descr=""/>
          <p:cNvPicPr/>
          <p:nvPr/>
        </p:nvPicPr>
        <p:blipFill>
          <a:blip r:embed="rId1"/>
          <a:stretch/>
        </p:blipFill>
        <p:spPr>
          <a:xfrm>
            <a:off x="435600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796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Заключение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i="1" lang="ru-RU" sz="2800" spc="-1" strike="noStrike">
                <a:solidFill>
                  <a:srgbClr val="04617b"/>
                </a:solidFill>
                <a:latin typeface="Times New Roman"/>
              </a:rPr>
              <a:t>При выполнения исследования был изучен материал о диких морских свинках и проведено наблюдение за морской свинкой в домашних условиях с целью определения условий ее содержа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Times New Roman"/>
              </a:rPr>
              <a:t>Можно сделать следующие выводы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Times New Roman"/>
              </a:rPr>
              <a:t>1 несмотря на свое название, эти милые животные не имеют никакого отношения ни к морю, ни к свиньям. Поэтому не стоит сажать свинок в аквариум. Животное погиб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Times New Roman"/>
              </a:rPr>
              <a:t>Можно сделать следующие вывод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Times New Roman"/>
              </a:rPr>
              <a:t>1. Несмотря на свое название, эти милые животные не имеют никакого отношения ни к морю, ни к свиньям. Поэтому не стоит сажать свинок в аквариум. Животное погибне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Times New Roman"/>
              </a:rPr>
              <a:t>2. Морская свинка – одно из самых неприхотливых домашних животных, но так как животное содержится вне воли, оно требует особого ухо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Times New Roman"/>
              </a:rPr>
              <a:t>3. Это очень ласковые домашние животные. Если морская свинка одна, она грустит. С ней надо разговаривать, брать на руки несколько раз в день. От такого общения вы получите массу удовольствия и позити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Рекомендации: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i="1" lang="ru-RU" sz="2800" spc="-1" strike="noStrike">
                <a:solidFill>
                  <a:srgbClr val="04617b"/>
                </a:solidFill>
                <a:latin typeface="Times New Roman"/>
              </a:rPr>
              <a:t>Морские свинки – идеальное животное для содержания в доме в качестве любимцев детей и взрослых. Это очень перспективные животные для живых уголков, уголков природы в школах, детских садах и других детских учреждениях.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пасибо за вним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Picture 5" descr="viber image"/>
          <p:cNvPicPr/>
          <p:nvPr/>
        </p:nvPicPr>
        <p:blipFill>
          <a:blip r:embed="rId1"/>
          <a:stretch/>
        </p:blipFill>
        <p:spPr>
          <a:xfrm>
            <a:off x="2340000" y="1844640"/>
            <a:ext cx="38512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PIC_0018"/>
          <p:cNvPicPr/>
          <p:nvPr/>
        </p:nvPicPr>
        <p:blipFill>
          <a:blip r:embed="rId1"/>
          <a:stretch/>
        </p:blipFill>
        <p:spPr>
          <a:xfrm rot="406800">
            <a:off x="4571640" y="692280"/>
            <a:ext cx="4211640" cy="4032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00" y="142560"/>
            <a:ext cx="4032360" cy="1701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Цель</a:t>
            </a:r>
            <a:r>
              <a:rPr b="1" lang="ru-RU" sz="2500" spc="-1" strike="noStrike">
                <a:solidFill>
                  <a:srgbClr val="04617b"/>
                </a:solidFill>
                <a:latin typeface="Calibri"/>
              </a:rPr>
              <a:t>: Выяснить , как  содержать морских свинок в домашних условиях</a:t>
            </a:r>
            <a:r>
              <a:rPr b="1" lang="ru-RU" sz="16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857760" cy="45003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Constantia"/>
              </a:rPr>
              <a:t>Задачи: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9dd9"/>
                </a:solidFill>
                <a:latin typeface="Constantia"/>
              </a:rPr>
              <a:t>1. изучить материалы по источникам о морских свинка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dd9"/>
                </a:solidFill>
                <a:latin typeface="Constantia"/>
              </a:rPr>
              <a:t>         </a:t>
            </a:r>
            <a:r>
              <a:rPr b="1" i="1" lang="ru-RU" sz="2000" spc="-1" strike="noStrike">
                <a:solidFill>
                  <a:srgbClr val="009dd9"/>
                </a:solidFill>
                <a:latin typeface="Constantia"/>
              </a:rPr>
              <a:t>2. провести наблюдение за своим домашним питомце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dd9"/>
                </a:solidFill>
                <a:latin typeface="Constantia"/>
              </a:rPr>
              <a:t>         </a:t>
            </a:r>
            <a:r>
              <a:rPr b="1" i="1" lang="ru-RU" sz="2000" spc="-1" strike="noStrike">
                <a:solidFill>
                  <a:srgbClr val="009dd9"/>
                </a:solidFill>
                <a:latin typeface="Constantia"/>
              </a:rPr>
              <a:t>3. сделать выводы и составить памятку об особенностях содержания морских свинок в домашних условиях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Гипотеза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: Я предположил, что если больше узнаю о диких морских свинках, то смогу создать благоприятные условия для своей морской свинки и рекомендовать своим друзьям взять это животное в дом.</a:t>
            </a:r>
            <a:r>
              <a:rPr b="0" lang="ru-RU" sz="3100" spc="-1" strike="noStrike">
                <a:solidFill>
                  <a:srgbClr val="04617b"/>
                </a:solidFill>
                <a:latin typeface="Calibri"/>
              </a:rPr>
              <a:t>       </a:t>
            </a:r>
            <a:endParaRPr b="0" lang="en-US" sz="31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5" descr="viber image1"/>
          <p:cNvPicPr/>
          <p:nvPr/>
        </p:nvPicPr>
        <p:blipFill>
          <a:blip r:embed="rId1"/>
          <a:stretch/>
        </p:blipFill>
        <p:spPr>
          <a:xfrm>
            <a:off x="2484360" y="2637000"/>
            <a:ext cx="3456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то такие морские свинки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рские свинки – небольшие грызуны. В длину они достигают 24-30 сантиметров, а весят от 700-1000 граммов. На передних лапках имеют 4 , а на задних – 3 пальца. У морских свинок 2 пары средних резцов, которые постоянно растут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чему их назвали свинками? Возможно потому, что когда они спокойны, то тихо похрюкивают. А сильно испугавшись, визжат, как маленькие порося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Родина диких морских свинок – Южная Америка. В Европу морских свинок ввезли испанские путешественники в 16 веке. Эти сухопутные животные, им не нравится вода. Морские свинки часто были спутниками моряков в дальних путешествиях. Поэтому их название связано с морем- заморские, морские свинк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Дикие морские свинки отличаются от домашних более стройным телом и большей подвижностью. Окрашены дикие грызуны в черный, бурый, коричневый или серый цвет. Они роют норы, устраивая убежища в виде целых подземных городков. Живут небольшими колониями, каждая из которых занимает собственную территорию и имеет вожака- взрослого самца. Они обладают развитым слухом и обонянием, они по очереди отдыхают и «несут вахту» охраняют свою территорию. А дополнительной защитой от хищников служит их чистоплотность. Зверьки как кошки, умываются несколько раз в день, поэтому их по запаху не удается най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одственники морских свино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а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к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гу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а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пиба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акара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Содержание и уход за</a:t>
            </a: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морскими свинками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504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4617b"/>
                </a:solidFill>
                <a:latin typeface="Calibri"/>
                <a:ea typeface="宋体"/>
              </a:rPr>
              <a:t>   </a:t>
            </a: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Требования к домику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В качестве домика для морской свинки подойдет любая клетка для грызунов, длиной более 50 см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В качестве подстилки используется стружка или опилки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В клетку помещают шариковую поилку и пару кормушек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Подстилку меняют через день. Поилку и кормушки подвергают чистке ежедневно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Свинки не переносят перепады температур, сквозняки, влажность, прямые солнечные лучи. Место для клетки выбирайте в соответствии с этими требованиями. Комфортная температура для свинок – 18-20ºС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2.2. Требования к еде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Оптимальный режим кормления морских свинок – 2 раза в день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Питаются зверьки растительными кормами: сеном, травой, корнеплодами, зерновыми. Очень полезно кормить зверьков травой – это хороший источник витамина С, который необходим организму морских свинок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Морские свинки любят похрустеть морковкой, свеклой (в том числе и ботвой), тыквой. Иногда можно угостить животное кусочками яблока, арбуза, дыни, огурчиками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Из зерновых дают ячмень, пшеницу, овес, кукурузу, рожь. Зерна можно давать размоченными или пророщенными, лучше с утра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Ежедневно дают свежую воду, хотя при достаточном потреблении сочных и зеленых кормов, морская свинка может сравнительно мало пить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2.3. Требования к гигиене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Время от времени необходимо подрезать когти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Водные процедуры свинки не любят, поэтому мыть их рекомендуется только в случае сильного загрязнения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Если свинка из породы длинношерстных, нужно будет запастись расческами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Ежедневно нужно выпускать питомца на прогулку по дому, чтобы он мог размяться. Сначала нужно проверить квартиру на предмет безопасности – все, что можно сгрызть или перегрызть, должно быть недоступно для животного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Летом можно содержать зверька на открытом воздухе или выгуливать, как собаку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PIC_0014"/>
          <p:cNvPicPr/>
          <p:nvPr/>
        </p:nvPicPr>
        <p:blipFill>
          <a:blip r:embed="rId1"/>
          <a:stretch/>
        </p:blipFill>
        <p:spPr>
          <a:xfrm>
            <a:off x="5292720" y="2276640"/>
            <a:ext cx="38512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835812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Опыт № 1.</a:t>
            </a:r>
            <a:br>
              <a:rPr sz="25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ru-RU" sz="2900" spc="-1" strike="noStrike">
                <a:solidFill>
                  <a:srgbClr val="04617b"/>
                </a:solidFill>
                <a:latin typeface="Calibri"/>
              </a:rPr>
              <a:t>Предпочтения в еде у морской свинки</a:t>
            </a:r>
            <a:br>
              <a:rPr sz="2500"/>
            </a:b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        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6" descr="viber image2"/>
          <p:cNvPicPr/>
          <p:nvPr/>
        </p:nvPicPr>
        <p:blipFill>
          <a:blip r:embed="rId1"/>
          <a:stretch/>
        </p:blipFill>
        <p:spPr>
          <a:xfrm>
            <a:off x="1476360" y="1413000"/>
            <a:ext cx="58564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пыт №2.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Сможет ли морская свинка узнать своего хозяина среди других людей ?</a:t>
            </a:r>
            <a:br>
              <a:rPr sz="36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5" descr="viber image1"/>
          <p:cNvPicPr/>
          <p:nvPr/>
        </p:nvPicPr>
        <p:blipFill>
          <a:blip r:embed="rId1"/>
          <a:stretch/>
        </p:blipFill>
        <p:spPr>
          <a:xfrm>
            <a:off x="2268360" y="1413000"/>
            <a:ext cx="4392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05:29:07Z</dcterms:created>
  <dc:creator>Admin</dc:creator>
  <dc:description/>
  <dc:language>en-US</dc:language>
  <cp:lastModifiedBy>Acer</cp:lastModifiedBy>
  <dcterms:modified xsi:type="dcterms:W3CDTF">2019-11-06T05:25:35Z</dcterms:modified>
  <cp:revision>25</cp:revision>
  <dc:subject/>
  <dc:title>МОУ «Средняя общеобразовательная  школа № 8», г.Усть-Илимска Иркутской области</dc:title>
</cp:coreProperties>
</file>