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14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5.png" ContentType="image/png"/>
  <Override PartName="/ppt/media/image8.jpeg" ContentType="image/jpeg"/>
  <Override PartName="/ppt/media/image10.jpeg" ContentType="image/jpeg"/>
  <Override PartName="/ppt/media/image9.jpeg" ContentType="image/jpeg"/>
  <Override PartName="/ppt/media/image1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5D69F-154B-4D72-AB01-14CDBCB2793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равитс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1C2D3-18DD-458F-809B-6BD8254FC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B25A4-CAA2-4424-857C-8E1C806F8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EEC18-4A3B-4E6A-B6C8-04F8BE4A75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4E64-A5F0-4AAA-AC73-79D9DAE26F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FEC27-1C98-4478-8138-38971E260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27947-90B3-4128-9950-8182E90E9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8903C-7494-4113-92FA-466DF5EB54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D299A-A2DE-4A91-8766-FEC4BA05A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90CF3-26D2-426A-B552-930CDDCF5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E9A1F-2C67-4C1B-947F-A9180B879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E837-3B1C-437A-9402-2027C1DF5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6D36F-C3E6-4E1F-A8A4-CFF68230B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75E51-0BCC-4EAB-AD3E-90DC16D3D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7AEE6-2CBF-4897-95A2-2624E2B20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23824-54B2-4CBD-88C2-E8105E53D2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C76DC-6706-4A7B-BD6D-E98EDF19C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A07BC8-E916-4B46-9324-E5F164679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422DDB-3626-4B52-8B6F-93EDC0D94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59FFD4-841D-4C28-9C7E-B4AF88F53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456824-8FE7-4E24-9B0D-A7BB903DB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353FF9-711A-40F1-8003-80CAA7CDB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940C68-9D6D-41AF-BB8C-ECD11F3F9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F982-EBE3-4C54-9A94-9FBC63A7F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61B889-79AD-4532-845B-9DD1756AF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0F5FB8-9827-48AC-A287-F1E67D202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BE32C8-5E9C-4FE4-AB5B-4EE58FAA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E89ED9-CDC0-41A0-BB74-BA233F9B8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09E94D-1990-412B-8FEE-814E62D93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30ED45-EAB1-4A33-B1E7-6DC0B833E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CCE059-7FC8-42BA-A6BF-C9A436852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E22F4A-9AF6-4472-95CD-EA652403D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6121E48-5B86-47DE-8C6B-6C711FE60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9C54E-CEB9-4E97-8FC2-340827550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EAE70-F63F-4849-A23E-060379B7E2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1B6A28-1709-4CE1-9A52-ABED817D9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EE5FFF-7577-491E-850F-DC0DB22BA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51552A-E850-4649-A950-9FDF00DBE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C18F3E-F7B1-4D3B-8FB4-94C22CCCF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95BDB2-F6C5-4046-84E2-0F2076E50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6BE866-60BD-479E-8CDB-989C24F10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42C365-DE28-43A4-997E-8F43647F3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7540-1319-4E20-8F38-8EC12A2C0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49CBC7-7325-43AB-BBB2-1C6398BEEC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31626-A284-45A6-8626-4F62DD4CB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63400-47C2-4BB3-9FD1-F858CA2BB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1BF7-86B4-4B7F-8F17-0482779A3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7E47-337E-48BB-BDF4-944C32F0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69B18-C714-464B-9866-2ECE94102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CA182-D23E-4DE1-B937-7DBBE4CB7EE8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0E80-0B29-43A4-AAD2-88554E7591C2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9FA8CC-91FB-4923-A6E1-03CB8E6A7AC5}" type="slidenum">
              <a:rPr b="0" lang="ru-RU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DADBA-2F56-471B-94BE-6E2C367D75AA}" type="slidenum">
              <a:rPr b="0" lang="ru-RU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124000" y="333000"/>
            <a:ext cx="6786720" cy="8809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4617b"/>
                </a:solidFill>
                <a:latin typeface="Arial"/>
              </a:rPr>
              <a:t>МОУ «Сужинская СОШ», Иволгинский район </a:t>
            </a:r>
            <a:endParaRPr b="0" lang="en-US" sz="2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85840" y="1676520"/>
            <a:ext cx="3357360" cy="4572000"/>
          </a:xfrm>
          <a:prstGeom prst="rect">
            <a:avLst/>
          </a:prstGeom>
          <a:noFill/>
          <a:ln w="0">
            <a:noFill/>
          </a:ln>
        </p:spPr>
        <p:txBody>
          <a:bodyPr lIns="18360" rIns="183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d9"/>
                </a:solidFill>
                <a:latin typeface="Times New Roman"/>
              </a:rPr>
              <a:t>«Наши друзья-морские свинки»</a:t>
            </a:r>
            <a:endParaRPr b="0" lang="en-US" sz="4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9dd9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009dd9"/>
                </a:solidFill>
                <a:latin typeface="Times New Roman"/>
              </a:rPr>
              <a:t>исследовательская работа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dd9"/>
                </a:solidFill>
                <a:latin typeface="Times New Roman"/>
              </a:rPr>
              <a:t>Ученика 2 класса «д»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9dd9"/>
                </a:solidFill>
                <a:latin typeface="Times New Roman"/>
              </a:rPr>
              <a:t>Наумова Серге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4" name="Рисунок 1" descr="gerb.gif"/>
          <p:cNvPicPr/>
          <p:nvPr/>
        </p:nvPicPr>
        <p:blipFill>
          <a:blip r:embed="rId1"/>
          <a:stretch/>
        </p:blipFill>
        <p:spPr>
          <a:xfrm>
            <a:off x="214200" y="0"/>
            <a:ext cx="1543320" cy="130968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3635280" y="1989000"/>
            <a:ext cx="5184720" cy="431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39280" y="2707920"/>
            <a:ext cx="7844040" cy="33130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очень напоминает мурлыканье. Он обозначает, что в этот момент свинка довольна. Свинки могут его издавать, когда Вы их гладите, или когда Вы им даете их любимую еду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4" name="Rectangle 4"/>
          <p:cNvSpPr/>
          <p:nvPr/>
        </p:nvSpPr>
        <p:spPr>
          <a:xfrm>
            <a:off x="468360" y="704880"/>
            <a:ext cx="8218440" cy="200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rmAutofit fontScale="82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ыт №3.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3200" spc="-1" strike="noStrike">
                <a:solidFill>
                  <a:srgbClr val="04617b"/>
                </a:solidFill>
                <a:latin typeface="Calibri"/>
              </a:rPr>
              <a:t>Исследование звуков, которые издают морские свинки. </a:t>
            </a:r>
            <a:br>
              <a:rPr sz="32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Морские свинки издают различные звуки. Каждый звук имеет своё обозначени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комфортно.wav" descr=""/>
          <p:cNvPicPr/>
          <p:nvPr/>
        </p:nvPicPr>
        <p:blipFill>
          <a:blip r:embed="rId1"/>
          <a:stretch/>
        </p:blipFill>
        <p:spPr>
          <a:xfrm>
            <a:off x="7093080" y="2565360"/>
            <a:ext cx="487080" cy="4874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2296" fill="hold"/>
                                        <p:tgtEl>
                                          <p:spTgt spid="22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27385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издает свинка в момент тревоги.  Свинка не знакома со звуками, которые она слышит, она хочет знать, что это,  кто их издает, и не являются ли они опасными для нее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7" name="трев3310.wav" descr=""/>
          <p:cNvPicPr/>
          <p:nvPr/>
        </p:nvPicPr>
        <p:blipFill>
          <a:blip r:embed="rId1"/>
          <a:stretch/>
        </p:blipFill>
        <p:spPr>
          <a:xfrm>
            <a:off x="4284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26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" dur="3375" fill="hold"/>
                                        <p:tgtEl>
                                          <p:spTgt spid="22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68360" y="1988640"/>
            <a:ext cx="8229600" cy="25923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Стук зубов - свинка очень рассержена и в любую минуту может кинуться и укусить. Обычно свинки стучат зубами друг на друга перед дракой, когда они видятся в первый раз и делят территорию. Последствия могут быть плачевными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9" name="серд3310.wav" descr=""/>
          <p:cNvPicPr/>
          <p:nvPr/>
        </p:nvPicPr>
        <p:blipFill>
          <a:blip r:embed="rId1"/>
          <a:stretch/>
        </p:blipFill>
        <p:spPr>
          <a:xfrm>
            <a:off x="4284720" y="530064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229"/>
                    </p:tgtEl>
                  </p:cond>
                </p:stCondLst>
                <p:childTnLst>
                  <p:par>
                    <p:cTn id="40" nodeType="clickEffect" fill="hold">
                      <p:stCondLst>
                        <p:cond evt="onClick">
                          <p:tgtEl>
                            <p:spTgt spid="229"/>
                          </p:tgtEl>
                        </p:cond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3" dur="4216" fill="hold"/>
                                        <p:tgtEl>
                                          <p:spTgt spid="22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Этот звук означает, что свинке хорошо и комфортно. Она полностью удовлетворенна.</a:t>
            </a:r>
            <a:endParaRPr b="0" lang="en-US" sz="3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1" name="комф3310.wav" descr=""/>
          <p:cNvPicPr/>
          <p:nvPr/>
        </p:nvPicPr>
        <p:blipFill>
          <a:blip r:embed="rId1"/>
          <a:stretch/>
        </p:blipFill>
        <p:spPr>
          <a:xfrm>
            <a:off x="4356000" y="501336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nodeType="clickEffect" fill="hold">
                      <p:stCondLst>
                        <p:cond delay="0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898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" restart="whenNotActive" nodeType="interactiveSeq" fill="hold">
                <p:stCondLst>
                  <p:cond evt="onClick">
                    <p:tgtEl>
                      <p:spTgt spid="231"/>
                    </p:tgtEl>
                  </p:cond>
                </p:stCondLst>
                <p:childTnLst>
                  <p:par>
                    <p:cTn id="55" nodeType="clickEffect" fill="hold">
                      <p:stCondLst>
                        <p:cond evt="onClick">
                          <p:tgtEl>
                            <p:spTgt spid="231"/>
                          </p:tgtEl>
                        </p:cond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2296" fill="hold"/>
                                        <p:tgtEl>
                                          <p:spTgt spid="2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539640" y="177336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3600" spc="-1" strike="noStrike">
                <a:solidFill>
                  <a:srgbClr val="04617b"/>
                </a:solidFill>
                <a:latin typeface="Calibri"/>
              </a:rPr>
              <a:t>Визги, вопли - это звук предупреждение, звук одиночества. Его издает свинка, когда ей больно или она чего-то боится.</a:t>
            </a:r>
            <a:r>
              <a:rPr b="0" lang="ru-RU" sz="4600" spc="-1" strike="noStrike">
                <a:solidFill>
                  <a:srgbClr val="04617b"/>
                </a:solidFill>
                <a:latin typeface="Calibri"/>
              </a:rPr>
              <a:t> </a:t>
            </a:r>
            <a:endParaRPr b="0" lang="en-US" sz="46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33" name="боль3326.wav" descr=""/>
          <p:cNvPicPr/>
          <p:nvPr/>
        </p:nvPicPr>
        <p:blipFill>
          <a:blip r:embed="rId1"/>
          <a:stretch/>
        </p:blipFill>
        <p:spPr>
          <a:xfrm>
            <a:off x="4356000" y="51577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0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" restart="whenNotActive" nodeType="interactiveSeq" fill="hold">
                <p:stCondLst>
                  <p:cond evt="onClick">
                    <p:tgtEl>
                      <p:spTgt spid="233"/>
                    </p:tgtEl>
                  </p:cond>
                </p:stCondLst>
                <p:childTnLst>
                  <p:par>
                    <p:cTn id="67" nodeType="clickEffect" fill="hold">
                      <p:stCondLst>
                        <p:cond evt="onClick">
                          <p:tgtEl>
                            <p:spTgt spid="233"/>
                          </p:tgtEl>
                        </p:cond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796" fill="hold"/>
                                        <p:tgtEl>
                                          <p:spTgt spid="23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ff0000"/>
                </a:solidFill>
                <a:latin typeface="Calibri"/>
              </a:rPr>
              <a:t>Заключение:</a:t>
            </a:r>
            <a:endParaRPr b="0" lang="en-US" sz="7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248040" indent="-24804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Constantia"/>
              </a:rPr>
              <a:t>   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При выполнения исследования был изучен материал о диких морских свинках и проведено наблюдение за морской свинкой в домашних условиях с целью определения условий ее содержани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Можно сделать следующие выводы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1 несмотря на свое название, эти милые животные не имеют никакого отношения ни к морю, ни к свиньям. Поэтому не стоит сажать свинок в аквариум. Животное погибнет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48040" indent="-2480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457200" y="47592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Можно сделать следующие выводы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1. Несмотря на свое название, эти милые животные не имеют никакого отношения ни к морю, ни к свиньям. Поэтому не стоит сажать свинок в аквариум. Животное погибнет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2. Морская свинка – одно из самых неприхотливых домашних животных, но так как животное содержится вне воли, оно требует особого уход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4617b"/>
                </a:solidFill>
                <a:latin typeface="Times New Roman"/>
              </a:rPr>
              <a:t>3. Это очень ласковые домашние животные. Если морская свинка одна, она грустит. С ней надо разговаривать, брать на руки несколько раз в день. От такого общения вы получите массу удовольствия и позитива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600" spc="-1" strike="noStrike">
                <a:solidFill>
                  <a:srgbClr val="ff0000"/>
                </a:solidFill>
                <a:latin typeface="Calibri"/>
              </a:rPr>
              <a:t>Рекомендации:</a:t>
            </a:r>
            <a:endParaRPr b="0" lang="en-US" sz="6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           </a:t>
            </a:r>
            <a:r>
              <a:rPr b="1" i="1" lang="ru-RU" sz="2800" spc="-1" strike="noStrike">
                <a:solidFill>
                  <a:srgbClr val="04617b"/>
                </a:solidFill>
                <a:latin typeface="Times New Roman"/>
              </a:rPr>
              <a:t>Морские свинки – идеальное животное для содержания в доме в качестве любимцев детей и взрослых. Это очень перспективные животные для живых уголков, уголков природы в школах, детских садах и других детских учреждениях.</a:t>
            </a:r>
            <a:r>
              <a:rPr b="1" i="1" lang="ru-RU" sz="3600" spc="-1" strike="noStrike">
                <a:solidFill>
                  <a:srgbClr val="000000"/>
                </a:solidFill>
                <a:latin typeface="Constantia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240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Спасибо за внимание.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40" name="Picture 5" descr="viber image"/>
          <p:cNvPicPr/>
          <p:nvPr/>
        </p:nvPicPr>
        <p:blipFill>
          <a:blip r:embed="rId1"/>
          <a:stretch/>
        </p:blipFill>
        <p:spPr>
          <a:xfrm>
            <a:off x="2340000" y="1844640"/>
            <a:ext cx="385128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7" descr="PIC_0018"/>
          <p:cNvPicPr/>
          <p:nvPr/>
        </p:nvPicPr>
        <p:blipFill>
          <a:blip r:embed="rId1"/>
          <a:stretch/>
        </p:blipFill>
        <p:spPr>
          <a:xfrm rot="406800">
            <a:off x="4571640" y="692280"/>
            <a:ext cx="4211640" cy="403200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68000" y="142560"/>
            <a:ext cx="4032360" cy="170172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1" lang="ru-RU" sz="2500" spc="-1" strike="noStrike">
                <a:solidFill>
                  <a:srgbClr val="ff0000"/>
                </a:solidFill>
                <a:latin typeface="Calibri"/>
              </a:rPr>
              <a:t>Цель</a:t>
            </a:r>
            <a:r>
              <a:rPr b="1" lang="ru-RU" sz="2500" spc="-1" strike="noStrike">
                <a:solidFill>
                  <a:srgbClr val="04617b"/>
                </a:solidFill>
                <a:latin typeface="Calibri"/>
              </a:rPr>
              <a:t>: Выяснить , как  содержать морских свинок в домашних условиях</a:t>
            </a:r>
            <a:r>
              <a:rPr b="1" lang="ru-RU" sz="1600" spc="-1" strike="noStrike">
                <a:solidFill>
                  <a:srgbClr val="04617b"/>
                </a:solidFill>
                <a:latin typeface="Calibri"/>
              </a:rPr>
              <a:t>.</a:t>
            </a:r>
            <a:endParaRPr b="0" lang="en-US" sz="1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79280" y="1773000"/>
            <a:ext cx="3857760" cy="4500360"/>
          </a:xfrm>
          <a:prstGeom prst="rect">
            <a:avLst/>
          </a:prstGeom>
          <a:noFill/>
          <a:ln w="0">
            <a:noFill/>
          </a:ln>
        </p:spPr>
        <p:txBody>
          <a:bodyPr lIns="64080" rIns="4572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Constantia"/>
              </a:rPr>
              <a:t>Задачи:</a:t>
            </a:r>
            <a:r>
              <a:rPr b="1" i="1" lang="ru-RU" sz="20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1. изучить материалы по источникам о морских свинках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        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2. провести наблюдение за своим домашним питомцем.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  <a:p>
            <a:pPr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         </a:t>
            </a:r>
            <a:r>
              <a:rPr b="1" i="1" lang="ru-RU" sz="2000" spc="-1" strike="noStrike">
                <a:solidFill>
                  <a:srgbClr val="009dd9"/>
                </a:solidFill>
                <a:latin typeface="Constantia"/>
              </a:rPr>
              <a:t>3. сделать выводы и составить памятку об особенностях содержания морских свинок в домашних условиях. </a:t>
            </a:r>
            <a:endParaRPr b="0" lang="en-US" sz="2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60280"/>
            <a:ext cx="8229600" cy="23767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Гипотеза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</a:rPr>
              <a:t>: Я предположил, что если больше узнаю о диких морских свинках, то смогу создать благоприятные условия для своей морской свинки и рекомендовать своим друзьям взять это животное в дом.</a:t>
            </a:r>
            <a:r>
              <a:rPr b="0" lang="ru-RU" sz="3100" spc="-1" strike="noStrike">
                <a:solidFill>
                  <a:srgbClr val="04617b"/>
                </a:solidFill>
                <a:latin typeface="Calibri"/>
              </a:rPr>
              <a:t>       </a:t>
            </a:r>
            <a:endParaRPr b="0" lang="en-US" sz="31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10" name="Picture 5" descr="viber image1"/>
          <p:cNvPicPr/>
          <p:nvPr/>
        </p:nvPicPr>
        <p:blipFill>
          <a:blip r:embed="rId1"/>
          <a:stretch/>
        </p:blipFill>
        <p:spPr>
          <a:xfrm>
            <a:off x="2484360" y="2637000"/>
            <a:ext cx="345600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Кто такие морские свинки?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рские свинки – небольшие грызуны. В длину они достигают 24-30 сантиметров, а весят от 700-1000 граммов. На передних лапках имеют 4 , а на задних – 3 пальца. У морских свинок 2 пары средних резцов, которые постоянно растут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очему их назвали свинками? Возможно потому, что когда они спокойны, то тихо похрюкивают. А сильно испугавшись, визжат, как маленькие поросят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/>
          </p:nvPr>
        </p:nvSpPr>
        <p:spPr>
          <a:xfrm>
            <a:off x="324000" y="980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Родина диких морских свинок – Южная Америка. В Европу морских свинок ввезли испанские путешественники в 16 веке. Эти сухопутные животные, им не нравится вода. Морские свинки часто были спутниками моряков в дальних путешествиях. Поэтому их название связано с морем- заморские, морские свинки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6172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4617b"/>
                </a:solidFill>
                <a:latin typeface="Times New Roman"/>
              </a:rPr>
              <a:t>Дикие морские свинки отличаются от домашних более стройным телом и большей подвижностью. Окрашены дикие грызуны в черный, бурый, коричневый или серый цвет. Они роют норы, устраивая убежища в виде целых подземных городков. Живут небольшими колониями, каждая из которых занимает собственную территорию и имеет вожака- взрослого самца. Они обладают развитым слухом и обонянием, они по очереди отдыхают и «несут вахту» охраняют свою территорию. А дополнительной защитой от хищников служит их чистоплотность. Зверьки как кошки, умываются несколько раз в день, поэтому их по запаху не удается найти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000" spc="-1" strike="noStrike">
                <a:solidFill>
                  <a:srgbClr val="04617b"/>
                </a:solidFill>
                <a:latin typeface="Calibri"/>
              </a:rPr>
              <a:t>Родственники морских свинок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а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Моко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Агути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к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Капибар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Constantia"/>
              </a:rPr>
              <a:t>Пакарана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Содержание и уход за</a:t>
            </a:r>
            <a:r>
              <a:rPr b="0" lang="ru-RU" sz="5000" spc="-1" strike="noStrike">
                <a:solidFill>
                  <a:srgbClr val="04617b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4617b"/>
                </a:solidFill>
                <a:latin typeface="Arial"/>
              </a:rPr>
              <a:t>морскими свинками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78920" y="1557360"/>
            <a:ext cx="5040360" cy="489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4617b"/>
                </a:solidFill>
                <a:latin typeface="Calibri"/>
                <a:ea typeface="宋体"/>
              </a:rPr>
              <a:t>   </a:t>
            </a: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Требования к домику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ачестве домика для морской свинки подойдет любая клетка для грызунов, длиной более 50 см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ачестве подстилки используется стружка или опилк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 клетку помещают шариковую поилку и пару кормушек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Подстилку меняют через день. Поилку и кормушки подвергают чистке ежедневно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Свинки не переносят перепады температур, сквозняки, влажность, прямые солнечные лучи. Место для клетки выбирайте в соответствии с этими требованиями. Комфортная температура для свинок – 18-20ºС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2.2. Требования к еде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Оптимальный режим кормления морских свинок – 2 раза в день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Питаются зверьки растительными кормами: сеном, травой, корнеплодами, зерновыми. Очень полезно кормить зверьков травой – это хороший источник витамина С, который необходим организму морских свинок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Морские свинки любят похрустеть морковкой, свеклой (в том числе и ботвой), тыквой. Иногда можно угостить животное кусочками яблока, арбуза, дыни, огурчикам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Из зерновых дают ячмень, пшеницу, овес, кукурузу, рожь. Зерна можно давать размоченными или пророщенными, лучше с утра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жедневно дают свежую воду, хотя при достаточном потреблении сочных и зеленых кормов, морская свинка может сравнительно мало пить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2.3. Требования к гигиене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ремя от времени необходимо подрезать когт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Водные процедуры свинки не любят, поэтому мыть их рекомендуется только в случае сильного загрязнения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сли свинка из породы длинношерстных, нужно будет запастись расческами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000"/>
            </a:b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Ежедневно нужно выпускать питомца на прогулку по дому, чтобы он мог размяться. Сначала нужно проверить квартиру на предмет безопасности – все, что можно сгрызть или перегрызть, должно быть недоступно для животного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  <a:p>
            <a:pPr marL="490320" indent="-490320">
              <a:lnSpc>
                <a:spcPct val="80000"/>
              </a:lnSpc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4617b"/>
                </a:solidFill>
                <a:latin typeface="Times New Roman"/>
              </a:rPr>
              <a:t>Летом можно содержать зверька на открытом воздухе или выгуливать, как собаку.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18" name="Picture 4" descr="PIC_0014"/>
          <p:cNvPicPr/>
          <p:nvPr/>
        </p:nvPicPr>
        <p:blipFill>
          <a:blip r:embed="rId1"/>
          <a:stretch/>
        </p:blipFill>
        <p:spPr>
          <a:xfrm>
            <a:off x="5292720" y="2276640"/>
            <a:ext cx="385128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9680" y="356760"/>
            <a:ext cx="8358120" cy="13575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4617b"/>
                </a:solidFill>
                <a:latin typeface="Calibri"/>
              </a:rPr>
              <a:t>           </a:t>
            </a:r>
            <a:r>
              <a:rPr b="0" lang="ru-RU" sz="4000" spc="-1" strike="noStrike">
                <a:solidFill>
                  <a:srgbClr val="ff0000"/>
                </a:solidFill>
                <a:latin typeface="Calibri"/>
              </a:rPr>
              <a:t>Опыт № 1.</a:t>
            </a:r>
            <a:br>
              <a:rPr sz="2500"/>
            </a:b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</a:t>
            </a:r>
            <a:r>
              <a:rPr b="1" i="1" lang="ru-RU" sz="2900" spc="-1" strike="noStrike">
                <a:solidFill>
                  <a:srgbClr val="04617b"/>
                </a:solidFill>
                <a:latin typeface="Calibri"/>
              </a:rPr>
              <a:t>Предпочтения в еде у морской свинки</a:t>
            </a:r>
            <a:br>
              <a:rPr sz="2500"/>
            </a:br>
            <a:r>
              <a:rPr b="1" lang="ru-RU" sz="2900" spc="-1" strike="noStrike">
                <a:solidFill>
                  <a:srgbClr val="04617b"/>
                </a:solidFill>
                <a:latin typeface="Calibri"/>
              </a:rPr>
              <a:t>        </a:t>
            </a:r>
            <a:endParaRPr b="0" lang="en-US" sz="29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0" name="Picture 6" descr="viber image2"/>
          <p:cNvPicPr/>
          <p:nvPr/>
        </p:nvPicPr>
        <p:blipFill>
          <a:blip r:embed="rId1"/>
          <a:stretch/>
        </p:blipFill>
        <p:spPr>
          <a:xfrm>
            <a:off x="1476360" y="1413000"/>
            <a:ext cx="585648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16336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br>
              <a:rPr sz="3600"/>
            </a:b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Опыт №2.</a:t>
            </a:r>
            <a:r>
              <a:rPr b="0" lang="ru-RU" sz="3200" spc="-1" strike="noStrike">
                <a:solidFill>
                  <a:srgbClr val="04617b"/>
                </a:solidFill>
                <a:latin typeface="Calibri"/>
              </a:rPr>
              <a:t> Сможет ли морская свинка узнать своего хозяина среди других людей ?</a:t>
            </a:r>
            <a:br>
              <a:rPr sz="3600"/>
            </a:b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pic>
        <p:nvPicPr>
          <p:cNvPr id="222" name="Picture 5" descr="viber image1"/>
          <p:cNvPicPr/>
          <p:nvPr/>
        </p:nvPicPr>
        <p:blipFill>
          <a:blip r:embed="rId1"/>
          <a:stretch/>
        </p:blipFill>
        <p:spPr>
          <a:xfrm>
            <a:off x="2268360" y="1413000"/>
            <a:ext cx="43927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31T05:29:07Z</dcterms:created>
  <dc:creator>Admin</dc:creator>
  <dc:description/>
  <dc:language>en-US</dc:language>
  <cp:lastModifiedBy>Acer</cp:lastModifiedBy>
  <dcterms:modified xsi:type="dcterms:W3CDTF">2019-11-06T05:25:35Z</dcterms:modified>
  <cp:revision>25</cp:revision>
  <dc:subject/>
  <dc:title>МОУ «Средняя общеобразовательная  школа № 8», г.Усть-Илимска Иркутской области</dc:title>
</cp:coreProperties>
</file>