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314-FA98-458F-8EF2-CB93079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BC7-74D0-4AC8-BAFB-C60DFE5F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8D84-FDD8-4B7C-A99D-AB5B17D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6975-C1BA-42F8-9ACD-451B02B3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5FF67-CA53-4ED3-913B-C7A0EC3E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C7AA-5D6D-4F6F-9950-8F2F9CE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6F14-E730-469D-94D3-37BF669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E545-A4B8-4479-904A-51904B0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50673-BF6D-4FE3-8615-92D4471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0CFDD-01DE-40FF-BE46-8FE03629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413F4-454B-4D6B-A62D-5077B9F7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4A8-F261-4054-8321-130B11FE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782-97DA-48E7-BBC0-ECDA59B0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D50A5-A359-4139-AECA-DD983675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8D9D-EF29-41E2-AD0A-EDFC586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8B3B-0F26-443B-9D72-355E0E34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2CF94-9D00-4562-A9AF-0E576C04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0748-17DC-4CBF-A22B-B520B66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C1944-B26B-4361-B9F1-F41BBBC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096B7-669A-4201-8CB7-F1F6C27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0D4-7949-4BB0-B1EC-EBD80BDB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4A228-1C1E-4D6E-B614-9789AF1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9770D-C913-49EE-A487-C9A8055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5BAFD-C936-44FB-BDE0-BA2674AA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F7C14-583F-4CE9-BD35-955E9053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3BD15-F46E-4650-B636-3F60F220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090D-044E-469F-AF7A-9E9A40E8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45DF-CB13-4F85-BE25-AB9A15E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D161-4644-4940-AF91-6843AA1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A247-8240-4FA5-940E-F2825B2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CE1A-D52F-471E-A71B-CE24CD34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94A-22FC-4848-B2AF-3DB088C0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D5BC-9784-46BD-80DF-1C6231B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C37F-586F-4C6A-9742-610A22D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A9E3-3362-465E-BB06-2FF5ED1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131A-0AD7-4795-A034-42CA1D8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4731-55D7-4484-AA61-D12AD12B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649D-DD5D-4F34-8BAD-A6154839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24B1-5C73-4730-AC09-1373E1DB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82246-EA61-4365-BCED-712289B8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F01A-CD49-41F7-B845-9D17690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F85B-601C-4E98-ADEB-F248469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733-6ADF-4A2D-A43E-4E522F7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D451-9D99-45A7-992B-CF826E21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30BF-50E5-4BC9-B0C8-3513C96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0909-FE2B-43E5-A0FE-1A9692F8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1FD4-0ED9-43B8-BF34-0359DC81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5302-DA9A-473B-8158-71B5E12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E108-3995-405A-8503-32B7A15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4B53-E8D9-4C9A-8E0B-447A578D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1506-F435-4795-AF44-ECB50DFA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A058-BA37-4DAF-ACD6-2B4CAFD6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A9B9-A52D-47BD-ACEB-78118B08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DA6-065A-4361-81E1-6D11143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5405B-67FB-4687-8485-81C7518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FF26-0BD6-411F-85AA-B6B8551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4AC67-0CED-43F4-A6D3-D3E32D7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9E27-0398-4D70-8C9A-0A6DCAD1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1083-7EBE-4CE3-AF00-B3D1C71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A8FA-3039-4CF1-A4D4-B595A3C3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FB99-66E0-453C-8949-07FAB02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D00D5-AFD8-41D8-8D4A-7C18C96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DD46-BE22-4C73-998F-C78DEF1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FA8E-A84F-47E1-8C7A-D5B4B4C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947-3431-43B3-9732-D0F9E72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12E9-A84D-4CD2-BF0C-3F526804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80A8-6762-4B61-B06A-1F4136B4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3DACD-D4EA-49D2-AC1C-8CF3AB0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380C-DA4D-4576-9C6F-C3A6DB78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81468-6D73-4321-8B6C-B42847B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3950-FFCA-473F-A6D4-96ADC5F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902F-EFC7-4A41-9CC4-F65E4C2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C192-1F89-4937-A0DD-86AE077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74608-3914-43CA-AD71-0043645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A29BD-5C93-4204-92C4-138B419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76A-4998-49BE-AFB4-D07D857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EE95-E7C8-416D-A606-6D07346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4270-7F8E-4C9D-B9C8-ACA6D945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39103-AE83-41DF-8273-58FA1BCB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A4AA-E17B-4455-9323-59914149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5C3B4-11C4-4309-A62D-7DCACCF8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F70D-9A3D-4ED6-B0F6-F564E5B7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17077-A27F-4C06-ABD8-1ED8303D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96CE-FF2C-47E2-BB35-ADD15AF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956B-2FA8-49B1-80B5-64CEDAA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B3E1-FBCD-448F-A90D-F40BD87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019-44C2-43B5-81C8-A35F663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D699-2DC7-4A90-92B2-91F0100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86E7-D8F4-4417-A7AE-F5E593E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2ED4-6B84-45CE-A756-8A17548A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40C8F-B37C-4137-B317-C599042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F2C3-1E5C-4F81-819D-A320E117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5DC94-4E75-4C6D-9283-43933E32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31D4E-194B-4FE8-867E-9A2EBFF0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C45AC-054D-43D6-BCCF-D055FA1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8F87-CBD2-4DE0-857D-F8771B23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1391B-C7A1-4D7B-9B6D-8052309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8E3-E31A-4194-8A48-1AD9E1F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EC144-B435-490B-AE4E-BD4EBA62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2926-23FF-4AB5-90B8-9776AE6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5F7A5-0919-493B-B193-307211A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5187F-F2D2-454D-B5C0-2349526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D753-6FA9-40D5-ACBA-82CBDEE7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72C1-DEEC-40B9-88EA-B7A5022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9745-F5E1-4FBE-AC35-BBDA32D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3CC07-3070-457E-A11D-0653296B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FC4F2-88F7-4C57-9891-8DD705AA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84CF1-3110-4609-BAE0-2E9F116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603B-16EA-48AE-B24F-F8B75864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355-CDD9-4266-A67E-CF2D3B2B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9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3871-059B-43B8-A1B4-AFA34A3C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D3ED-E1B5-436E-A299-9EE85A4F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4A73-CC8C-4E62-BD1C-BFE87D50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570-3B4A-4751-88B3-0F015430BD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7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0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0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CA8E-C458-4770-8630-705F0BC1D1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5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6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6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7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DE5-B978-423B-9A4E-A9A6A66F32D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490-E776-4A2A-B7C4-4795C71DB3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160344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Достопримечательности Тюменской област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24000" y="136440"/>
            <a:ext cx="85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авославный крест и памятный камень атаману Ермаку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(Вагай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ая бере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ромашев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851280" cy="31687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Речная или черная береза Берёза чёрная Всё живое"/>
          <p:cNvPicPr/>
          <p:nvPr/>
        </p:nvPicPr>
        <p:blipFill>
          <a:blip r:embed="rId2"/>
          <a:stretch/>
        </p:blipFill>
        <p:spPr>
          <a:xfrm>
            <a:off x="219564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Primitive Rootbeer (The Black Birch) - Sean Rowe"/>
          <p:cNvPicPr/>
          <p:nvPr/>
        </p:nvPicPr>
        <p:blipFill>
          <a:blip r:embed="rId3"/>
          <a:stretch/>
        </p:blipFill>
        <p:spPr>
          <a:xfrm>
            <a:off x="4859280" y="620640"/>
            <a:ext cx="37083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цинский б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шим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924280"/>
            <a:ext cx="9144000" cy="410688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3"/>
          <a:stretch/>
        </p:blipFill>
        <p:spPr>
          <a:xfrm rot="1369200">
            <a:off x="5702400" y="1201680"/>
            <a:ext cx="3105000" cy="23176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Синицинский бор- Ишим - Туристические ресурсы Тюменской области"/>
          <p:cNvPicPr/>
          <p:nvPr/>
        </p:nvPicPr>
        <p:blipFill>
          <a:blip r:embed="rId4"/>
          <a:stretch/>
        </p:blipFill>
        <p:spPr>
          <a:xfrm rot="19878000">
            <a:off x="596520" y="1325520"/>
            <a:ext cx="3292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3995640" cy="266364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Достопримечательности- Армизонский район - Туристические ресурсы Тюменской области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Рекомендуем посетить- Тюменская область - Туристические ресу…"/>
          <p:cNvPicPr/>
          <p:nvPr/>
        </p:nvPicPr>
        <p:blipFill>
          <a:blip r:embed="rId4"/>
          <a:stretch/>
        </p:blipFill>
        <p:spPr>
          <a:xfrm>
            <a:off x="3995640" y="836640"/>
            <a:ext cx="5148360" cy="2663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0" y="-842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Биологический заказник «Белозерский»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Армизон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378936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Портал СМИ Тюменской области - Бердюжский район - край синих озер и хлебных нив. - фото &quot;Новая жизнь&quot;"/>
          <p:cNvPicPr/>
          <p:nvPr/>
        </p:nvPicPr>
        <p:blipFill>
          <a:blip r:embed="rId2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0" y="-15552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зеро Соленое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Бердюжский рай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Рисунок 7" descr="C:\Users\Гость\Desktop\тюм.обл\Скважина Самотлора.jpg"/>
          <p:cNvPicPr/>
          <p:nvPr/>
        </p:nvPicPr>
        <p:blipFill>
          <a:blip r:embed="rId1"/>
          <a:stretch/>
        </p:blipFill>
        <p:spPr>
          <a:xfrm>
            <a:off x="0" y="765000"/>
            <a:ext cx="4427640" cy="28530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Тюменська область. Самотлорськоє родовище нафти (зображення) - значення слова, визначення слова, слово означає VseslovA"/>
          <p:cNvPicPr/>
          <p:nvPr/>
        </p:nvPicPr>
        <p:blipFill>
          <a:blip r:embed="rId2"/>
          <a:stretch/>
        </p:blipFill>
        <p:spPr>
          <a:xfrm>
            <a:off x="4381560" y="765000"/>
            <a:ext cx="4762440" cy="281016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Новость: Россия продаст последние крупные нефтяные месторожд…"/>
          <p:cNvPicPr/>
          <p:nvPr/>
        </p:nvPicPr>
        <p:blipFill>
          <a:blip r:embed="rId3"/>
          <a:stretch/>
        </p:blipFill>
        <p:spPr>
          <a:xfrm>
            <a:off x="0" y="3213000"/>
            <a:ext cx="4352760" cy="4149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Самотлор - жемчужина страны!!!!! - yras - Photo.Qip.ru / id: vax"/>
          <p:cNvPicPr/>
          <p:nvPr/>
        </p:nvPicPr>
        <p:blipFill>
          <a:blip r:embed="rId4"/>
          <a:stretch/>
        </p:blipFill>
        <p:spPr>
          <a:xfrm>
            <a:off x="4356000" y="3213000"/>
            <a:ext cx="4932360" cy="39322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2176560" y="20808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тлор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А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Храм святых апостолов Петра и Павла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(Абатский район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76" name="Рисунок 5" descr="Храм святых апостолов Петра и Павла (с.Абатское, Абатский район)"/>
          <p:cNvPicPr/>
          <p:nvPr/>
        </p:nvPicPr>
        <p:blipFill>
          <a:blip r:embed="rId1"/>
          <a:stretch/>
        </p:blipFill>
        <p:spPr>
          <a:xfrm>
            <a:off x="0" y="981000"/>
            <a:ext cx="4284720" cy="259236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&quot;Малая Пасха&quot; в Абатском"/>
          <p:cNvPicPr/>
          <p:nvPr/>
        </p:nvPicPr>
        <p:blipFill>
          <a:blip r:embed="rId2"/>
          <a:stretch/>
        </p:blipFill>
        <p:spPr>
          <a:xfrm>
            <a:off x="1692360" y="3689280"/>
            <a:ext cx="6667560" cy="31687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&quot;Малая Пасха&quot; в Абатском"/>
          <p:cNvPicPr/>
          <p:nvPr/>
        </p:nvPicPr>
        <p:blipFill>
          <a:blip r:embed="rId3"/>
          <a:stretch/>
        </p:blipFill>
        <p:spPr>
          <a:xfrm>
            <a:off x="4500720" y="981000"/>
            <a:ext cx="4643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65534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сатель, родина которого с. Безруково Ишимского района. Создатель сказки «Конек-Горбуно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пнейшее в России нефтяное месторождение, расположенное в Ханты-Мансийском автономном округ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менитый химик, родившийся в Тобольске, создатель периодической системы химических элемен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менитый детский писатель, родившийся в Тюмени, создатель детского отряда «Каравелла», автор романов «Острова и капитаны», «Мальчик со шпагой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еро в Бердюжском районе, которое содержит отложения грязей, лечащих большое количество различных заболевани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ристический комплекс в тобольском районе, который представляет собой деревянную крепость, возведенную из кедра, он имеет репутацию сказочного городка с большим количеством диковинок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ХМА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горский 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ЯНА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Вагай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Тоболь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Тоболь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Тюменский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9" action="ppaction://hlinksldjump"/>
              </a:rPr>
              <a:t>Викулов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0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1" action="ppaction://hlinksldjump"/>
              </a:rPr>
              <a:t>Вагай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2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3" action="ppaction://hlinksldjump"/>
              </a:rPr>
              <a:t>Аромашев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4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5" action="ppaction://hlinksldjump"/>
              </a:rPr>
              <a:t>Ишим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6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7" action="ppaction://hlinksldjump"/>
              </a:rPr>
              <a:t>Армизон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8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9" action="ppaction://hlinksldjump"/>
              </a:rPr>
              <a:t>Бердюжский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20" action="ppaction://hlinksldjump"/>
              </a:rPr>
              <a:t>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МАО Самотл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атский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Югорский мост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ХМАО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31" name="Рисунок 5" descr="C:\Users\Гость\Desktop\тюм.обл\Сургутский мост.jpg"/>
          <p:cNvPicPr/>
          <p:nvPr/>
        </p:nvPicPr>
        <p:blipFill>
          <a:blip r:embed="rId1"/>
          <a:stretch/>
        </p:blipFill>
        <p:spPr>
          <a:xfrm>
            <a:off x="546120" y="907920"/>
            <a:ext cx="80503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Уренгойское месторождение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(ЯНАО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3" name="Рисунок 6" descr="C:\Users\Гость\Desktop\тюм.обл\Уренгойское месторождение2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Рисунок 16" descr="Сельскохозяйственная ярмарка (Вагайский район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250920" y="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ярма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агай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" descr="Заготовка дикоросов может стать доходным бизнесом в Хакасии - Агентство Информационных Сообщений"/>
          <p:cNvPicPr/>
          <p:nvPr/>
        </p:nvPicPr>
        <p:blipFill>
          <a:blip r:embed="rId3"/>
          <a:stretch/>
        </p:blipFill>
        <p:spPr>
          <a:xfrm>
            <a:off x="0" y="549360"/>
            <a:ext cx="914400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обольский Кремл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8" name="Рисунок 1" descr="C:\Users\Гость\Desktop\тюм.обл\Кремль.jpg"/>
          <p:cNvPicPr/>
          <p:nvPr/>
        </p:nvPicPr>
        <p:blipFill>
          <a:blip r:embed="rId1"/>
          <a:stretch/>
        </p:blipFill>
        <p:spPr>
          <a:xfrm>
            <a:off x="0" y="836640"/>
            <a:ext cx="4172040" cy="26636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Стена ВКонтакте"/>
          <p:cNvPicPr/>
          <p:nvPr/>
        </p:nvPicPr>
        <p:blipFill>
          <a:blip r:embed="rId2"/>
          <a:stretch/>
        </p:blipFill>
        <p:spPr>
          <a:xfrm>
            <a:off x="2195640" y="3500280"/>
            <a:ext cx="4390920" cy="314172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Самые красивые места Тюменской области (Фото)"/>
          <p:cNvPicPr/>
          <p:nvPr/>
        </p:nvPicPr>
        <p:blipFill>
          <a:blip r:embed="rId3"/>
          <a:stretch/>
        </p:blipFill>
        <p:spPr>
          <a:xfrm>
            <a:off x="4284720" y="765000"/>
            <a:ext cx="45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балак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(Тобольский район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211640" cy="335736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Туристический центр Абалак. Отдых с детьми в Тобольске &quot; Рынок туристических услуг Тюмени и Тюменской области"/>
          <p:cNvPicPr/>
          <p:nvPr/>
        </p:nvPicPr>
        <p:blipFill>
          <a:blip r:embed="rId3"/>
          <a:stretch/>
        </p:blipFill>
        <p:spPr>
          <a:xfrm>
            <a:off x="4356000" y="549360"/>
            <a:ext cx="4788000" cy="33573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Абалак.Фотогалерея"/>
          <p:cNvPicPr/>
          <p:nvPr/>
        </p:nvPicPr>
        <p:blipFill>
          <a:blip r:embed="rId4"/>
          <a:stretch/>
        </p:blipFill>
        <p:spPr>
          <a:xfrm>
            <a:off x="684360" y="3284640"/>
            <a:ext cx="770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мальные источ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Тюменский рай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20640"/>
            <a:ext cx="9144000" cy="494028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Тур на термальные источники Тюмени. (18-21 апреля)"/>
          <p:cNvPicPr/>
          <p:nvPr/>
        </p:nvPicPr>
        <p:blipFill>
          <a:blip r:embed="rId3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еро Средн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икуловский райо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4:47:46Z</dcterms:created>
  <dc:creator>Ирина</dc:creator>
  <dc:description/>
  <dc:language>en-US</dc:language>
  <cp:lastModifiedBy>Ирина</cp:lastModifiedBy>
  <dcterms:modified xsi:type="dcterms:W3CDTF">2014-11-30T13:16:47Z</dcterms:modified>
  <cp:revision>5</cp:revision>
  <dc:subject/>
  <dc:title>Слайд 1</dc:title>
</cp:coreProperties>
</file>