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B7D-A7D8-498D-B5C6-77CE6229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16D-0123-457B-BA04-4AF5B4BA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00E-D4DF-4E64-BB94-143A90BD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88E-1652-4845-A58F-61D130A1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AA6A-95D9-4687-A5D8-3BCBD50D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6A97-91C2-427D-88F0-3B0F7510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14AC-9FF6-4398-A366-7A4471BF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9833-B2DA-4416-A74F-EC9AE2D5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365D-9BE4-4048-B1E8-0F0AE6E7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CA66-0CC3-44AB-AA37-3E2EBB31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7387-D4E3-4F57-BAB8-0D3E864D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0CD-9DAB-4432-A684-6C2771F0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3175-1904-465E-A3B0-8FF6B452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3D41-045C-4A30-8982-3A0E0E5F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5242-08F1-4008-B980-15D2781A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A050-8AEB-4828-BEC3-9B232196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16D8-BA66-4941-B163-CE545D48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11935-EC4C-4680-9297-5EA21678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861A1-398E-45D4-9875-C6B8345A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55758-85C3-41BF-9D98-68C4607E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4669F-AC18-4EAA-B44A-2261B6E4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D8A2-6CAB-40F7-A5E0-31EDC74D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508-9D56-42DA-A277-0CD53757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A4E6D-8820-41E3-A620-4AF388DD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E9EAD-6110-46C7-90D4-BD965495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92AF3-355E-4252-8B1A-B9470F08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5583-310C-43FC-9292-7CAD2B2B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2A31D-1E70-4EF9-87DF-470150F4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B6CFC-CE44-4246-AD57-EA80EB2E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53C11-936B-4985-90EB-53807141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E3716-8E8D-476B-B5E0-08BE6C59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A0F22-49F4-43FD-8425-D91C2229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10EF1-200E-4991-9461-B3EF9B3F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121-4D46-4698-9915-B01E878A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658C0-CE03-4C3A-B6B3-5FABC069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26013-45F2-41D7-8039-0699B132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C3AB-4B95-4256-B492-AF4664C5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49DF4-6108-4E9C-8D11-1224A33D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A47BF-523D-4433-97F6-6E89C815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8AD0C-E275-4F7E-9DDF-16EFE8E4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8E2D4-D38B-4D62-8713-079E9A60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71EE8-AC5D-4A56-81D6-5D1050FB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2EE67-B67F-404F-9471-73D6333F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39CEF-4871-4BB1-8CC8-F06EC97A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B98-08D2-4550-91B3-4178315E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15DBD-9D8B-4F1F-9D57-041AEE06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9CA58-FE81-4172-817C-A40F7575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A8CB6-DFFC-47E9-A474-195D9B09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010C6-50ED-439A-BED1-37F6BD16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53BD9-CAD8-4116-85FA-4166D9DA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1F65F-8CE8-40F7-87BB-8879C5A0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61814-7313-4C8D-9970-8F1234A8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DCCCB-8DC9-40CA-9E32-24ED304F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A5E80-6D00-4CBA-9F10-1E22CBB9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7CFD7-C583-4503-AE4F-88977BF8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BF7-5931-46C1-8BD1-4E8A283A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C47A6-1DB4-4DFF-8C01-8CF36C70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194BD-A6BB-48FD-82CE-1271408D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63099-CA3B-4B81-B030-01A26F76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A3072-DB28-4378-83DB-DC2A88FE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8E4EB-A712-451A-97D6-8AB9DF6A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D22F7-5C9C-4FEA-B4C9-839B8445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8AA49-C66B-4318-88FA-5658E75D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27120-772B-48CC-9EDA-ACE7A99A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BFEEF-E647-4463-96ED-5121B71D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9925C-5F41-400C-B08F-CEE7F539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CE0-1864-4814-9B0E-1ADE3E18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8976B-55A3-4D79-A905-66B26FBD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8FB71-4BC9-4814-89EC-74214FDA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6E8FD-80D9-4CA0-9E00-8331CE5B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251C9-636A-4BC6-AE8A-F08E7748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9D5C6-D6E1-4084-B157-0912F515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9D6CB-4095-4777-9081-5BD73577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F56C5-4B58-48A4-9E2F-EF9A1AED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B78C2-A45D-4CAE-A0DE-23B53A94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8DB39-8496-4616-AA02-DC8B5569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C91AA-BE7E-49F9-93AB-0CB1CB93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DBF-FB04-44B4-AE62-69183293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F319B-C16C-4CED-B61C-81740906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430EE-B4E1-4628-A1CF-914BDF4F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1D4DB-0BE6-4D2D-B4C3-3479A829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4A040-ECF5-42C7-984C-542D9B8A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20118-A5B9-4EF8-B9D5-E92D9360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9B7-7964-4B51-BB7D-04DE2A8E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488E-0BAF-45EC-AB3B-F47FC19193C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48B9-C89A-4206-BC78-9EE849C6604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120C-0E24-44C6-B89B-E2C2F30E4E7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745B-91E9-449A-9E17-5BD2CC7BE56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00CD-9B1B-4B27-9881-DF6C4749027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1E4D-4425-471F-9107-4A972963A3D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B4E7-2A7D-4AF6-97B1-5726A43ACBA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2560" y="360360"/>
            <a:ext cx="810108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редачи и ловля мяча </a:t>
            </a:r>
            <a:br>
              <a:rPr sz="4800"/>
            </a:br>
            <a:r>
              <a:rPr b="0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баскетболе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47640" y="5805000"/>
            <a:ext cx="7189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Times New Roman"/>
              <a:ea typeface="Times New Roman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8974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пражнения для овладения техникой ловли и передачи мяч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2" descr="C:\Users\user\Desktop\image735.gif"/>
          <p:cNvPicPr/>
          <p:nvPr/>
        </p:nvPicPr>
        <p:blipFill>
          <a:blip r:embed="rId1"/>
          <a:stretch/>
        </p:blipFill>
        <p:spPr>
          <a:xfrm>
            <a:off x="1380960" y="2017800"/>
            <a:ext cx="700740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роски мяча двумя руками от груди в стену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rcRect l="0" t="0" r="51119" b="29799"/>
          <a:stretch/>
        </p:blipFill>
        <p:spPr>
          <a:xfrm>
            <a:off x="1692360" y="2133720"/>
            <a:ext cx="619272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4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роски мяча одной рукой от груди в стену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50823" t="0" r="0" b="29463"/>
          <a:stretch/>
        </p:blipFill>
        <p:spPr>
          <a:xfrm>
            <a:off x="2124000" y="1989000"/>
            <a:ext cx="5904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Ловля и передача мяча в движении в парах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rcRect l="6303" t="0" r="5361" b="22719"/>
          <a:stretch/>
        </p:blipFill>
        <p:spPr>
          <a:xfrm>
            <a:off x="1116000" y="1700280"/>
            <a:ext cx="77803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редал мяч садись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Picture 2" descr="C:\Users\user\Desktop\pic-0230epbxwo-012.gif"/>
          <p:cNvPicPr/>
          <p:nvPr/>
        </p:nvPicPr>
        <p:blipFill>
          <a:blip r:embed="rId1"/>
          <a:stretch/>
        </p:blipFill>
        <p:spPr>
          <a:xfrm>
            <a:off x="1903320" y="1447920"/>
            <a:ext cx="62229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редача мяча с перемещением по кругу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645156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крытые передачи мяч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7639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редача одной рукой назад из-за рук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rcRect l="9579" t="23071" r="53953" b="55732"/>
          <a:stretch/>
        </p:blipFill>
        <p:spPr>
          <a:xfrm>
            <a:off x="1050840" y="2205000"/>
            <a:ext cx="79138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редача одной рукой из-за спин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rcRect l="61004" t="22803" r="10075" b="53365"/>
          <a:stretch/>
        </p:blipFill>
        <p:spPr>
          <a:xfrm>
            <a:off x="1547640" y="1916280"/>
            <a:ext cx="69739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редача одной рукой над плечом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rcRect l="60677" t="64189" r="10594" b="15412"/>
          <a:stretch/>
        </p:blipFill>
        <p:spPr>
          <a:xfrm>
            <a:off x="1403280" y="1844640"/>
            <a:ext cx="71294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258560" y="692280"/>
            <a:ext cx="7489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вля мяч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ём при помощи которого игрок может овладеть мячом и предпринять с ним дальнейшие атакующие действ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мяч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ём, с помощью которого игрок направляет мяч партнёру для продолжения атак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844280"/>
            <a:ext cx="81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499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ёмы техники передачи мяч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7770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ложение рук и кистей </a:t>
            </a:r>
            <a:br>
              <a:rPr sz="4400"/>
            </a:br>
            <a:r>
              <a:rPr b="0" lang="ru-RU" sz="4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 ловли мяча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rcRect l="1764" t="0" r="0" b="14811"/>
          <a:stretch/>
        </p:blipFill>
        <p:spPr>
          <a:xfrm>
            <a:off x="1116000" y="2133720"/>
            <a:ext cx="8028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Ловля мяча двумя руками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rcRect l="6677" t="39774" r="8949" b="9234"/>
          <a:stretch/>
        </p:blipFill>
        <p:spPr>
          <a:xfrm>
            <a:off x="1042920" y="1916280"/>
            <a:ext cx="8101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редача мяча двумя руками </a:t>
            </a: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т груд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rcRect l="0" t="0" r="52412" b="19721"/>
          <a:stretch/>
        </p:blipFill>
        <p:spPr>
          <a:xfrm>
            <a:off x="1187280" y="1773360"/>
            <a:ext cx="770436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редача мяча одной рукой </a:t>
            </a: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т плеч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rcRect l="52814" t="5414" r="0" b="21449"/>
          <a:stretch/>
        </p:blipFill>
        <p:spPr>
          <a:xfrm>
            <a:off x="1042920" y="1773360"/>
            <a:ext cx="790272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редача мяча одной рукой сверху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rcRect l="13429" t="26273" r="12327" b="34735"/>
          <a:stretch/>
        </p:blipFill>
        <p:spPr>
          <a:xfrm>
            <a:off x="1042920" y="2133720"/>
            <a:ext cx="8043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редача мяча одной рукой снизу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80280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5T19:20:43Z</dcterms:created>
  <dc:creator>user</dc:creator>
  <dc:description/>
  <dc:language>en-US</dc:language>
  <cp:lastModifiedBy>user</cp:lastModifiedBy>
  <dcterms:modified xsi:type="dcterms:W3CDTF">2020-03-29T14:45:32Z</dcterms:modified>
  <cp:revision>10</cp:revision>
  <dc:subject/>
  <dc:title>Передачи мяча в баскетболе</dc:title>
</cp:coreProperties>
</file>