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5AA-DAED-4B6F-AC9F-D483EFFE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D25-951C-4BDB-BFC1-C7280D3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8EC-5CB7-4EDC-8655-8BB6AFB7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C0A-7EE9-4944-BE15-BE28C471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CC0-B4A8-4A2A-9B88-0DD12663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81A-111C-4883-A4ED-0CAFADE5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DEF-B434-4244-89F0-E1A89D3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4C0-6AF4-4ACA-AAD6-A1822C8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834-D3DE-4DC6-AE5B-757B0A56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601-33AE-4652-8150-0D20641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CF6-B678-4209-9CE1-AECCC6A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8A2-0F7E-4315-BC2D-9B99649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5B53-AF46-4BE6-A35B-7EAFF3C01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050920" y="2060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253f"/>
                </a:solidFill>
                <a:latin typeface="Times New Roman"/>
              </a:rPr>
              <a:t>«Безопасность на дорог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84720" y="4869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Составила:  воспитатель  МДОУ Большенагаткинского детского сада «Березка» Нягусева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286000" y="765000"/>
            <a:ext cx="581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амым действенным методом доведения до детей элементарных правил поведения на дороге является сюжетно-ролевая игра, в которой они сами являются участниками. Увлекаясь игрой, дети усваивают основные требования правил, осознают, кто такие пешеходы, водители, регулировщики. У детей очень хорошо развито воображение, и только яркие моменты оставляют в их памяти нужные знания. Любой ребёнок быстрее поймёт и усвоит ПДД, преподнесённые не только в обыкновенной беседе, но и в сказке, викторине, иг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avatars.mds.yandex.net/get-pdb/1535209/4e3cf718-4eda-45e3-81e0-2af78696e21c/s1200?webp=false"/>
          <p:cNvPicPr/>
          <p:nvPr/>
        </p:nvPicPr>
        <p:blipFill>
          <a:blip r:embed="rId2"/>
          <a:stretch/>
        </p:blipFill>
        <p:spPr>
          <a:xfrm>
            <a:off x="2987640" y="765000"/>
            <a:ext cx="5376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cloud.prezentacii.org/18/08/68474/images/screen3.jpg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286000" y="333360"/>
            <a:ext cx="631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Times New Roman"/>
              </a:rPr>
              <a:t>Актуальность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необходимость обучения детей ПДД, так как дети часто являются причиной ДТП. Дошкольник не умеет управлять своим поведением, поэтому изучение и доведение до автоматизма ПДД, является одной из главных задач на сегодняшний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8c6f9344e636718b630c75460cd16fdd-293x400"/>
          <p:cNvPicPr/>
          <p:nvPr/>
        </p:nvPicPr>
        <p:blipFill>
          <a:blip r:embed="rId2"/>
          <a:stretch/>
        </p:blipFill>
        <p:spPr>
          <a:xfrm>
            <a:off x="5580000" y="0"/>
            <a:ext cx="4095720" cy="5591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1763640" y="98100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Дети очень возбудимы, динамичны, рассеяны, не умеют предвидеть опасность на дорог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547640" y="328464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Обеспечение безопасности движения на дороге - важнейшая государственная зада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037040" y="260280"/>
            <a:ext cx="26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286000" y="1557360"/>
            <a:ext cx="638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Дорога и игра – это два взаимосвязанных понятия. Безопасность напрямую зависит от тех игр, в которые играет дошкольник. Именно игра позволяет ребёнку смоделировать окружающий мир, найти свое безопасное и комфортное место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789360" y="2602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286000" y="213372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уточнить и расширить знания детей об элементах дороги, о движении транспорта, о работе светоф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4091040" y="33336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дач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2286000" y="1197000"/>
            <a:ext cx="64627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уточнять и расширять знания об элементах дороги, о движении транспорта, о работе светофора. Продолжать знакомство с ПДД, правилами движения пешеходов и пассажиров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совершенствовать умение ориентироваться в окружающем пространстве, понимать смысл пространственных 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развивать умение составлять рассказы из личного опы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побуждать рассказывать о своем восприятии конкретного поступка литературного персонаж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знакомить с основами безопасности и правилами поведения на улиц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знакомить со спортивными играми, играми эстафетами по правилам дорожного дви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- формировать потребность вести себя в соответствии с общественными норм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286000" y="0"/>
            <a:ext cx="588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Методы и формы работы с дет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онсультации на тему «Улицы нашего города»,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Наш друг светоф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286000" y="1628640"/>
            <a:ext cx="617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Показ презентаций  «Дети и дорога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Три сигнала светофора»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Дорожные зна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Правила поведения на улиц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Улицы нашего гор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342160" y="3284640"/>
            <a:ext cx="49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Просмотр развивающих мультфильм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484360" y="3645000"/>
            <a:ext cx="66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Правила дорожного дви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Доктор Машинк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Смешарики: Азбука безопас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Перекресток в джунгля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286000" y="404640"/>
            <a:ext cx="631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Беседы   «Безопасность на дорог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Знаки дорожные помни всег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Осторожно, дорога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Транспорт на улицах гор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Правила для пассажир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2286000" y="2274840"/>
            <a:ext cx="685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Е.Житков «Светоф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.Михалков «Моя ул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Н. Калинин «Как ребята переходили улиц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В.Сиротов «Твой товарищ светоф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И.Серяков «Законы улиц и доро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286000" y="4508640"/>
            <a:ext cx="624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идактические игры  «Дорожные зна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Светоф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оставь дорожный зна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Будь внимательны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равильно разлож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Узнай по описанию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cloud.prezentacii.org/18/08/68474/images/screen3.jp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124000" y="765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Подвижные игры «Пешеходы и автомоби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Дорожные знаки и автомоби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Светофор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692360" y="1844640"/>
            <a:ext cx="69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Моделирование ситуаций «Запрещается - разрешается»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Играем на улиц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По дороге из детского са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547640" y="2606760"/>
            <a:ext cx="698508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Художественно-продуктивная деятельность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755640" y="314172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абота с родителями /Папки – передви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Взрослые! Вам подражают дети!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Дисциплина на улице – залог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езопасности пешеход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1835280" y="3213000"/>
            <a:ext cx="73087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онсультации </a:t>
            </a:r>
            <a:r>
              <a:rPr b="0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Родителям о правилах дорожного движ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О поведение в общественном транспорт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«О значении обучения детей дошколь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возраста правилам дорожного движения</a:t>
            </a:r>
            <a:r>
              <a:rPr b="1" lang="ru-RU" sz="1800" spc="-1" strike="noStrike">
                <a:solidFill>
                  <a:srgbClr val="4f81bd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9T17:17:47Z</dcterms:created>
  <dc:creator>1</dc:creator>
  <dc:description/>
  <dc:language>en-US</dc:language>
  <cp:lastModifiedBy>1</cp:lastModifiedBy>
  <dcterms:modified xsi:type="dcterms:W3CDTF">2020-03-29T18:31:02Z</dcterms:modified>
  <cp:revision>8</cp:revision>
  <dc:subject/>
  <dc:title>Слайд 1</dc:title>
</cp:coreProperties>
</file>