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AA9-A5DD-4DD9-A81B-62B42A5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1AD-96F1-40C2-A221-98C4FE96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9CC-B802-47D5-8D25-9C73F823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483-A14C-4791-9FE4-287DCB55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235-7175-46A8-A0A2-CC454C4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22E-BB50-4A3F-B443-584CE8E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A73-0202-43C1-AF75-1A546027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31E-DA6F-4938-B2AA-9FD3A432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A98-C94B-4AEA-BE24-4A6C1EA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C3E-0391-4BE6-BB85-7D2A1E1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C86-1343-4739-B2FB-DCC93F0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28E-72DC-43A3-A22A-9878590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3171-D483-4DF8-BA50-87F8A966B3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«Организация тематического проекта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Насекомые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группе детей раннего возраста «Ладушки»» (из опыта работы)</a:t>
            </a:r>
            <a:br>
              <a:rPr sz="2000"/>
            </a:br>
            <a:r>
              <a:rPr b="0" lang="ru-RU" sz="2000" spc="-1" strike="noStrike" u="sng">
                <a:solidFill>
                  <a:srgbClr val="0070c0"/>
                </a:solidFill>
                <a:uFillTx/>
                <a:latin typeface="Calibri"/>
              </a:rPr>
              <a:t>Воспитатели: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Денисова Татьяна Владимировна,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иягина Ирина Владимировна 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уководитель: Цвяткова Яна Леонидовна.</a:t>
            </a: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. Нижний Таги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ДОУ «Звездочка» СП № 148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ТВ17.jpg"/>
          <p:cNvPicPr/>
          <p:nvPr/>
        </p:nvPicPr>
        <p:blipFill>
          <a:blip r:embed="rId1"/>
          <a:stretch/>
        </p:blipFill>
        <p:spPr>
          <a:xfrm>
            <a:off x="285840" y="314316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4" descr="ИВ7.jpg"/>
          <p:cNvPicPr/>
          <p:nvPr/>
        </p:nvPicPr>
        <p:blipFill>
          <a:blip r:embed="rId2"/>
          <a:stretch/>
        </p:blipFill>
        <p:spPr>
          <a:xfrm>
            <a:off x="3929040" y="3714840"/>
            <a:ext cx="4541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й интерес у детей раннего возраста вызывае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атрализованная де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ми были изготовлены шапочки – атрибуты для подвижной игры и драматизации.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П/и «Медведь и пчелы», 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театрализация «В гостях у Мухи-Цокотух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ИВ3.jpg"/>
          <p:cNvPicPr/>
          <p:nvPr/>
        </p:nvPicPr>
        <p:blipFill>
          <a:blip r:embed="rId1"/>
          <a:stretch/>
        </p:blipFill>
        <p:spPr>
          <a:xfrm rot="15282000">
            <a:off x="692280" y="1933200"/>
            <a:ext cx="34653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7" descr="ТВ13.jpg"/>
          <p:cNvPicPr/>
          <p:nvPr/>
        </p:nvPicPr>
        <p:blipFill>
          <a:blip r:embed="rId2"/>
          <a:stretch/>
        </p:blipFill>
        <p:spPr>
          <a:xfrm>
            <a:off x="5396040" y="1928880"/>
            <a:ext cx="31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оектная деятельность в данной группе организована впервые, идей у нас было очень много. Но при выборе каждой деятельности мы анализировали, будет ли это интересно и доступно малышам. 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и детки очень любят петь и танце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время проекта были разучены  потешки, песенки и пальчиковые игры. Особенно детям полюбилась пальчиковая игра «Паучо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d9KRulK96Hw.jpg"/>
          <p:cNvPicPr/>
          <p:nvPr/>
        </p:nvPicPr>
        <p:blipFill>
          <a:blip r:embed="rId1"/>
          <a:stretch/>
        </p:blipFill>
        <p:spPr>
          <a:xfrm>
            <a:off x="1000080" y="1857240"/>
            <a:ext cx="3357720" cy="45007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5" descr="ТВ7.jpg"/>
          <p:cNvPicPr/>
          <p:nvPr/>
        </p:nvPicPr>
        <p:blipFill>
          <a:blip r:embed="rId2"/>
          <a:stretch/>
        </p:blipFill>
        <p:spPr>
          <a:xfrm rot="915000">
            <a:off x="5114880" y="20160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500040"/>
            <a:ext cx="4900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ект вызвал большой интерес и у родителей, ведь для них это тоже было вперв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одител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не только источниками информации, реальной помощи и поддержки ребенку и педагогу в процессе работы над проектом, но и выступил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средственными участниками образовательного процесс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тили свой педагогический опыт, испытали чувство сопричастности и удовлетворения от своих успехов и успехов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Monotype Corsiva"/>
              </a:rPr>
              <a:t>Завершающим этапом реализации проекта является развлечение «Насекомы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GXIERKCiLwA.jpg"/>
          <p:cNvPicPr/>
          <p:nvPr/>
        </p:nvPicPr>
        <p:blipFill>
          <a:blip r:embed="rId1"/>
          <a:stretch/>
        </p:blipFill>
        <p:spPr>
          <a:xfrm rot="444600">
            <a:off x="5768640" y="878040"/>
            <a:ext cx="292104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тоговое развлечение для родителей (25.04.1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приготовили детям замечательные костюм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ема – «божья коровка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Аленушка – «бабочка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Устинья – «кузнечик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Остальные детки – пче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ТВ16.jpg"/>
          <p:cNvPicPr/>
          <p:nvPr/>
        </p:nvPicPr>
        <p:blipFill>
          <a:blip r:embed="rId1"/>
          <a:stretch/>
        </p:blipFill>
        <p:spPr>
          <a:xfrm>
            <a:off x="5143680" y="1571760"/>
            <a:ext cx="3286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 гостях у Мухи-Цокотух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ИВ14.jpg"/>
          <p:cNvPicPr/>
          <p:nvPr/>
        </p:nvPicPr>
        <p:blipFill>
          <a:blip r:embed="rId1"/>
          <a:stretch/>
        </p:blipFill>
        <p:spPr>
          <a:xfrm rot="15952200">
            <a:off x="494280" y="1270080"/>
            <a:ext cx="4148280" cy="47404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5" descr="ИВ11.jpg"/>
          <p:cNvPicPr/>
          <p:nvPr/>
        </p:nvPicPr>
        <p:blipFill>
          <a:blip r:embed="rId2"/>
          <a:stretch/>
        </p:blipFill>
        <p:spPr>
          <a:xfrm flipH="1" rot="6304200">
            <a:off x="5426640" y="1940040"/>
            <a:ext cx="311004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Ай, да наши папочк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ТВ5.jpg"/>
          <p:cNvPicPr/>
          <p:nvPr/>
        </p:nvPicPr>
        <p:blipFill>
          <a:blip r:embed="rId1"/>
          <a:stretch/>
        </p:blipFill>
        <p:spPr>
          <a:xfrm rot="21102000">
            <a:off x="714240" y="1599840"/>
            <a:ext cx="303372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5" descr="ТВ10.jpg"/>
          <p:cNvPicPr/>
          <p:nvPr/>
        </p:nvPicPr>
        <p:blipFill>
          <a:blip r:embed="rId2"/>
          <a:stretch/>
        </p:blipFill>
        <p:spPr>
          <a:xfrm rot="438600">
            <a:off x="4881240" y="1566360"/>
            <a:ext cx="30607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ыло очень интересно и весел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Все, и взрослые и дети, получили огромное удовольствие от участия в эт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перь мы уверены, что организация проектной деятельности в группе раннего возраста – это интересно и доступн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вное – чтобы наши дети росли свободными и творческими личностям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4" descr="Диплом 1 место проект Насек и ПИВ.jpg"/>
          <p:cNvPicPr/>
          <p:nvPr/>
        </p:nvPicPr>
        <p:blipFill>
          <a:blip r:embed="rId1"/>
          <a:stretch/>
        </p:blipFill>
        <p:spPr>
          <a:xfrm>
            <a:off x="285840" y="285840"/>
            <a:ext cx="4071960" cy="62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1.05.19   участвовали в конкурсе «Лучший проект воспитателя ДОУ» на Международном педагогическом портале «Солнечный све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ли 1 мест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200" y="1285920"/>
            <a:ext cx="8786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РФ от 10.07.1992 №3266-1 «Об образовании» (ред. от 28.02.2012) // Собрание законодательства РФ от 15.01.1996. - № 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 дошкольного образования (01.01.20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акса Н.Е. Проектная деятельность дошкольников. Пособие для педагогов дошкольных учреждений / Н.Е.Веракса, А.Н.Веракса. - М.: Мозаика-Синтез, 2008. - 112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ноградова Н.А.Образовательные проекты в детском саду. Пособие для воспитателей и родителей / Н.А.Виноградова, Е.П.Панкова. - М.: Айрис-Пресс, 2008. - 208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атохина О.В. Элементы проектной деятельности в работе с детьми раннего возраста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drazvitie.ru/raboty_doshkoln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злова Н. Проектная деятельность в условиях ДОУ как инструмент практической реализации ФГОС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s://www.maam.ru/detskijsad/-proektnaj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Cпасибо-за-внимание-картинки-для-презентации-подборка-36-штук-18.jpg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28760"/>
            <a:ext cx="4757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ГОС ДО ставит задачи развития детской инициативы, активности, умения сотрудничать и делать выбор на основе индивидуальных возможностей каждого ребенка.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Это возможно только при реализации деятельностного подхо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ый определяется конкретными педагогическими технологиями. Одной из таких технологий является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«Метод проек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осуществления проектной деятельности ребёнок получ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змож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иментирова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ь активным и самостоятельны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рать содержание своей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овать с взрослыми и сверст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11.jpg"/>
          <p:cNvPicPr/>
          <p:nvPr/>
        </p:nvPicPr>
        <p:blipFill>
          <a:blip r:embed="rId1"/>
          <a:stretch/>
        </p:blipFill>
        <p:spPr>
          <a:xfrm rot="436200">
            <a:off x="5425920" y="1918800"/>
            <a:ext cx="3657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Мы решили  апробировать метод проектов в группе детей раннего возраста, адаптировав его в соответствии с возрастными особенностя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ервый этап работы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нашим проектом -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выбор те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Как мы выбирали тему? Однажды с детьми рассматривали иллюстрации к сказке К.Чуковского  «Муха Цокотуха» и  увидели кузнечика. Дема  спросил: почему кузнечик зеленый, Алене стало интересно: где он живет, что кушает. Интерес к насекомым возрастал с каждой минутой - тема была определе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ТВ21.jpg"/>
          <p:cNvPicPr/>
          <p:nvPr/>
        </p:nvPicPr>
        <p:blipFill>
          <a:blip r:embed="rId1"/>
          <a:stretch/>
        </p:blipFill>
        <p:spPr>
          <a:xfrm>
            <a:off x="1204920" y="2643120"/>
            <a:ext cx="2938320" cy="40006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ТВ22.jpg"/>
          <p:cNvPicPr/>
          <p:nvPr/>
        </p:nvPicPr>
        <p:blipFill>
          <a:blip r:embed="rId2"/>
          <a:stretch/>
        </p:blipFill>
        <p:spPr>
          <a:xfrm rot="790800">
            <a:off x="5437080" y="2573280"/>
            <a:ext cx="2543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ледующий этап - метод трех вопросов.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ребует речевой активности детей. У наших малышей словарный запас еще не бога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познакомившись с игрушкой - бабочкой, дети активно вступили в диалог. Вместе с детьми мы ответили на все вопросы. А ответы были зафиксированы рисунками, знакомыми детям. </a:t>
            </a:r>
            <a:br>
              <a:rPr sz="1800"/>
            </a:b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инья и Василиса показывают, что у них получилось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3.jpg"/>
          <p:cNvPicPr/>
          <p:nvPr/>
        </p:nvPicPr>
        <p:blipFill>
          <a:blip r:embed="rId1"/>
          <a:stretch/>
        </p:blipFill>
        <p:spPr>
          <a:xfrm>
            <a:off x="857160" y="2214720"/>
            <a:ext cx="342900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4" descr="2.jpg"/>
          <p:cNvPicPr/>
          <p:nvPr/>
        </p:nvPicPr>
        <p:blipFill>
          <a:blip r:embed="rId2"/>
          <a:stretch/>
        </p:blipFill>
        <p:spPr>
          <a:xfrm>
            <a:off x="5396040" y="2143080"/>
            <a:ext cx="31766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етий этап - это тематическое план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ранной проблеме на две недели (с 19.04-26.04.19), так называемая «паутинка». В ясельной группе это, конечно, работа воспитателя. Мы, учитывая интересы детей своей группы, запланировала деятельность по всем образовательным областям. Что-то нам подсказали родите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12.jpg"/>
          <p:cNvPicPr/>
          <p:nvPr/>
        </p:nvPicPr>
        <p:blipFill>
          <a:blip r:embed="rId1"/>
          <a:stretch/>
        </p:blipFill>
        <p:spPr>
          <a:xfrm>
            <a:off x="500040" y="200016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5" descr="1.jpg"/>
          <p:cNvPicPr/>
          <p:nvPr/>
        </p:nvPicPr>
        <p:blipFill>
          <a:blip r:embed="rId2"/>
          <a:stretch/>
        </p:blipFill>
        <p:spPr>
          <a:xfrm rot="651000">
            <a:off x="5241600" y="1995480"/>
            <a:ext cx="34290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мы уделили созданию тематической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метной развивающей среды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развивающих центрах группы присутствовали материалы, связанные с темой «Насекомые». </a:t>
            </a:r>
            <a:br>
              <a:rPr sz="1800"/>
            </a:br>
            <a:r>
              <a:rPr b="1" lang="ru-RU" sz="20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Разучивали стихотворения «Бабочка», «Кузнечик», «Божья коровка». А Гисматик с удовольствием играл в дидактическую игру «Кто где жив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9.jpg"/>
          <p:cNvPicPr/>
          <p:nvPr/>
        </p:nvPicPr>
        <p:blipFill>
          <a:blip r:embed="rId1"/>
          <a:stretch/>
        </p:blipFill>
        <p:spPr>
          <a:xfrm rot="21051600">
            <a:off x="754200" y="2095560"/>
            <a:ext cx="3571560" cy="44020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18.jpg"/>
          <p:cNvPicPr/>
          <p:nvPr/>
        </p:nvPicPr>
        <p:blipFill>
          <a:blip r:embed="rId2"/>
          <a:stretch/>
        </p:blipFill>
        <p:spPr>
          <a:xfrm rot="459000">
            <a:off x="4901760" y="1994040"/>
            <a:ext cx="3643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ждали обед, повторяли строение жучка, кузнечика, гусенички.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у нашего Матвеюшки получалась высокая башня из кубиков с бабочк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8.jpg"/>
          <p:cNvPicPr/>
          <p:nvPr/>
        </p:nvPicPr>
        <p:blipFill>
          <a:blip r:embed="rId1"/>
          <a:stretch/>
        </p:blipFill>
        <p:spPr>
          <a:xfrm>
            <a:off x="571680" y="1600200"/>
            <a:ext cx="3176280" cy="49006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19.jpg"/>
          <p:cNvPicPr/>
          <p:nvPr/>
        </p:nvPicPr>
        <p:blipFill>
          <a:blip r:embed="rId2"/>
          <a:stretch/>
        </p:blipFill>
        <p:spPr>
          <a:xfrm rot="900600">
            <a:off x="4361040" y="1836360"/>
            <a:ext cx="39654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 малыши очень любя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ниматься творчеств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этого был подготовлен разнообразный матери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овместной деятельности у нас появились: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ервячки из пласти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22.jpg"/>
          <p:cNvPicPr/>
          <p:nvPr/>
        </p:nvPicPr>
        <p:blipFill>
          <a:blip r:embed="rId1"/>
          <a:stretch/>
        </p:blipFill>
        <p:spPr>
          <a:xfrm>
            <a:off x="4572000" y="571680"/>
            <a:ext cx="421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очные божьи коровки из бума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14.jpg"/>
          <p:cNvPicPr/>
          <p:nvPr/>
        </p:nvPicPr>
        <p:blipFill>
          <a:blip r:embed="rId1"/>
          <a:stretch/>
        </p:blipFill>
        <p:spPr>
          <a:xfrm>
            <a:off x="428760" y="1600200"/>
            <a:ext cx="385740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5" descr="38.jpg"/>
          <p:cNvPicPr/>
          <p:nvPr/>
        </p:nvPicPr>
        <p:blipFill>
          <a:blip r:embed="rId2"/>
          <a:stretch/>
        </p:blipFill>
        <p:spPr>
          <a:xfrm>
            <a:off x="5072040" y="1600200"/>
            <a:ext cx="33577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5:35:28Z</dcterms:created>
  <dc:creator>Ольга</dc:creator>
  <dc:description/>
  <dc:language>en-US</dc:language>
  <cp:lastModifiedBy>11</cp:lastModifiedBy>
  <dcterms:modified xsi:type="dcterms:W3CDTF">2020-03-29T10:11:36Z</dcterms:modified>
  <cp:revision>124</cp:revision>
  <dc:subject/>
  <dc:title>Однородные  члены предложения</dc:title>
</cp:coreProperties>
</file>