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07A-C5CB-4903-BC1B-5742E39C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DA1-37EB-430E-91D1-A9605332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B56-681D-4597-B4E2-824C684C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526-9E0D-419F-B058-CC238739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50C-9C13-4D01-A03C-53364FBC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E8D6-CA23-462C-B520-783665E1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1860-BD86-49DA-B475-4C458A88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8E5-4D60-4215-8734-119C4CA3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197-8CB4-4711-8893-DA8709DD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DEC7-5757-4783-B551-5851CED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6533-C87E-4EAC-876A-2FB123C3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043-5785-42A0-8525-9E26C71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4A43-4C8E-4506-A7F1-CB4EC317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48C-D104-4727-AAB9-31F9109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022-32E7-410B-81EE-07A034C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B36B-3204-4D7B-9DEC-515D486E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570-89C7-4F83-ACA6-5B4859EF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4C0-96D0-4818-82B6-5B9D6F6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453-5CB3-4435-B37D-A8BBEB36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D40-0D2E-46FC-A55F-111B85EC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C4B-75A7-4A0B-979A-4928FB33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40F-868F-4928-A73F-BCE4E172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8E4-AFEC-49CD-B0C1-FE24B0C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29C-3574-4D46-A457-C1F28F3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52C-74C3-4B1F-A864-E91071B2AE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97E-F3BA-4157-97F0-F041901B16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П.П. Ерш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Д.И. Менделе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Декабристы в Ялуторовс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В.П. Крапи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Ермак Тимофеевич Але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А.А.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Аляб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.Я. Лагу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.Я. Гуля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264360" cy="4292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4362480"/>
            <a:ext cx="1838160" cy="2495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983280" y="4508640"/>
            <a:ext cx="2160720" cy="2349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132000" y="4390920"/>
            <a:ext cx="27352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Форум Амур.инфо: форум Благовещенска и Амурской области: Чтобы помнили."/>
          <p:cNvPicPr/>
          <p:nvPr/>
        </p:nvPicPr>
        <p:blipFill>
          <a:blip r:embed="rId1"/>
          <a:stretch/>
        </p:blipFill>
        <p:spPr>
          <a:xfrm>
            <a:off x="0" y="46080"/>
            <a:ext cx="4500720" cy="6811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Концерт фортепианной музыки. Тюмень. 29 апреля 201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&quot;Конек-Горбунок&quot;, Ершов Петр Павлович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шимский государственный пединститут им. П.П. Ерш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5520" y="1125360"/>
            <a:ext cx="89884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СКАЗКА О ВОДКЕ. Обсуждение на LiveInternet - Российский Сервис Онлайн-Дневников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Новости / Сибирская Геральдическая Коллег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А. П. Гайдара Информационно-библиографический отдел Севастополь в творчестве Владислава Крапивина (к 70-летию писателя) Памят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5724360" cy="6811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Дети синего фламинго: Повесть-сказка, Крапивин Владислав Петрович"/>
          <p:cNvPicPr/>
          <p:nvPr/>
        </p:nvPicPr>
        <p:blipFill>
          <a:blip r:embed="rId3"/>
          <a:stretch/>
        </p:blipFill>
        <p:spPr>
          <a:xfrm>
            <a:off x="5867280" y="0"/>
            <a:ext cx="3097440" cy="3141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амулет викингов &quot; Скачать бесплатно. Читать онлайн. &quot; text.tr200.biz"/>
          <p:cNvPicPr/>
          <p:nvPr/>
        </p:nvPicPr>
        <p:blipFill>
          <a:blip r:embed="rId4"/>
          <a:stretch/>
        </p:blipFill>
        <p:spPr>
          <a:xfrm>
            <a:off x="5867280" y="3284640"/>
            <a:ext cx="3097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Изобразить на картинке фигуру тор - Всё о фигуре здес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Фотография Александр Алябьев (Photo of Alexandr Alyabiev)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8:17:51Z</dcterms:created>
  <dc:creator>Ирина</dc:creator>
  <dc:description/>
  <dc:language>en-US</dc:language>
  <cp:lastModifiedBy>Ирина</cp:lastModifiedBy>
  <dcterms:modified xsi:type="dcterms:W3CDTF">2014-11-29T18:26:26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