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24.png" ContentType="image/png"/>
  <Override PartName="/ppt/media/image21.png" ContentType="image/png"/>
  <Override PartName="/ppt/media/image19.jpeg" ContentType="image/jpeg"/>
  <Override PartName="/ppt/media/image18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5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903-B672-4BC3-BF4A-699391A0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F27-946B-4479-9D04-30F1C1D5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A695-FE9F-4095-84CA-119AAD0D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4D9-FE1E-419D-B1B6-19E228D4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A2AA0-FA12-4566-BBF0-EA4EE514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FD49F-33AE-44C3-A1C8-C2285B2A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0F6AC-9F46-4463-9505-E79154FB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220F6-FE0B-401C-9E0A-ECAE1153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A1B7A-B62A-4680-8833-DEF4FBB6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171CF-D8AC-4D82-B0C7-B87B5743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E80D3-4184-4AA9-BE07-25E1025B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BEA-2193-4C95-B72C-66D276FB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D58DE-4AD6-4017-9B47-7DAA343A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C4503-229E-44F6-B8E1-4A03C6C1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6EFF4-CD52-4B73-89C1-7EDC145B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AC51F-CA5D-48B5-B322-DE2324D9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205B6-8C9A-4CB8-92BB-EC496A12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D7DD-8693-4F15-9AB9-ACDFC5F6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EC2-0F48-43A5-A1A3-5E2E3541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B44-7738-4CE9-9C26-47E787CA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B4A-9F3D-49D5-9A48-90058F74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0D48-8551-42CF-8640-F39D88F1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655-9ABF-476A-A97F-226552AE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E73-521F-4D6C-844C-18C7CF88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3E61-F225-42C6-B9F5-7B1175CCCD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31F4-1472-4FA2-BCEA-05067241D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Гигиена в Древней Гре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ы: Якимова Ю., Тюделекова 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уководитель: Тибейкина Н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гочино 20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ыльнянка лекарственн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90920" y="1295280"/>
            <a:ext cx="392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Купание в природном источни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38080" y="1450800"/>
            <a:ext cx="73152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ытьё у та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189320" cy="5257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334120" y="1447920"/>
            <a:ext cx="3352680" cy="2279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562720" y="3962520"/>
            <a:ext cx="2700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ан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505320" cy="2381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80880" y="4419720"/>
            <a:ext cx="3505320" cy="2133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029200" y="1600200"/>
            <a:ext cx="3657600" cy="2282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334120" y="4419720"/>
            <a:ext cx="2819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уш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41626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Керамическая труб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800100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Подземные канализационные каналы в Афин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68580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Общественные ба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Не разрушайте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    что Природой вам дано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                   Пифаго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45720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Элл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43000" y="1447920"/>
            <a:ext cx="678168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861048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Улочки Гре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2768400" cy="556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Устройство жилищ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19320" y="1460520"/>
            <a:ext cx="66294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ужчина на Симпосии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раздничный уж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7696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Виды сосудов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7162920" cy="2676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411480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 – амфора;        2 – гидрия;             3 – ойнохоя;              4 – пелика;          5 – арибал;            6 – киаф;                  7 – кратер;          8 – лекиф;              9 – кил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Богиня чистоты Гигея (Гигия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3633840" cy="5410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257800" y="1447920"/>
            <a:ext cx="3138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43400" cy="3475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00600" y="2585880"/>
            <a:ext cx="4343400" cy="4272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920" y="3672000"/>
            <a:ext cx="3581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тлет льет на руку масло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07080" y="1599120"/>
            <a:ext cx="421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нение скреб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лодые люди со стленгиса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2:05:11Z</dcterms:created>
  <dc:creator>Наталья</dc:creator>
  <dc:description/>
  <dc:language>en-US</dc:language>
  <cp:lastModifiedBy>User</cp:lastModifiedBy>
  <dcterms:modified xsi:type="dcterms:W3CDTF">2020-03-29T21:37:05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