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191-A263-46DD-B32B-2AE71F9D4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E85-4A3A-4AC8-80A3-FCFCA8E55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C93-3F25-424D-8020-B2F827EA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C2A-B358-4371-90E6-4AE8AD9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4BB-90BD-4168-ACA2-18ADB703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0EF-4D1A-4A97-B85B-1D26C1C0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4BB-408C-4E6F-8F19-A562310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EE3-4129-4D72-BA00-62779B30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57C-7295-4DB6-A046-D2289FB1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BFA-3ACE-4C72-88E4-9201078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742-A3E0-48EE-9DA0-4B25500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8CD-17AC-4360-BCC3-B3F7D46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B98-D6B2-4A3F-A6B6-87A9AD3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FA7-3365-4255-8FE2-E8F5FA4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7EB8-7555-4D32-9317-1CA9F40B13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7487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ема: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зучение коррозии железа в разных средах. </a:t>
            </a:r>
            <a:br>
              <a:rPr sz="2900"/>
            </a:br>
            <a:br>
              <a:rPr sz="22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Korozyon2.jpg"/>
          <p:cNvPicPr/>
          <p:nvPr/>
        </p:nvPicPr>
        <p:blipFill>
          <a:blip r:embed="rId1"/>
          <a:stretch/>
        </p:blipFill>
        <p:spPr>
          <a:xfrm>
            <a:off x="73080" y="1468440"/>
            <a:ext cx="5003640" cy="383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химическая коррозия- окислительное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становительная реа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40360" y="2133360"/>
            <a:ext cx="417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ктрол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тод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железо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2H+2e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од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цинк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Zn-2e=Z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+2H=Zn+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д: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-2e=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H+2e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+2H=Fe+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4" descr="2.JPG"/>
          <p:cNvPicPr/>
          <p:nvPr/>
        </p:nvPicPr>
        <p:blipFill>
          <a:blip r:embed="rId1"/>
          <a:stretch/>
        </p:blipFill>
        <p:spPr>
          <a:xfrm>
            <a:off x="611280" y="2421000"/>
            <a:ext cx="2500200" cy="3865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755640" y="2924280"/>
            <a:ext cx="863640" cy="43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979640" y="2997360"/>
            <a:ext cx="86364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979640" y="4941720"/>
            <a:ext cx="79200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826920" y="4941720"/>
            <a:ext cx="79236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00360" y="1285920"/>
            <a:ext cx="41576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ингибитор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8" descr="3.JPG"/>
          <p:cNvPicPr/>
          <p:nvPr/>
        </p:nvPicPr>
        <p:blipFill>
          <a:blip r:embed="rId1"/>
          <a:stretch/>
        </p:blipFill>
        <p:spPr>
          <a:xfrm>
            <a:off x="1428840" y="1571760"/>
            <a:ext cx="2571840" cy="4214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2050920" y="2924280"/>
            <a:ext cx="865440" cy="358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854080" y="54936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елочная ср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е определени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 приближенной количественной оцен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4" descr="4.JPG"/>
          <p:cNvPicPr/>
          <p:nvPr/>
        </p:nvPicPr>
        <p:blipFill>
          <a:blip r:embed="rId1"/>
          <a:stretch/>
        </p:blipFill>
        <p:spPr>
          <a:xfrm>
            <a:off x="285840" y="1773360"/>
            <a:ext cx="4352760" cy="27003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5" descr="5.JPG"/>
          <p:cNvPicPr/>
          <p:nvPr/>
        </p:nvPicPr>
        <p:blipFill>
          <a:blip r:embed="rId2"/>
          <a:stretch/>
        </p:blipFill>
        <p:spPr>
          <a:xfrm>
            <a:off x="4786200" y="1773360"/>
            <a:ext cx="4038840" cy="2643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C:\Documents and Settings\Администратор\Мои документы\Мои рисунки\Копия (4) Безымянный.bmp"/>
          <p:cNvPicPr/>
          <p:nvPr/>
        </p:nvPicPr>
        <p:blipFill>
          <a:blip r:embed="rId3"/>
          <a:stretch/>
        </p:blipFill>
        <p:spPr>
          <a:xfrm>
            <a:off x="285840" y="3929040"/>
            <a:ext cx="714240" cy="32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Documents and Settings\Администратор\Мои документы\Мои рисунки\Копия (3) Безымянный.bmp"/>
          <p:cNvPicPr/>
          <p:nvPr/>
        </p:nvPicPr>
        <p:blipFill>
          <a:blip r:embed="rId4"/>
          <a:stretch/>
        </p:blipFill>
        <p:spPr>
          <a:xfrm>
            <a:off x="1143000" y="3929040"/>
            <a:ext cx="785880" cy="33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Администратор\Мои документы\Мои рисунки\Копия Безымянный.bmp"/>
          <p:cNvPicPr/>
          <p:nvPr/>
        </p:nvPicPr>
        <p:blipFill>
          <a:blip r:embed="rId5"/>
          <a:stretch/>
        </p:blipFill>
        <p:spPr>
          <a:xfrm>
            <a:off x="2143080" y="3857760"/>
            <a:ext cx="785880" cy="37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Documents and Settings\Администратор\Мои документы\Мои рисунки\Безымянный.bmp"/>
          <p:cNvPicPr/>
          <p:nvPr/>
        </p:nvPicPr>
        <p:blipFill>
          <a:blip r:embed="rId6"/>
          <a:stretch/>
        </p:blipFill>
        <p:spPr>
          <a:xfrm>
            <a:off x="3286080" y="3857760"/>
            <a:ext cx="57780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Администратор\Мои документы\Мои рисунки\Безымянный.bmp"/>
          <p:cNvPicPr/>
          <p:nvPr/>
        </p:nvPicPr>
        <p:blipFill>
          <a:blip r:embed="rId7"/>
          <a:stretch/>
        </p:blipFill>
        <p:spPr>
          <a:xfrm>
            <a:off x="7429680" y="4000680"/>
            <a:ext cx="577800" cy="357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Documents and Settings\Администратор\Мои документы\Мои рисунки\Копия Безымянный.bmp"/>
          <p:cNvPicPr/>
          <p:nvPr/>
        </p:nvPicPr>
        <p:blipFill>
          <a:blip r:embed="rId8"/>
          <a:stretch/>
        </p:blipFill>
        <p:spPr>
          <a:xfrm>
            <a:off x="6500880" y="3857760"/>
            <a:ext cx="785880" cy="37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Администратор\Мои документы\Мои рисунки\Копия (3) Безымянный.bmp"/>
          <p:cNvPicPr/>
          <p:nvPr/>
        </p:nvPicPr>
        <p:blipFill>
          <a:blip r:embed="rId9"/>
          <a:stretch/>
        </p:blipFill>
        <p:spPr>
          <a:xfrm>
            <a:off x="5643720" y="3643200"/>
            <a:ext cx="785520" cy="335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C:\Documents and Settings\Администратор\Мои документы\Мои рисунки\Копия (4) Безымянный.bmp"/>
          <p:cNvPicPr/>
          <p:nvPr/>
        </p:nvPicPr>
        <p:blipFill>
          <a:blip r:embed="rId10"/>
          <a:stretch/>
        </p:blipFill>
        <p:spPr>
          <a:xfrm>
            <a:off x="4786200" y="3571920"/>
            <a:ext cx="714600" cy="320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4"/>
          <p:cNvSpPr/>
          <p:nvPr/>
        </p:nvSpPr>
        <p:spPr>
          <a:xfrm>
            <a:off x="285840" y="5214960"/>
            <a:ext cx="828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снован на реакции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Ион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eSC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ярко-крас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5920"/>
            <a:ext cx="87487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е определени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 воде  с приближенной количественной оценкой.</a:t>
            </a: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4200" y="1773360"/>
          <a:ext cx="8643960" cy="4760640"/>
        </p:xfrm>
        <a:graphic>
          <a:graphicData uri="http://schemas.openxmlformats.org/drawingml/2006/table">
            <a:tbl>
              <a:tblPr/>
              <a:tblGrid>
                <a:gridCol w="1478160"/>
                <a:gridCol w="1403280"/>
                <a:gridCol w="1440000"/>
                <a:gridCol w="1441440"/>
                <a:gridCol w="1439640"/>
                <a:gridCol w="1441440"/>
              </a:tblGrid>
              <a:tr h="20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агент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+H2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Na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3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K(CNS)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кра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Ярко крас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Светло желтовато розов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слабый желтовато-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3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Содержание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мг/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Боле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розия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амопроизвольное разрушение металлов вследствие их физико-химического взаимодействия с окружающей ср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rustycar.slideshow_main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9680" y="1844280"/>
            <a:ext cx="8319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уальность проблем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большое кол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в коррозирует. Разрушаются конструкции, ржаве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обили, аппаратура, корабли. Так что ускоряет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ози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692280"/>
            <a:ext cx="8640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езные гвозди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ых  сре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 корро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ожим, что скорость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озии зависит от агрессивных сре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18352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-визуальное определение процессов коррозии в разных сре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Новое изображение.JPG"/>
          <p:cNvPicPr/>
          <p:nvPr/>
        </p:nvPicPr>
        <p:blipFill>
          <a:blip r:embed="rId1"/>
          <a:srcRect l="4456" t="3173" r="8020" b="34898"/>
          <a:stretch/>
        </p:blipFill>
        <p:spPr>
          <a:xfrm>
            <a:off x="250920" y="2924280"/>
            <a:ext cx="4248000" cy="34574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1" descr="1.JPG"/>
          <p:cNvPicPr/>
          <p:nvPr/>
        </p:nvPicPr>
        <p:blipFill>
          <a:blip r:embed="rId2"/>
          <a:stretch/>
        </p:blipFill>
        <p:spPr>
          <a:xfrm>
            <a:off x="4646520" y="2924280"/>
            <a:ext cx="4173480" cy="345744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3" descr=""/>
          <p:cNvPicPr/>
          <p:nvPr/>
        </p:nvPicPr>
        <p:blipFill>
          <a:blip r:embed="rId3"/>
          <a:stretch/>
        </p:blipFill>
        <p:spPr>
          <a:xfrm>
            <a:off x="480960" y="1968480"/>
            <a:ext cx="3262320" cy="824040"/>
          </a:xfrm>
          <a:prstGeom prst="rect">
            <a:avLst/>
          </a:prstGeom>
          <a:ln w="0">
            <a:noFill/>
          </a:ln>
        </p:spPr>
      </p:pic>
      <p:pic>
        <p:nvPicPr>
          <p:cNvPr id="59" name="Схема 5" descr=""/>
          <p:cNvPicPr/>
          <p:nvPr/>
        </p:nvPicPr>
        <p:blipFill>
          <a:blip r:embed="rId4"/>
          <a:stretch/>
        </p:blipFill>
        <p:spPr>
          <a:xfrm>
            <a:off x="5273640" y="1968480"/>
            <a:ext cx="29196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468360" y="3573360"/>
            <a:ext cx="718920" cy="289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476360" y="3500280"/>
            <a:ext cx="647640" cy="289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2195640" y="3357720"/>
            <a:ext cx="64764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2987640" y="3357720"/>
            <a:ext cx="64944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3851280" y="3213000"/>
            <a:ext cx="577800" cy="289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4788000" y="3500280"/>
            <a:ext cx="50472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5508720" y="3500280"/>
            <a:ext cx="50472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3"/>
          <p:cNvSpPr/>
          <p:nvPr/>
        </p:nvSpPr>
        <p:spPr>
          <a:xfrm>
            <a:off x="6300720" y="3500280"/>
            <a:ext cx="50328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4"/>
          <p:cNvSpPr/>
          <p:nvPr/>
        </p:nvSpPr>
        <p:spPr>
          <a:xfrm>
            <a:off x="7164360" y="3500280"/>
            <a:ext cx="50472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7956720" y="3500280"/>
            <a:ext cx="57600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O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1547640" y="5877000"/>
            <a:ext cx="50328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2411280" y="5877000"/>
            <a:ext cx="50508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5508720" y="4869000"/>
            <a:ext cx="50328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9"/>
          <p:cNvSpPr/>
          <p:nvPr/>
        </p:nvSpPr>
        <p:spPr>
          <a:xfrm>
            <a:off x="7164360" y="4941720"/>
            <a:ext cx="503280" cy="2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-визуальное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цессов коррозии в разных сре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714680"/>
          <a:ext cx="8358120" cy="4827240"/>
        </p:xfrm>
        <a:graphic>
          <a:graphicData uri="http://schemas.openxmlformats.org/drawingml/2006/table">
            <a:tbl>
              <a:tblPr/>
              <a:tblGrid>
                <a:gridCol w="1478160"/>
                <a:gridCol w="1261800"/>
                <a:gridCol w="1474920"/>
                <a:gridCol w="1403280"/>
                <a:gridCol w="1301760"/>
                <a:gridCol w="1438200"/>
              </a:tblGrid>
              <a:tr h="102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 +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 +NaCl  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(р-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+Cu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aCl (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р-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 + Zn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aCl(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р-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aOH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р-р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23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крашивание при рассмотрении с б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ветл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ильн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чень 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крашивание при рассмотрении сверху вни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ветл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ильн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чень 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одержание железа мг/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розия в разных средах в присутствии гальваническ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5" descr="б.PNG"/>
          <p:cNvPicPr/>
          <p:nvPr/>
        </p:nvPicPr>
        <p:blipFill>
          <a:blip r:embed="rId1"/>
          <a:stretch/>
        </p:blipFill>
        <p:spPr>
          <a:xfrm>
            <a:off x="5364000" y="2349360"/>
            <a:ext cx="2016360" cy="3024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п.PNG"/>
          <p:cNvPicPr/>
          <p:nvPr/>
        </p:nvPicPr>
        <p:blipFill>
          <a:blip r:embed="rId2"/>
          <a:stretch/>
        </p:blipFill>
        <p:spPr>
          <a:xfrm>
            <a:off x="1547640" y="2349360"/>
            <a:ext cx="2160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835280" y="2637000"/>
            <a:ext cx="1368360" cy="64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5724360" y="2852640"/>
            <a:ext cx="1224000" cy="57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2050920" y="5445000"/>
            <a:ext cx="1008360" cy="505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796000" y="5445000"/>
            <a:ext cx="9367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слородная коррозия в нейтральной сре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35280" y="2781360"/>
            <a:ext cx="532944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2e=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од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e=2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Fe+3O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4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+2n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=2F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n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+8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11" descr="1.JPG"/>
          <p:cNvPicPr/>
          <p:nvPr/>
        </p:nvPicPr>
        <p:blipFill>
          <a:blip r:embed="rId1"/>
          <a:srcRect l="38318" t="9518" r="45446" b="39673"/>
          <a:stretch/>
        </p:blipFill>
        <p:spPr>
          <a:xfrm>
            <a:off x="1357200" y="2286000"/>
            <a:ext cx="2181240" cy="38750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1979640" y="3500280"/>
            <a:ext cx="936720" cy="505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ическая корроз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8920" y="2923920"/>
            <a:ext cx="30862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тод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H+2e=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од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Fe-2e=F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11" descr="1.JPG"/>
          <p:cNvPicPr/>
          <p:nvPr/>
        </p:nvPicPr>
        <p:blipFill>
          <a:blip r:embed="rId1"/>
          <a:srcRect l="3564" t="11104" r="81100" b="39673"/>
          <a:stretch/>
        </p:blipFill>
        <p:spPr>
          <a:xfrm>
            <a:off x="714240" y="2357280"/>
            <a:ext cx="2714760" cy="39276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1042920" y="2924280"/>
            <a:ext cx="1728720" cy="720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2:37:57Z</dcterms:created>
  <dc:creator>Admin</dc:creator>
  <dc:description/>
  <dc:language>en-US</dc:language>
  <cp:lastModifiedBy>Юлия</cp:lastModifiedBy>
  <dcterms:modified xsi:type="dcterms:W3CDTF">2020-03-30T15:47:18Z</dcterms:modified>
  <cp:revision>122</cp:revision>
  <dc:subject/>
  <dc:title>Слайд 1</dc:title>
</cp:coreProperties>
</file>