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DB6A-4839-479D-B600-D4AF254231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5306-834A-4647-80A0-BC5D22AE83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C964-DA1D-4F40-A47B-85B85DCA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BCF2-E390-4902-8B8E-5810E871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0B7-1619-40A8-B090-CDB57B65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7BA-624B-465D-BE7B-9872E1C3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A53-DE47-48C2-999C-3BC11245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7F4-3AF0-4E62-9A1A-2B49752F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9DA-EAFE-4B29-98D3-F248F38B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4EF8-A6C8-4DF5-ABD8-70ECE205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A1B-2420-4071-AEA8-74C21656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8F38-E17C-4C1A-B08A-BCEF9CF9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BB8-4358-494E-AD60-C9A5DC2A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BDC-33C9-40BA-8A3B-244B0724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8AAE-6F84-4128-AE38-D5485761E5F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874872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Тема: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зучение коррозии железа в разных средах. </a:t>
            </a:r>
            <a:br>
              <a:rPr sz="2900"/>
            </a:br>
            <a:br>
              <a:rPr sz="22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8858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Korozyon2.jpg"/>
          <p:cNvPicPr/>
          <p:nvPr/>
        </p:nvPicPr>
        <p:blipFill>
          <a:blip r:embed="rId1"/>
          <a:stretch/>
        </p:blipFill>
        <p:spPr>
          <a:xfrm>
            <a:off x="73080" y="1468440"/>
            <a:ext cx="5003640" cy="383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лектрохимическая коррозия- окислительное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сстановительная реак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140360" y="2133360"/>
            <a:ext cx="4176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электроли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тод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железо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2H+2e=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од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цинк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Zn-2e=Z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n+2H=Zn+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од: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-2e=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од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H+2e=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+2H=Fe+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4" descr="2.JPG"/>
          <p:cNvPicPr/>
          <p:nvPr/>
        </p:nvPicPr>
        <p:blipFill>
          <a:blip r:embed="rId1"/>
          <a:stretch/>
        </p:blipFill>
        <p:spPr>
          <a:xfrm>
            <a:off x="611280" y="2421000"/>
            <a:ext cx="2500200" cy="38656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755640" y="2924280"/>
            <a:ext cx="863640" cy="4334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1979640" y="2997360"/>
            <a:ext cx="863640" cy="43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6"/>
          <p:cNvSpPr/>
          <p:nvPr/>
        </p:nvSpPr>
        <p:spPr>
          <a:xfrm>
            <a:off x="1979640" y="4941720"/>
            <a:ext cx="792000" cy="432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826920" y="4941720"/>
            <a:ext cx="792360" cy="432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00360" y="1285920"/>
            <a:ext cx="415764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OH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ингибитор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8" descr="3.JPG"/>
          <p:cNvPicPr/>
          <p:nvPr/>
        </p:nvPicPr>
        <p:blipFill>
          <a:blip r:embed="rId1"/>
          <a:stretch/>
        </p:blipFill>
        <p:spPr>
          <a:xfrm>
            <a:off x="1428840" y="1571760"/>
            <a:ext cx="2571840" cy="42145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2050920" y="2924280"/>
            <a:ext cx="865440" cy="3585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2854080" y="549360"/>
            <a:ext cx="37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Щелочная сре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чественное определение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с приближенной количественной оцен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4" descr="4.JPG"/>
          <p:cNvPicPr/>
          <p:nvPr/>
        </p:nvPicPr>
        <p:blipFill>
          <a:blip r:embed="rId1"/>
          <a:stretch/>
        </p:blipFill>
        <p:spPr>
          <a:xfrm>
            <a:off x="285840" y="1773360"/>
            <a:ext cx="4352760" cy="270036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5" descr="5.JPG"/>
          <p:cNvPicPr/>
          <p:nvPr/>
        </p:nvPicPr>
        <p:blipFill>
          <a:blip r:embed="rId2"/>
          <a:stretch/>
        </p:blipFill>
        <p:spPr>
          <a:xfrm>
            <a:off x="4786200" y="1773360"/>
            <a:ext cx="4038840" cy="2643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C:\Documents and Settings\Администратор\Мои документы\Мои рисунки\Копия (4) Безымянный.bmp"/>
          <p:cNvPicPr/>
          <p:nvPr/>
        </p:nvPicPr>
        <p:blipFill>
          <a:blip r:embed="rId3"/>
          <a:stretch/>
        </p:blipFill>
        <p:spPr>
          <a:xfrm>
            <a:off x="285840" y="3929040"/>
            <a:ext cx="714240" cy="320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C:\Documents and Settings\Администратор\Мои документы\Мои рисунки\Копия (3) Безымянный.bmp"/>
          <p:cNvPicPr/>
          <p:nvPr/>
        </p:nvPicPr>
        <p:blipFill>
          <a:blip r:embed="rId4"/>
          <a:stretch/>
        </p:blipFill>
        <p:spPr>
          <a:xfrm>
            <a:off x="1143000" y="3929040"/>
            <a:ext cx="785880" cy="335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C:\Documents and Settings\Администратор\Мои документы\Мои рисунки\Копия Безымянный.bmp"/>
          <p:cNvPicPr/>
          <p:nvPr/>
        </p:nvPicPr>
        <p:blipFill>
          <a:blip r:embed="rId5"/>
          <a:stretch/>
        </p:blipFill>
        <p:spPr>
          <a:xfrm>
            <a:off x="2143080" y="3857760"/>
            <a:ext cx="785880" cy="374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C:\Documents and Settings\Администратор\Мои документы\Мои рисунки\Безымянный.bmp"/>
          <p:cNvPicPr/>
          <p:nvPr/>
        </p:nvPicPr>
        <p:blipFill>
          <a:blip r:embed="rId6"/>
          <a:stretch/>
        </p:blipFill>
        <p:spPr>
          <a:xfrm>
            <a:off x="3286080" y="3857760"/>
            <a:ext cx="577800" cy="357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:\Documents and Settings\Администратор\Мои документы\Мои рисунки\Безымянный.bmp"/>
          <p:cNvPicPr/>
          <p:nvPr/>
        </p:nvPicPr>
        <p:blipFill>
          <a:blip r:embed="rId7"/>
          <a:stretch/>
        </p:blipFill>
        <p:spPr>
          <a:xfrm>
            <a:off x="7429680" y="4000680"/>
            <a:ext cx="577800" cy="357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C:\Documents and Settings\Администратор\Мои документы\Мои рисунки\Копия Безымянный.bmp"/>
          <p:cNvPicPr/>
          <p:nvPr/>
        </p:nvPicPr>
        <p:blipFill>
          <a:blip r:embed="rId8"/>
          <a:stretch/>
        </p:blipFill>
        <p:spPr>
          <a:xfrm>
            <a:off x="6500880" y="3857760"/>
            <a:ext cx="785880" cy="374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C:\Documents and Settings\Администратор\Мои документы\Мои рисунки\Копия (3) Безымянный.bmp"/>
          <p:cNvPicPr/>
          <p:nvPr/>
        </p:nvPicPr>
        <p:blipFill>
          <a:blip r:embed="rId9"/>
          <a:stretch/>
        </p:blipFill>
        <p:spPr>
          <a:xfrm>
            <a:off x="5643720" y="3643200"/>
            <a:ext cx="785520" cy="335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C:\Documents and Settings\Администратор\Мои документы\Мои рисунки\Копия (4) Безымянный.bmp"/>
          <p:cNvPicPr/>
          <p:nvPr/>
        </p:nvPicPr>
        <p:blipFill>
          <a:blip r:embed="rId10"/>
          <a:stretch/>
        </p:blipFill>
        <p:spPr>
          <a:xfrm>
            <a:off x="4786200" y="3571920"/>
            <a:ext cx="714600" cy="3207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4"/>
          <p:cNvSpPr/>
          <p:nvPr/>
        </p:nvSpPr>
        <p:spPr>
          <a:xfrm>
            <a:off x="285840" y="5214960"/>
            <a:ext cx="8286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 основан на реакции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Ион 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eSC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 ярко-крас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5920"/>
            <a:ext cx="874872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чественное определение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в воде  с приближенной количественной оценкой.</a:t>
            </a: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4200" y="1773360"/>
          <a:ext cx="8643960" cy="4760640"/>
        </p:xfrm>
        <a:graphic>
          <a:graphicData uri="http://schemas.openxmlformats.org/drawingml/2006/table">
            <a:tbl>
              <a:tblPr/>
              <a:tblGrid>
                <a:gridCol w="1478160"/>
                <a:gridCol w="1403280"/>
                <a:gridCol w="1440000"/>
                <a:gridCol w="1441440"/>
                <a:gridCol w="1439640"/>
                <a:gridCol w="1441440"/>
              </a:tblGrid>
              <a:tr h="20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о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агент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e+H2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e + Na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e + 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e + Z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e + Na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3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K(CNS)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крас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Ярко красно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Светло желтовато розов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слабый желтовато-роз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33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Содержание жел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мг/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Более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f2f2f2"/>
                          </a:solidFill>
                          <a:latin typeface="Constantia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одержимое 3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991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ррозия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самопроизвольное разрушение металлов вследствие их физико-химического взаимодействия с окружающей сред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rustycar.slideshow_main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99680" y="1844280"/>
            <a:ext cx="83199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уальность проблемы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чень большое коли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аллов коррозирует. Разрушаются конструкции, ржавею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мобили, аппаратура, корабли. Так что ускоряет процес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ози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24000" y="692280"/>
            <a:ext cx="86407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ект  исследования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лезные гвозди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ных  сред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 исследования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ы корроз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ипотеза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положим, что скорость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ррозии зависит от агрессивных сре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18352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чественно-визуальное определение процессов коррозии в разных сред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10" descr="Новое изображение.JPG"/>
          <p:cNvPicPr/>
          <p:nvPr/>
        </p:nvPicPr>
        <p:blipFill>
          <a:blip r:embed="rId1"/>
          <a:srcRect l="4456" t="3173" r="8020" b="34898"/>
          <a:stretch/>
        </p:blipFill>
        <p:spPr>
          <a:xfrm>
            <a:off x="250920" y="2924280"/>
            <a:ext cx="4248000" cy="345744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11" descr="1.JPG"/>
          <p:cNvPicPr/>
          <p:nvPr/>
        </p:nvPicPr>
        <p:blipFill>
          <a:blip r:embed="rId2"/>
          <a:stretch/>
        </p:blipFill>
        <p:spPr>
          <a:xfrm>
            <a:off x="4646520" y="2924280"/>
            <a:ext cx="4173480" cy="3457440"/>
          </a:xfrm>
          <a:prstGeom prst="rect">
            <a:avLst/>
          </a:prstGeom>
          <a:ln w="0">
            <a:noFill/>
          </a:ln>
        </p:spPr>
      </p:pic>
      <p:pic>
        <p:nvPicPr>
          <p:cNvPr id="58" name="Схема 3" descr=""/>
          <p:cNvPicPr/>
          <p:nvPr/>
        </p:nvPicPr>
        <p:blipFill>
          <a:blip r:embed="rId3"/>
          <a:stretch/>
        </p:blipFill>
        <p:spPr>
          <a:xfrm>
            <a:off x="480960" y="1968480"/>
            <a:ext cx="3262320" cy="824040"/>
          </a:xfrm>
          <a:prstGeom prst="rect">
            <a:avLst/>
          </a:prstGeom>
          <a:ln w="0">
            <a:noFill/>
          </a:ln>
        </p:spPr>
      </p:pic>
      <p:pic>
        <p:nvPicPr>
          <p:cNvPr id="59" name="Схема 5" descr=""/>
          <p:cNvPicPr/>
          <p:nvPr/>
        </p:nvPicPr>
        <p:blipFill>
          <a:blip r:embed="rId4"/>
          <a:stretch/>
        </p:blipFill>
        <p:spPr>
          <a:xfrm>
            <a:off x="5273640" y="1968480"/>
            <a:ext cx="29196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468360" y="3573360"/>
            <a:ext cx="718920" cy="289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NaO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1476360" y="3500280"/>
            <a:ext cx="647640" cy="289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2195640" y="3357720"/>
            <a:ext cx="647640" cy="288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9"/>
          <p:cNvSpPr/>
          <p:nvPr/>
        </p:nvSpPr>
        <p:spPr>
          <a:xfrm>
            <a:off x="2987640" y="3357720"/>
            <a:ext cx="64944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0"/>
          <p:cNvSpPr/>
          <p:nvPr/>
        </p:nvSpPr>
        <p:spPr>
          <a:xfrm>
            <a:off x="3851280" y="3213000"/>
            <a:ext cx="577800" cy="289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1"/>
          <p:cNvSpPr/>
          <p:nvPr/>
        </p:nvSpPr>
        <p:spPr>
          <a:xfrm>
            <a:off x="4788000" y="3500280"/>
            <a:ext cx="504720" cy="216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2"/>
          <p:cNvSpPr/>
          <p:nvPr/>
        </p:nvSpPr>
        <p:spPr>
          <a:xfrm>
            <a:off x="5508720" y="3500280"/>
            <a:ext cx="504720" cy="216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3"/>
          <p:cNvSpPr/>
          <p:nvPr/>
        </p:nvSpPr>
        <p:spPr>
          <a:xfrm>
            <a:off x="6300720" y="3500280"/>
            <a:ext cx="503280" cy="216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4"/>
          <p:cNvSpPr/>
          <p:nvPr/>
        </p:nvSpPr>
        <p:spPr>
          <a:xfrm>
            <a:off x="7164360" y="3500280"/>
            <a:ext cx="504720" cy="216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5"/>
          <p:cNvSpPr/>
          <p:nvPr/>
        </p:nvSpPr>
        <p:spPr>
          <a:xfrm>
            <a:off x="7956720" y="3500280"/>
            <a:ext cx="576000" cy="216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NaO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6"/>
          <p:cNvSpPr/>
          <p:nvPr/>
        </p:nvSpPr>
        <p:spPr>
          <a:xfrm>
            <a:off x="1547640" y="5877000"/>
            <a:ext cx="503280" cy="288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7"/>
          <p:cNvSpPr/>
          <p:nvPr/>
        </p:nvSpPr>
        <p:spPr>
          <a:xfrm>
            <a:off x="2411280" y="5877000"/>
            <a:ext cx="505080" cy="288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8"/>
          <p:cNvSpPr/>
          <p:nvPr/>
        </p:nvSpPr>
        <p:spPr>
          <a:xfrm>
            <a:off x="5508720" y="4869000"/>
            <a:ext cx="503280" cy="288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9"/>
          <p:cNvSpPr/>
          <p:nvPr/>
        </p:nvSpPr>
        <p:spPr>
          <a:xfrm>
            <a:off x="7164360" y="4941720"/>
            <a:ext cx="503280" cy="287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чественно-визуальное опред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цессов коррозии в разных сред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6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57120" y="1714680"/>
          <a:ext cx="8358120" cy="4827240"/>
        </p:xfrm>
        <a:graphic>
          <a:graphicData uri="http://schemas.openxmlformats.org/drawingml/2006/table">
            <a:tbl>
              <a:tblPr/>
              <a:tblGrid>
                <a:gridCol w="1478160"/>
                <a:gridCol w="1261800"/>
                <a:gridCol w="1474920"/>
                <a:gridCol w="1403280"/>
                <a:gridCol w="1301760"/>
                <a:gridCol w="1438200"/>
              </a:tblGrid>
              <a:tr h="102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Fe +</a:t>
                      </a: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H</a:t>
                      </a:r>
                      <a:r>
                        <a:rPr b="1" lang="en-US" sz="10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Fe +NaCl  </a:t>
                      </a: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(р-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Fe+Cu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NaCl (</a:t>
                      </a: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р-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Fe + Zn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NaCl(</a:t>
                      </a: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р-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Fe</a:t>
                      </a: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NaOH</a:t>
                      </a: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(</a:t>
                      </a:r>
                      <a:r>
                        <a:rPr b="1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р-р</a:t>
                      </a:r>
                      <a:r>
                        <a:rPr b="1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23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Окрашивание при рассмотрении с бо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Светло желто-роз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Сильно желто-роз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Слабо желто-роз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Очень слабо желто-роз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Окрашивание при рассмотрении сверху вни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Светло желто-роз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Сильно желто-роз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Слабо желто-роз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Очень слабо желто-роз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Содержание железа мг/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0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f2f2f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ррозия в разных средах в присутствии гальванического элем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5" descr="б.PNG"/>
          <p:cNvPicPr/>
          <p:nvPr/>
        </p:nvPicPr>
        <p:blipFill>
          <a:blip r:embed="rId1"/>
          <a:stretch/>
        </p:blipFill>
        <p:spPr>
          <a:xfrm>
            <a:off x="5364000" y="2349360"/>
            <a:ext cx="2016360" cy="30243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п.PNG"/>
          <p:cNvPicPr/>
          <p:nvPr/>
        </p:nvPicPr>
        <p:blipFill>
          <a:blip r:embed="rId2"/>
          <a:stretch/>
        </p:blipFill>
        <p:spPr>
          <a:xfrm>
            <a:off x="1547640" y="2349360"/>
            <a:ext cx="216072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1835280" y="2637000"/>
            <a:ext cx="1368360" cy="647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5724360" y="2852640"/>
            <a:ext cx="1224000" cy="576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2050920" y="5445000"/>
            <a:ext cx="1008360" cy="505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5796000" y="5445000"/>
            <a:ext cx="936720" cy="432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ислородная коррозия в нейтральной сред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635280" y="2781360"/>
            <a:ext cx="5329440" cy="31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2e=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од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4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4e=2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Fe+3O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4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+2n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=2Fe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n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+8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11" descr="1.JPG"/>
          <p:cNvPicPr/>
          <p:nvPr/>
        </p:nvPicPr>
        <p:blipFill>
          <a:blip r:embed="rId1"/>
          <a:srcRect l="38318" t="9518" r="45446" b="39673"/>
          <a:stretch/>
        </p:blipFill>
        <p:spPr>
          <a:xfrm>
            <a:off x="1357200" y="2286000"/>
            <a:ext cx="2181240" cy="38750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1979640" y="3500280"/>
            <a:ext cx="936720" cy="505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ическая корроз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58920" y="2923920"/>
            <a:ext cx="308628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тод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2H+2e=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од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Fe-2e=Fe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11" descr="1.JPG"/>
          <p:cNvPicPr/>
          <p:nvPr/>
        </p:nvPicPr>
        <p:blipFill>
          <a:blip r:embed="rId1"/>
          <a:srcRect l="3564" t="11104" r="81100" b="39673"/>
          <a:stretch/>
        </p:blipFill>
        <p:spPr>
          <a:xfrm>
            <a:off x="714240" y="2357280"/>
            <a:ext cx="2714760" cy="39276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1042920" y="2924280"/>
            <a:ext cx="1728720" cy="720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2:37:57Z</dcterms:created>
  <dc:creator>Admin</dc:creator>
  <dc:description/>
  <dc:language>en-US</dc:language>
  <cp:lastModifiedBy>Юлия</cp:lastModifiedBy>
  <dcterms:modified xsi:type="dcterms:W3CDTF">2020-03-30T15:47:18Z</dcterms:modified>
  <cp:revision>122</cp:revision>
  <dc:subject/>
  <dc:title>Слайд 1</dc:title>
</cp:coreProperties>
</file>