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ED6-7A9B-4688-AC9A-D5C6369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14D-63DD-48FB-AA5C-B8610F84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A1A-8489-4DE9-97BB-E8A2E153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8E5-F97A-45D5-A6D7-BD759CE3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732-6A36-419B-9047-F12CCB0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78F-E83E-493C-8E73-87F0410A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45F-1FDF-4E1E-AF88-9CDC734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71F-2FB0-4586-BDC8-7E207234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5E6-5DE5-4714-9AD5-42DE5DCE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58E-4526-42C5-BC03-9990097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8A7-D14D-42E5-B10D-9E1214AF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6F8-BDFE-4373-958A-70E8A9E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AA9-F1FB-4A2A-9366-ABCDC99A0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и пушистые друзья – хомя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0080" y="3885840"/>
            <a:ext cx="5657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Климко Ю.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Б 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ководитель: Н.А.Тибей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чаново 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" y="244440"/>
            <a:ext cx="866628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136440"/>
            <a:ext cx="874548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т какие детён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03720" y="2386080"/>
            <a:ext cx="378612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040" y="1628640"/>
            <a:ext cx="3233520" cy="278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3:49:34Z</dcterms:created>
  <dc:creator>Sergey</dc:creator>
  <dc:description/>
  <dc:language>en-US</dc:language>
  <cp:lastModifiedBy>User</cp:lastModifiedBy>
  <dcterms:modified xsi:type="dcterms:W3CDTF">2020-03-29T22:26:08Z</dcterms:modified>
  <cp:revision>137</cp:revision>
  <dc:subject/>
  <dc:title>Слайд 1</dc:title>
</cp:coreProperties>
</file>