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5F03-80CF-4327-81E7-5955E636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13EE-BA3E-4C74-9ED5-A7A0253C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2544-3C17-4EF8-B4A6-F2252DED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BB8-020D-4FF8-B093-FC3FEA30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1D50-A221-4AA4-8E91-78E82420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6C34-C370-406E-BA4F-8E3FE3D7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75FB-7A5F-408B-9233-AD25CE3D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15D8-915D-4459-A807-DDB61822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AB4F-3A56-4D89-A449-D505C836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99AF-5912-4EF2-9043-75943CC4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036E-254B-4CA6-93DA-5FE348EB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5764-2897-4581-9DCD-7193F22F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FBAB-8C8F-48D7-BD94-F099196C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39C1-F78B-4247-B7E6-54D93A35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F3CD-021A-4AE7-BA18-D92D0967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278A-5E6C-4E38-ADC8-8B8FC143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239B-7DB3-4E3F-B8C5-3797AF36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5738-9CA2-4843-BE8A-E138CA8D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47D-2935-46B9-A78A-669C2B7B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9886-9041-40F1-8B5B-806859DC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D78-D1BF-45DD-A7C6-77F9B8C8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E06-EA36-45B9-AD80-CBA9405D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C7F6-FAC9-43D3-AADF-2B50FD4B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C9E-840A-49B3-878B-485E0E85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3F07-D1E6-4D38-9518-33827F9419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980E-2ED1-4C38-B782-DFB6818CFA5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934b"/>
                </a:solidFill>
                <a:latin typeface="Tahoma"/>
              </a:rPr>
              <a:t>МУЗЕЙНАЯ ПЕДАГОГИКА В ХУДОЖЕСТВЕННО-ЭСТЕТИЧЕСКОМ РАЗВИТИИ ДЕТЕЙ СТАРШЕГО ДОШКОЛЬНОГО ВОЗРАСТА</a:t>
            </a:r>
            <a:endParaRPr b="0" lang="en-US" sz="32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842920" y="4792680"/>
            <a:ext cx="6049800" cy="15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934b"/>
                </a:solidFill>
                <a:latin typeface="Tahoma"/>
              </a:rPr>
              <a:t>РыковаТатьяна Анатольевн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934b"/>
                </a:solidFill>
                <a:latin typeface="Tahoma"/>
              </a:rPr>
              <a:t>2 условие: компетентность педагога ДОО по художественно-эстетическому развитию детей старшего дошкольного возраста</a:t>
            </a:r>
            <a:endParaRPr b="0" lang="en-US" sz="2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итие современного общества диктует особые условия организации дошкольного образования через  интенсивное внедрение инноваций, новых технологий и методов работы с детьми дошкольного возраста. В этой ситуации особенно важна профессиональная компетентность, основу которой составляет личностное и профессиональное развитие педагог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новные требования к профессиональной компетентности педагога, выделенные  И.А. Кутузовой: наличие глубоких знаний возрастных и индивидуальных психофизиологических особенностей детей;  осведомленное  во взаимоотношениях с воспитанником и существование развитых механизмов понимания другого человека; владение педагогическим мастерством и педагогической техникой; обладание профессионально значимыми личностными свойствами и ценностными ориентациям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1619280" y="259560"/>
            <a:ext cx="558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964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619280" y="1125360"/>
          <a:ext cx="5829120" cy="5578560"/>
        </p:xfrm>
        <a:graphic>
          <a:graphicData uri="http://schemas.openxmlformats.org/drawingml/2006/table">
            <a:tbl>
              <a:tblPr/>
              <a:tblGrid>
                <a:gridCol w="1028520"/>
                <a:gridCol w="1600200"/>
                <a:gridCol w="32004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Форма пр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мероприятий для повышения компетентности педагог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Авгус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ир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уровня компетентности педагогов по художественно-эстетическому развитию детей старшего дошколь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ентябр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сов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-эстетическое развитие детей старшего дошкольного возраст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ирование педагог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ктябр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ый сто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ю музейной педагогики в  художественно-эстетическом развитии детей старшего дошколь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ябр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ум  (обмен опыто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 коллекционирования в работе с 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Декабр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ление детей с народно-прикладным искусством. Декоративное рисование в детском са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Январ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ий рин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методической литературы «Музейная педагогика в художественно-эстетическом развитии детей старшего дошкольного возраст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 в городской музей изобразительных искус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р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учинг-сесс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ижения по направлению – музейная педагогика. Формирование личности ребенка в процессе ознакомления с искусств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емственность в художественно-эстетическом  образовании детей старшего дошкольного возраста. Трудности в работе по использованию музейной педагог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нная презент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пыта по теме «Музейная педагогика в ДОО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ирование педагог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Rectangle 53"/>
          <p:cNvSpPr/>
          <p:nvPr/>
        </p:nvSpPr>
        <p:spPr>
          <a:xfrm>
            <a:off x="0" y="614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4"/>
          <p:cNvSpPr/>
          <p:nvPr/>
        </p:nvSpPr>
        <p:spPr>
          <a:xfrm>
            <a:off x="611280" y="260280"/>
            <a:ext cx="820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лан работы по повышению профессиональной компетентности педагогов по художественно-эстетическому развитию детей дошкольного возраста на 2016-2017 уч. г. МБДОУ ДС № 2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оведенное  повторное анкетирование педагогов с целью выявления уровня компетентности педагогов по художественно-эстетическому развитию детей старшего дошкольного возраста на контрольном этапе показало следующие результаты, представленные на рисунке 5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СТАТИРУЮЩИЙ ЭТАП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Object 6"/>
          <p:cNvGraphicFramePr/>
          <p:nvPr/>
        </p:nvGraphicFramePr>
        <p:xfrm>
          <a:off x="4859280" y="3141720"/>
          <a:ext cx="4105440" cy="30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141720"/>
                    <a:ext cx="410544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Object 8"/>
          <p:cNvGraphicFramePr/>
          <p:nvPr/>
        </p:nvGraphicFramePr>
        <p:xfrm>
          <a:off x="468360" y="3645000"/>
          <a:ext cx="4114800" cy="16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3645000"/>
                    <a:ext cx="411480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11"/>
          <p:cNvSpPr/>
          <p:nvPr/>
        </p:nvSpPr>
        <p:spPr>
          <a:xfrm>
            <a:off x="5130720" y="2133720"/>
            <a:ext cx="401328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5 Результаты анкетирования педагогов ДОО на  контрольном  этапе опытно-экспериментальной работы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НЫЙ ЭТА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ис. 4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равнительная диаграмма полученных результатов экспериментальной группы  на  констатирующем и контрольном этапе  опытно-экспериментальной работы</a:t>
            </a:r>
            <a:br>
              <a:rPr sz="1400"/>
            </a:br>
            <a:endParaRPr b="0" lang="en-US" sz="1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0000" y="3774960"/>
            <a:ext cx="7581960" cy="23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ис. 5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авнительная диаграмма полученных результатов опытной группы  на  констатирующем и контрольном этапе опытно-экспериментальной рабо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5"/>
          <p:cNvGraphicFramePr/>
          <p:nvPr/>
        </p:nvGraphicFramePr>
        <p:xfrm>
          <a:off x="684360" y="836640"/>
          <a:ext cx="828036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836640"/>
                    <a:ext cx="828036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Object 7"/>
          <p:cNvGraphicFramePr/>
          <p:nvPr/>
        </p:nvGraphicFramePr>
        <p:xfrm>
          <a:off x="539640" y="4581360"/>
          <a:ext cx="5761080" cy="249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581360"/>
                    <a:ext cx="57610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ьтаты контрольного этапа исследования свидетельствуют о состоявшихся позитивных изменениях в художественно-эстетическом развитии детей старшего дошкольного возраста. Эти различия дают нам основания сделать необходимый вывод о том, что педагогические условия, разработанные нами, позволяют эффективно использовать музейную педагогику в художественно-эстетическом развитии детей старшего дошкольного возраста. Данная работа по использованию музейной педагогики   при соблюдении определенных педагогических условий эффективно влияет на художественно-эстетическое развитие  детей старшего дошкольного возраста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ким образом, гипотеза подтверждена, цель достигнут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24000" y="1599840"/>
            <a:ext cx="31179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5" name="Picture 5" descr="096326c34282d1e2058f25dba308f669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360828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pic>
        <p:nvPicPr>
          <p:cNvPr id="436" name="Picture 7" descr="images_1"/>
          <p:cNvPicPr/>
          <p:nvPr/>
        </p:nvPicPr>
        <p:blipFill>
          <a:blip r:embed="rId2"/>
          <a:stretch/>
        </p:blipFill>
        <p:spPr>
          <a:xfrm>
            <a:off x="4371840" y="3068640"/>
            <a:ext cx="4592880" cy="3513240"/>
          </a:xfrm>
          <a:prstGeom prst="rect">
            <a:avLst/>
          </a:prstGeom>
          <a:ln w="57240">
            <a:solidFill>
              <a:srgbClr val="0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8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439" name="WordArt 4"/>
          <p:cNvSpPr txBox="1"/>
          <p:nvPr/>
        </p:nvSpPr>
        <p:spPr>
          <a:xfrm>
            <a:off x="179280" y="2852640"/>
            <a:ext cx="8785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Impact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Цель 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теоретически изучить, обосновать и опытно-экспериментальным путем доказать, что использование  музейной педагогики повышает уровень  художественно-эстетического развития  детей старшего дошкольного  возрас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бъект 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процесс художественно-эстетического  развития   детей старшего дошкольного  возрас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дме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музейная педагогика как средство  художественно-эстетического развития детей старшего дошкольного возраста.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ипотеза 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повышение  уровня художественно-эстетического развития   детей старшего дошкольного возраста средствами музейной педагогики будет эффективным при следующих условиях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 организация мини-музея в групп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компетентность педагога ДОО по художественно-эстетическому развитию детей старшего дошкольного возраст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соответствии с целью  и гипотезой  определены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дач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следования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  провести теоретико-методический анализ теоретической и специальной литературы по теме исследо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 разработать  педагогические условия  использования музейной педагогики в художественно-эстетическом развитии детей старшего дошкольного возрас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опытно-экспериментальным путем доказать эффективность использования  музейной педагогики в художественно-эстетическом развитии детей старшего дошкольного возраста при  соблюдении  определенных педагогических услов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дставим полученные результаты констатирующего этапа опытно-экспериментальной работы  по использованию музейной педагогики в художественно-эстетическом развитии детей старшего дошкольного возраста в диаграмм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ис. 1 Диаграмма результатов  художественно-эстетического развития детей старшего дошкольного возраста опытно-экспериментальной работы (констатирующий этап): опытная группа, экспериментальная групп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4"/>
          <p:cNvGraphicFramePr/>
          <p:nvPr/>
        </p:nvGraphicFramePr>
        <p:xfrm>
          <a:off x="863640" y="2637000"/>
          <a:ext cx="8280360" cy="26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2637000"/>
                    <a:ext cx="8280360" cy="26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кетирование педагогов показало, что уровень компетентности педагогов по художественно-эстетическому развитию детей находится на достаточно низком уровне. Полученные данные анкетирования педагогов представлены в рисунке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ис. 2 Результаты анкетирования педагогов ДОО на  констатирующем этапе опытно-экспериментальной работ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4"/>
          <p:cNvGraphicFramePr/>
          <p:nvPr/>
        </p:nvGraphicFramePr>
        <p:xfrm>
          <a:off x="1332000" y="3068640"/>
          <a:ext cx="712764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068640"/>
                    <a:ext cx="712764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934b"/>
                </a:solidFill>
                <a:latin typeface="Tahoma"/>
              </a:rPr>
              <a:t>1 УСЛОВИЕ: ОРГАНИЗАЦИЯ МИНИ-МУЗЕЯ В ГРУППЕ.</a:t>
            </a:r>
            <a:br>
              <a:rPr sz="2400"/>
            </a:br>
            <a:endParaRPr b="0" lang="en-US" sz="2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удожественно-эстетическое развитие детей дошкольного возраста в условиях реализации ФГОС ДО предполагает организацию мини-музеев в каждой возрастной группе. Мини-музей в ДОО имеет свою специфику: с одной стороны, он отличается от традиционных «больших» музеев, с другой — отражает особенности этих учреждений культуры. Приступая к организации мини-музеев в детском саду, необходимо обсудить в своем коллективе, с детьми и родителями, что такое музей, для чего он создается и как можно использовать музеи в дошкольном образовании. В то же время отмечено, что посещение музеев детьми дошкольного возраста не всегда приносит ожидаемый педагогический эффект. Даже в детских музеях обилие экспонатов, информации, яркие впечатления и эмоции могут утомить ребенка. Для дошкольников гораздо полезнее, когда музей сам «приходит» в гости к ребенку. Учитывая, что в обычной жизни посещение музея для детей — это особое событие, почти праздник, музей в ДОО постепенно теряет возможность воздействовать на детей за счет новизны и неожиданности. Не каждый коллектив способен проводить в одном и том же мини-музее разнообразную работу, которая позволит поддерживать интерес у дошкольников на протяжении четырех-пяти лет их пребывания в детском саду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римерный перспективный план работы  с детьми в подготовительной группе в мини-музее</a:t>
            </a:r>
            <a:endParaRPr b="0" lang="en-US" sz="2400" spc="-1" strike="noStrike">
              <a:solidFill>
                <a:srgbClr val="95934b"/>
              </a:solidFill>
              <a:latin typeface="Tahoma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301680" y="1600200"/>
          <a:ext cx="8540640" cy="4998960"/>
        </p:xfrm>
        <a:graphic>
          <a:graphicData uri="http://schemas.openxmlformats.org/drawingml/2006/table">
            <a:tbl>
              <a:tblPr/>
              <a:tblGrid>
                <a:gridCol w="860400"/>
                <a:gridCol w="7680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Содержание работы с 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: «В мастерской дымковской игрушки»: воспитывать у детей уважение и интерес к народным промыслам. Закреплять представления о процессе создания игрушек. Обратить внимание на элементы роспис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пка: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ымковская барышня, олешки, коняшки». Учить детей создавать изображение по мотивам дымковских игрушек; лепить фигуру, делить глину, придавая форму отдельным частям приемом вытягивания. Организация коллекционирования детских рабо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: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оспись дымковской барышни». Учить украшать элементами декоративной росписи фигурки-барышень. Воспитывать интерес и эстетическое отношение к народному искусству, развивать глазомер, чувство цв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а детских работ. Прививать интерес к коллекционированию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ть мыслительную деятельность, внимание, память, логическое мышление, воображ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: «Золотая хохлома». Воспитывать интерес к искусству хохломских мастеров, развивать умение выделять элементы узора, понимать закономерности сочетания форм, цвета и композиционного расположения роспис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зразцы для русской печи». Учить создавать декоративный рисунок на полосках бумаги, расписывая хохломской росписью, уметь расположить роспись, воспитывать самостоятельность и интерес к работе, развить эстетический вкус, раскрыть творческие способ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: «Мастера Гжели». Познакомить с видом народного декоративно-прикладного искусства: гжельской росписью. Учить создавать узоры на листах в формате народного изделия, используя характерные элементы: цветы, завитки, листья, точки. Закрепить умение ритмично располагать элементы узора, помочь освоить специфику гжельской росписи. Развивать декоративное творчество детей, воспитывать интерес к искусству гжельских масте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: «Гжельские подносы». Приобщать детей к истокам родного истинного русского народного творчества. Закреплять умение составлять узоры по мотивам народных росписей. Побуждать к использованию для составления узора растительных элементов. Закрепить представление о гжельской росписи. Учить создавать узоры на листах в форме подноса. Закрепить умение ритмично располагать узоры. Развивать внимание, память, логическое мышление, воображ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еселые матрешки». Формировать представления о разнообразии народных игрушек. Уметь различать росписи в прикладном искусстве. Обратить внимание на традиционные элементы филимоновской росписи, семеновской, каргопольской матрешки. Лепка: «Веселые матрешки» - плоскостная фигурка (пластилинография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передавать в лепке характерное строение фигуры, использовать разную технику при выполнении работы, сглаживать поверхность фигур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-116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964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9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4"/>
          <p:cNvSpPr/>
          <p:nvPr/>
        </p:nvSpPr>
        <p:spPr>
          <a:xfrm>
            <a:off x="0" y="685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301680" y="1131840"/>
          <a:ext cx="8540640" cy="4602240"/>
        </p:xfrm>
        <a:graphic>
          <a:graphicData uri="http://schemas.openxmlformats.org/drawingml/2006/table">
            <a:tbl>
              <a:tblPr/>
              <a:tblGrid>
                <a:gridCol w="860400"/>
                <a:gridCol w="7680240"/>
              </a:tblGrid>
              <a:tr h="855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: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 гости к нам пришли матрешки» (роспись силуэтов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щать детей к истокам родного истинного русского народного творчества. Закреплять умение составлять узоры по мотивам народных росписей. Побуждать к использованию для составления узора растительных элементов. Развивать чувство цвета, композиционные умения. Закреплять умение смешивать краски для получения нового цвета. Совершенствовать навыки работы с краской (рисовать концом кист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: «Городец». Продолжать знакомство с городецкой росписью, ее колоритом, особенностями. Учить выделять основные элементы узора. Развивать художественный вкус и воспитывать любовь и интерес к народному творчеств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: «Роспись доски городецким узором».Упражнять в рисовании Городецких цветов – купавки голубого и розового цвета, ромашки и розаны, в нанесении оживки с помощью кончика кисточки. Закреплять навыки смешивания красок на палитре для получения необходимого цвета. Развивать чувство композиции, умение красиво располагать узор в заданной форме. Развивать речь, расширяя словарный запас (экспозиция, экспонат, музей, выставк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с детьми о декоративно-прикладном искусстве «Жостовские подносы». Продолжать знакомить детей с народным промыслом Жостова. Дать знания об особенностях жостовской росписи: элементах узора, колорите, композиции. Закрепить умение составлять узор на круге, овале, квадрате, прямоугольнике, заполняя середину и края (кайму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: Роспись подноса квадратной формы на тему «Цветы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расписывать подносы квадратной формы по мотивам жостовской росписи. Размещать узор только в центре или только по углам, сторон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иллюстраций, чтение художественной литературы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стория о происхождении росписи на подносе» Кирюхина 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ывать интерес к русской культуре и любовь к устному народному творчеству. Воспитывать интерес к декоративно-прикладному искусству через чтение художественной литерату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материалов, изготовленных собственными руками: поделок, книг – самоделок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влечь детей в разнообразную продуктивную деятельность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вать эстетический вкус при расстановке экспона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ое мероприяти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а детских работ «Красота своими рукам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6T04:53:12Z</dcterms:created>
  <dc:creator>Customer</dc:creator>
  <dc:description/>
  <dc:language>en-US</dc:language>
  <cp:lastModifiedBy>марина рыкова</cp:lastModifiedBy>
  <dcterms:modified xsi:type="dcterms:W3CDTF">2020-03-30T07:19:34Z</dcterms:modified>
  <cp:revision>28</cp:revision>
  <dc:subject/>
  <dc:title>МУЗЕЙНАЯ ПЕДАГОГИКА В ХУДОЖЕСТВЕННО-ЭСТЕТИЧЕСКОМ РАЗВИТИИ ДЕТЕЙ СТАРШЕГО ДОШКОЛЬНОГО ВОЗРАСТА</dc:title>
</cp:coreProperties>
</file>