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4EC-6500-40B0-84C3-EF5F33B0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935-6F17-4754-9FDE-AFFA8E7A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81A-0FAD-4E5E-99CA-E52A1D36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077-68B8-4521-97D6-6B349FDE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46E-031D-44C5-900D-28FA9F6B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59CE-7C4B-4669-9700-EFC0D67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E03B-E430-4F90-95FE-911CC8B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B096-7E97-4F87-A5F0-E72EE461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7232-01C0-4F10-BD4D-02C7712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1AE8-3ADD-43F9-BDBD-C4DA599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597F-3CD6-470D-83C6-8D7C6C3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390-D27B-4CEE-81FB-C8E8DAE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C57D-7268-4277-93EE-38F2422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17C-4868-4657-BB88-80F6169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7E7E-FF35-4505-8011-4240BBF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CFE-8E84-4E1F-AB9D-C0816943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362-4AD8-4E84-AF7D-9967FADD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31E-C628-49F0-A0F9-7F06D17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014-B8F9-4940-9BD6-CF01E44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101-9A8C-4EB2-8653-D0085AF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E00-CA95-4E0F-8498-FEAA8F75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E96-C7AE-4813-BDCC-B519419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AEC-7698-472D-B25C-2F66ABD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5F8-FD56-4873-A28D-86F2466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1A6-BF25-4725-982A-9DF616767D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E05-7DBE-4D9C-8EEC-9E090C10EFE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934b"/>
                </a:solidFill>
                <a:latin typeface="Tahoma"/>
              </a:rPr>
              <a:t>МУЗЕЙНАЯ ПЕДАГОГИКА В ХУДОЖЕСТВЕННО-ЭСТЕТИЧЕСКОМ РАЗВИТИИ ДЕТЕЙ СТАРШЕГО ДОШКОЛЬНОГО ВОЗРАСТА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842920" y="4792680"/>
            <a:ext cx="60498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934b"/>
                </a:solidFill>
                <a:latin typeface="Tahoma"/>
              </a:rPr>
              <a:t>РыковаТатьяна Анатольев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934b"/>
                </a:solidFill>
                <a:latin typeface="Tahoma"/>
              </a:rPr>
              <a:t>2 условие: компетентность педагога ДОО по художественно-эстетическому развитию детей старшего дошкольного возраста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современного общества диктует особые условия организации дошкольного образования через  интенсивное внедрение инноваций, новых технологий и методов работы с детьми дошкольного возраста. В этой ситуации особенно важна профессиональная компетентность, основу которой составляет личностное и профессиональное развитие педагог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е требования к профессиональной компетентности педагога, выделенные  И.А. Кутузовой: наличие глубоких знаний возрастных и индивидуальных психофизиологических особенностей детей;  осведомленное  во взаимоотношениях с воспитанником и существование развитых механизмов понимания другого человека; владение педагогическим мастерством и педагогической техникой; обладание профессионально значимыми личностными свойствами и ценностными ориентация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619280" y="259560"/>
            <a:ext cx="558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619280" y="1125360"/>
          <a:ext cx="5829120" cy="5578560"/>
        </p:xfrm>
        <a:graphic>
          <a:graphicData uri="http://schemas.openxmlformats.org/drawingml/2006/table">
            <a:tbl>
              <a:tblPr/>
              <a:tblGrid>
                <a:gridCol w="1028520"/>
                <a:gridCol w="1600200"/>
                <a:gridCol w="32004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орма пр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мероприятий для повышения компетентности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вгус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ровня компетентности педагогов по художественно-эстетическому развитию детей старшего дошколь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ент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 детей старшего дошкольного возра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кт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ю музейной педагогики в  художественно-эстетическом развитии детей старшего дошколь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  (обмен опыт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 коллекционирования в работе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ление детей с народно-прикладным искусством. Декоративное рисование в детском са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рин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методической литературы «Музейная педагогика в художественно-эстетическом развитии детей старшего дошкольного возраст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городской музей изобразительных искус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учинг-сесс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я по направлению – музейная педагогика. Формирование личности ребенка в процессе ознакомления с искус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емственность в художественно-эстетическом  образовании детей старшего дошкольного возраста. Трудности в работе по использованию музейной педагог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ная през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по теме «Музейная педагогика в ДОО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педагог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53"/>
          <p:cNvSpPr/>
          <p:nvPr/>
        </p:nvSpPr>
        <p:spPr>
          <a:xfrm>
            <a:off x="0" y="61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4"/>
          <p:cNvSpPr/>
          <p:nvPr/>
        </p:nvSpPr>
        <p:spPr>
          <a:xfrm>
            <a:off x="611280" y="260280"/>
            <a:ext cx="820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лан работы по повышению профессиональной компетентности педагогов по художественно-эстетическому развитию детей дошкольного возраста на 2016-2017 уч. г. МБДОУ ДС № 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веденное  повторное анкетирование педагогов с целью выявления уровня компетентности педагогов по художественно-эстетическому развитию детей старшего дошкольного возраста на контрольном этапе показало следующие результаты, представленные на рисунке 5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АТИРУЮЩИЙ ЭТА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6"/>
          <p:cNvGraphicFramePr/>
          <p:nvPr/>
        </p:nvGraphicFramePr>
        <p:xfrm>
          <a:off x="4859280" y="3141720"/>
          <a:ext cx="410544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141720"/>
                    <a:ext cx="410544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8"/>
          <p:cNvGraphicFramePr/>
          <p:nvPr/>
        </p:nvGraphicFramePr>
        <p:xfrm>
          <a:off x="468360" y="3645000"/>
          <a:ext cx="411480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45000"/>
                    <a:ext cx="41148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11"/>
          <p:cNvSpPr/>
          <p:nvPr/>
        </p:nvSpPr>
        <p:spPr>
          <a:xfrm>
            <a:off x="5130720" y="2133720"/>
            <a:ext cx="4013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5 Результаты анкетирования педагогов ДОО на  контрольном  этапе опытно-экспериментальной работ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Й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4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равнительная диаграмма полученных результатов экспериментальной группы  на  констатирующем и контрольном этапе  опытно-экспериментальной работы</a:t>
            </a:r>
            <a:br>
              <a:rPr sz="1400"/>
            </a:br>
            <a:endParaRPr b="0" lang="en-US" sz="1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0000" y="3774960"/>
            <a:ext cx="758196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ис. 5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авнительная диаграмма полученных результатов опытной группы  на  констатирующем и контрольном этапе опытно-экспериментальной рабо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5"/>
          <p:cNvGraphicFramePr/>
          <p:nvPr/>
        </p:nvGraphicFramePr>
        <p:xfrm>
          <a:off x="684360" y="836640"/>
          <a:ext cx="8280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828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7"/>
          <p:cNvGraphicFramePr/>
          <p:nvPr/>
        </p:nvGraphicFramePr>
        <p:xfrm>
          <a:off x="539640" y="4581360"/>
          <a:ext cx="5761080" cy="24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581360"/>
                    <a:ext cx="57610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ы контрольного этапа исследования свидетельствуют о состоявшихся позитивных изменениях в художественно-эстетическом развитии детей старшего дошкольного возраста. Эти различия дают нам основания сделать необходимый вывод о том, что педагогические условия, разработанные нами, позволяют эффективно использовать музейную педагогику в художественно-эстетическом развитии детей старшего дошкольного возраста. Данная работа по использованию музейной педагогики   при соблюдении определенных педагогических условий эффективно влияет на художественно-эстетическое развитие  детей старшего дошкольного возраст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гипотеза подтверждена, цель достигну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1179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096326c34282d1e2058f25dba308f669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36082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436" name="Picture 7" descr="images_1"/>
          <p:cNvPicPr/>
          <p:nvPr/>
        </p:nvPicPr>
        <p:blipFill>
          <a:blip r:embed="rId2"/>
          <a:stretch/>
        </p:blipFill>
        <p:spPr>
          <a:xfrm>
            <a:off x="4371840" y="3068640"/>
            <a:ext cx="4592880" cy="351324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800" spc="-1" strike="noStrike">
              <a:solidFill>
                <a:srgbClr val="808000"/>
              </a:solidFill>
              <a:latin typeface="Tahoma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179280" y="2852640"/>
            <a:ext cx="878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ль 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теоретически изучить, обосновать и опытно-экспериментальным путем доказать, что использование  музейной педагогики повышает уровень  художественно-эстетического развития  детей старшего дошкольного  возра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ъект 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оцесс художественно-эстетического  развития   детей старшего дошкольного  возрас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музейная педагогика как средство  художественно-эстетического развития детей старшего дошкольного возраста.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ипотеза 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повышение  уровня художественно-эстетического развития   детей старшего дошкольного возраста средствами музейной педагогики будет эффективным при следующих условия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организация мини-музея в групп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етентность педагога ДОО по художественно-эстетическому развитию детей старшего дошкольного возрас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ответствии с целью  и гипотезой  определены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дач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  провести теоретико-методический анализ теоретической и специальной литературы по теме исслед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 разработать  педагогические условия  использования музейной педагогики в художественно-эстетическом развитии детей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пытно-экспериментальным путем доказать эффективность использования  музейной педагогики в художественно-эстетическом развитии детей старшего дошкольного возраста при  соблюдении  определенных педагогических услов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им полученные результаты констатирующего этапа опытно-экспериментальной работы  по использованию музейной педагогики в художественно-эстетическом развитии детей старшего дошкольного возраста в диаграмм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1 Диаграмма результатов  художественно-эстетического развития детей старшего дошкольного возраста опытно-экспериментальной работы (констатирующий этап): опытная группа, экспериментальная групп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863640" y="2637000"/>
          <a:ext cx="8280360" cy="26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2637000"/>
                    <a:ext cx="8280360" cy="26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кетирование педагогов показало, что уровень компетентности педагогов по художественно-эстетическому развитию детей находится на достаточно низком уровне. Полученные данные анкетирования педагогов представлены в рисунке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ис. 2 Результаты анкетирования педагогов ДОО на  констатирующем этапе опытно-экспериментальной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1332000" y="3068640"/>
          <a:ext cx="712764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068640"/>
                    <a:ext cx="712764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934b"/>
                </a:solidFill>
                <a:latin typeface="Tahoma"/>
              </a:rPr>
              <a:t>1 УСЛОВИЕ: ОРГАНИЗАЦИЯ МИНИ-МУЗЕЯ В ГРУППЕ.</a:t>
            </a:r>
            <a:br>
              <a:rPr sz="2400"/>
            </a:b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удожественно-эстетическое развитие детей дошкольного возраста в условиях реализации ФГОС ДО предполагает организацию мини-музеев в каждой возрастной группе. Мини-музей в ДОО имеет свою специфику: с одной стороны, он отличается от традиционных «больших» музеев, с другой — отражает особенности этих учреждений культуры. Приступая к организации мини-музеев в детском саду, необходимо обсудить в своем коллективе, с детьми и родителями, что такое музей, для чего он создается и как можно использовать музеи в дошкольном образовании. В то же время отмечено, что посещение музеев детьми дошкольного возраста не всегда приносит ожидаемый педагогический эффект. Даже в детских музеях обилие экспонатов, информации, яркие впечатления и эмоции могут утомить ребенка. Для дошкольников гораздо полезнее, когда музей сам «приходит» в гости к ребенку. Учитывая, что в обычной жизни посещение музея для детей — это особое событие, почти праздник, музей в ДОО постепенно теряет возможность воздействовать на детей за счет новизны и неожиданности. Не каждый коллектив способен проводить в одном и том же мини-музее разнообразную работу, которая позволит поддерживать интерес у дошкольников на протяжении четырех-пяти лет их пребывания в детском сад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мерный перспективный план работы  с детьми в подготовительной группе в мини-музее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01680" y="1600200"/>
          <a:ext cx="8540640" cy="4998960"/>
        </p:xfrm>
        <a:graphic>
          <a:graphicData uri="http://schemas.openxmlformats.org/drawingml/2006/table">
            <a:tbl>
              <a:tblPr/>
              <a:tblGrid>
                <a:gridCol w="860400"/>
                <a:gridCol w="76802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держание работы с 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В мастерской дымковской игрушки»: воспитывать у детей уважение и интерес к народным промыслам. Закреплять представления о процессе создания игрушек. Обратить внимание на элементы роспи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ымковская барышня, олешки, коняшки». Учить детей создавать изображение по мотивам дымковских игрушек; лепить фигуру, делить глину, придавая форму отдельным частям приемом вытягивания. Организация коллекционирования детских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спись дымковской барышни». Учить украшать элементами декоративной росписи фигурки-барышень. Воспитывать интерес и эстетическое отношение к народному искусству, развивать глазомер, чувство ц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детских работ. Прививать интерес к коллекционировани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мыслительную деятельность, внимание, память, логическое мышление, во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Золотая хохлома». Воспитывать интерес к искусству хохломских мастеров, развивать умение выделять элементы узора, понимать закономерности сочетания форм, цвета и композиционного расположения роспис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разцы для русской печи». Учить создавать декоративный рисунок на полосках бумаги, расписывая хохломской росписью, уметь расположить роспись, воспитывать самостоятельность и интерес к работе, развить эстетический вкус, раскрыть творческие способ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Мастера Гжели». Познакомить с видом народного декоративно-прикладного искусства: гжельской росписью. Учить создавать узоры на листах в формате народного изделия, используя характерные элементы: цветы, завитки, листья, точки. Закрепить умение ритмично располагать элементы узора, помочь освоить специфику гжельской росписи. Развивать декоративное творчество детей, воспитывать интерес к искусству гжельских маст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«Гжельские подносы». Приобщать детей к истокам родного истинного русского народного творчества. Закреплять умение составлять узоры по мотивам народных росписей. Побуждать к использованию для составления узора растительных элементов. Закрепить представление о гжельской росписи. Учить создавать узоры на листах в форме подноса. Закрепить умение ритмично располагать узоры. Развивать внимание, память, логическое мышление, во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селые матрешки». Формировать представления о разнообразии народных игрушек. Уметь различать росписи в прикладном искусстве. Обратить внимание на традиционные элементы филимоновской росписи, семеновской, каргопольской матрешки. Лепка: «Веселые матрешки» - плоскостная фигурка (пластилинография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ередавать в лепке характерное строение фигуры, использовать разную технику при выполнении работы, сглаживать поверхность фигу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-116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0" y="685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131840"/>
          <a:ext cx="8540640" cy="4602240"/>
        </p:xfrm>
        <a:graphic>
          <a:graphicData uri="http://schemas.openxmlformats.org/drawingml/2006/table">
            <a:tbl>
              <a:tblPr/>
              <a:tblGrid>
                <a:gridCol w="860400"/>
                <a:gridCol w="7680240"/>
              </a:tblGrid>
              <a:tr h="85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 гости к нам пришли матрешки» (роспись силуэтов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щать детей к истокам родного истинного русского народного творчества. Закреплять умение составлять узоры по мотивам народных росписей. Побуждать к использованию для составления узора растительных элементов. Развивать чувство цвета, композиционные умения. Закреплять умение смешивать краски для получения нового цвета. Совершенствовать навыки работы с краской (рисовать концом кист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: «Городец». Продолжать знакомство с городецкой росписью, ее колоритом, особенностями. Учить выделять основные элементы узора. Развивать художественный вкус и воспитывать любовь и интерес к народному творчест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«Роспись доски городецким узором».Упражнять в рисовании Городецких цветов – купавки голубого и розового цвета, ромашки и розаны, в нанесении оживки с помощью кончика кисточки. Закреплять навыки смешивания красок на палитре для получения необходимого цвета. Развивать чувство композиции, умение красиво располагать узор в заданной форме. Развивать речь, расширяя словарный запас (экспозиция, экспонат, музей, выстав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детьми о декоративно-прикладном искусстве «Жостовские подносы». Продолжать знакомить детей с народным промыслом Жостова. Дать знания об особенностях жостовской росписи: элементах узора, колорите, композиции. Закрепить умение составлять узор на круге, овале, квадрате, прямоугольнике, заполняя середину и края (кайм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: Роспись подноса квадратной формы на тему «Цветы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расписывать подносы квадратной формы по мотивам жостовской росписи. Размещать узор только в центре или только по углам, сторон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, чтение художественной литерату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тория о происхождении росписи на подносе» Кирюхина 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ывать интерес к русской культуре и любовь к устному народному творчеству. Воспитывать интерес к декоративно-прикладному искусству через чтение художественной литерат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материалов, изготовленных собственными руками: поделок, книг – самодело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ь детей в разнообразную продуктивную деятельность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вать эстетический вкус при расстановке экспон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мероприяти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детских работ «Красота своими рукам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04:53:12Z</dcterms:created>
  <dc:creator>Customer</dc:creator>
  <dc:description/>
  <dc:language>en-US</dc:language>
  <cp:lastModifiedBy>марина рыкова</cp:lastModifiedBy>
  <dcterms:modified xsi:type="dcterms:W3CDTF">2020-03-30T07:19:34Z</dcterms:modified>
  <cp:revision>28</cp:revision>
  <dc:subject/>
  <dc:title>МУЗЕЙНАЯ ПЕДАГОГИКА В ХУДОЖЕСТВЕННО-ЭСТЕТИЧЕСКОМ РАЗВИТИИ ДЕТЕЙ СТАРШЕГО ДОШКОЛЬНОГО ВОЗРАСТА</dc:title>
</cp:coreProperties>
</file>