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FE3-2D88-445D-B0E4-8C7755B4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332-044D-4FEC-8AC1-4681010A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E68-CE22-45A0-9EA7-971374F7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C4D-7893-49ED-B134-B446ABCF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8E1-C8C3-45AB-8EFA-575228E5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577-49C0-497B-B999-3B19A57C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B91-07F3-4771-8AE9-E78ED193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B1E-4175-4265-838C-F848FECF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3AC-CEE0-4D85-894E-5CBAA5C9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D95-6479-4D5C-8C0C-16B53EB2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FA9-DC4B-49F7-AE6F-AC1F3E8B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AF6-B76A-4905-8291-8D1ACB0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A921-262B-4208-9873-8A5E9BCFD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203480" y="2330280"/>
            <a:ext cx="673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ПОНЕДЕЛЬН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ДЕНЬ ВЕСЕЛЫЙ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27440" y="117144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30 мар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295280" y="67464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340000" y="19368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89160" y="137628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еда с детьми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Как я провел выходны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Развивать связную речь детей, память, логическое 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Чаепитие у кукол», «Боль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идактические игры: «Чудесный мешочек», «Что такое хорошо и что такое плохо», «Угадай, чего не стало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рудовое поручение: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помоги взрослым накрыть стол к завтр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344600" y="4336920"/>
            <a:ext cx="7220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арядка «Утро уже просыпайся и новому дню улыбайся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004760" y="105264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36720" y="1844640"/>
            <a:ext cx="72705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ослушивание. П.И. Чайковский «Игра в лошад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познакомить детей с музыкальным произведением. Обсудить характер музыки: какая она – веселая или грустная; быстрая или медленная; что можно делать под такую музыку и т 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тение художественной литер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.Александрова «Мой мишк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.Цыферов «Когда не хватает игруш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 Барто . Стихи из цикла «Игрушки» (заучи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864080" y="907920"/>
            <a:ext cx="5415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БЛЮДЕНИЯ 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(или из 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71640" y="208116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Признаки вес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Побеседуйте с детьми, о том как изменилась природа с приходом весны, как меняется цвет неба, какие природные явления можно увидеть весной, что происходит с деревьями и другими растения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971640" y="4114800"/>
            <a:ext cx="7129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абота перед сном: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слушать колыбельную «Серенькая кошечка села на окошеч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348640" y="62064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ТОРАЯ ПОЛОВИНА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042920" y="1341360"/>
            <a:ext cx="7345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гров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гры со строительным материалом, игры с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Гараж для машинок», «Мебель для кук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дактическая игр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осчитаем кубик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игровое упражнение на закрепление порядкового счета до 4-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бодные игры по выбор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тение перед сном: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. Толстой «Птица свила гнезд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7:57:10Z</dcterms:created>
  <dc:creator>PC</dc:creator>
  <dc:description/>
  <dc:language>en-US</dc:language>
  <cp:lastModifiedBy>user</cp:lastModifiedBy>
  <dcterms:modified xsi:type="dcterms:W3CDTF">2020-03-29T12:20:59Z</dcterms:modified>
  <cp:revision>11</cp:revision>
  <dc:subject/>
  <dc:title>Слайд 1</dc:title>
</cp:coreProperties>
</file>