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823-EA88-4483-8074-A1BECCED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7FA-1BE1-4113-9398-2E80663D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54C-FAC1-4DFE-8EF6-EDF970EB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08A-0A3A-4F3C-B42A-88C7B864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FED-E9CE-4AC4-8EDE-8F52602D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60A-3EC7-4C19-A3B8-BEE91DF0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160-38AD-46E2-BC72-EFAEC87D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CC4-0F68-4D9A-8B7C-E51CA2D3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B78-508D-4DA0-9728-1277FB80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2676-EE9A-41D2-9364-FB761BFE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8B2-AB19-4CA8-86DF-AD7CDA25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0DB-BE9E-481D-B778-E0D9CB29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7568-55C5-4E65-9824-DC14E179E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203480" y="2330280"/>
            <a:ext cx="673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ПОНЕДЕЛЬНИ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ДЕНЬ ВЕСЕЛЫЙ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827440" y="117144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(30 март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295280" y="674640"/>
            <a:ext cx="62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Утр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340000" y="19368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289160" y="1376280"/>
            <a:ext cx="70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еда с детьми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Как я провел выходны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Цель: Развивать связную речь детей, память, логическое мыш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гров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южетно-ролевые игры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Чаепитие у кукол», «Больн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идактические игры: «Чудесный мешочек», «Что такое хорошо и что такое плохо», «Угадай, чего не стало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рудовое поручение: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помоги взрослым накрыть стол к завтр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344600" y="4336920"/>
            <a:ext cx="7220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Зарядка «Утро уже просыпайся и новому дню улыбайся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004760" y="1052640"/>
            <a:ext cx="69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БРАЗОВ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936720" y="1844640"/>
            <a:ext cx="72705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у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ослушивание. П.И. Чайковский «Игра в лошад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Цель: познакомить детей с музыкальным произведением. Обсудить характер музыки: какая она – веселая или грустная; быстрая или медленная; что можно делать под такую музыку и т 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Чтение художественной литер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.Александрова «Мой мишк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Г.Цыферов «Когда не хватает игруш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 Барто . Стихи из цикла «Игрушки» (заучи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864080" y="907920"/>
            <a:ext cx="5415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АБЛЮДЕНИЯ Н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РОГУЛ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(или из ок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71640" y="208116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Признаки вес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Побеседуйте с детьми, о том как изменилась природа с приходом весны, как меняется цвет неба, какие природные явления можно увидеть весной, что происходит с деревьями и другими растениям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971640" y="4114800"/>
            <a:ext cx="7129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абота перед сном: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рослушать колыбельную «Серенькая кошечка села на окошечк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348640" y="62064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ТОРАЯ ПОЛОВИНА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042920" y="1341360"/>
            <a:ext cx="7345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гров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гры со строительным материалом, игры с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«Гараж для машинок», «Мебель для кук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идактическая игра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Сосчитаем кубик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(игровое упражнение на закрепление порядкового счета до 4-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бодные игры по выбору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рудовое поручение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брать игрушки посл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Чтение перед сном: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Л. Толстой «Птица свила гнездо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8T17:57:10Z</dcterms:created>
  <dc:creator>PC</dc:creator>
  <dc:description/>
  <dc:language>en-US</dc:language>
  <cp:lastModifiedBy>user</cp:lastModifiedBy>
  <dcterms:modified xsi:type="dcterms:W3CDTF">2020-03-29T12:20:59Z</dcterms:modified>
  <cp:revision>11</cp:revision>
  <dc:subject/>
  <dc:title>Слайд 1</dc:title>
</cp:coreProperties>
</file>