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3300-8E6B-4036-A4CF-4FB5C5962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720"/>
            <a:ext cx="90723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1060-F9EA-42B0-80CF-3B31E3AC9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7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960" y="43747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ECE0-DE75-4668-9F4E-DA58541A6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7683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7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480" y="43747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43747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70F6-D86D-46A1-91B3-AF74BE288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1551-35DB-4E2A-8781-B42664725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4A1E-9927-4CA6-9AA3-B5E0DA86D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071F-4DDA-4F57-83FF-B3A50A33D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CFFC-7151-460B-B057-68029F5C0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7236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D5AE-49E6-4B7F-99F5-7DC058388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7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D14A-A924-401E-B798-A833339E4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960" y="43747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68FC-4B6A-4041-AAA6-431206B16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720"/>
            <a:ext cx="90723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A3DB-E43F-4A21-975A-0020841B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99"/>
            </a:gs>
            <a:gs pos="100000">
              <a:srgbClr val="3333ff"/>
            </a:gs>
          </a:gsLst>
          <a:lin ang="4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Aft>
                <a:spcPts val="1412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Aft>
                <a:spcPts val="1412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Aft>
                <a:spcPts val="1412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Aft>
                <a:spcPts val="1412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Aft>
                <a:spcPts val="1412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936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792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B5554-9562-4DE2-B1E0-EB7E77B63B9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znaytovar.ru/s/Istoriya-reklamy--ot-drevnosti.html" TargetMode="External"/><Relationship Id="rId2" Type="http://schemas.openxmlformats.org/officeDocument/2006/relationships/hyperlink" Target="https://www.nkj.ru/archive/articles/5117/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НИСТЕРСТВО ОБРАЗОВАНИЯ РФ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НИЦИПАЛЬНОЕ ОБЩЕОБРАЗОВАТЕЛЬНОЕ УЧРЕЖДЕНИЕ 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РЕДНЯЯ ОБЩЕОБРАЗОВАТЕЛЬНАЯ ШКОЛА №62»</a:t>
            </a:r>
            <a:endParaRPr b="0" lang="en-US" sz="2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31640" y="936360"/>
            <a:ext cx="907272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сследовательский прое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Языковое манипулирование в реклам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3891960" y="5256360"/>
            <a:ext cx="6096960" cy="13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Выполнила ученица 7А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Привалова Гал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Наставник:  учитель русского языка и литера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Шолохова Ольга Владими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74480" y="-86040"/>
            <a:ext cx="9070920" cy="8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4360" y="1079640"/>
            <a:ext cx="9070920" cy="73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8000" indent="0" algn="just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так, в моей работе я рассмотрела, каким образом реклама воздействует на сознание и поведение людей.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8000" indent="0" algn="just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внешней привлекательности рекламной информации нужно всегда очень внимательно следить за тем, что так вежливо и настойчиво рекламируют. Не следует думать, что всякая реклама – зло, реклама существовала, существует и будет существовать, выполняя свою единственную функцию — продвижение товара и услуг. А языковое манипулирование как рекламный прием еще долго будет сохранять свою актуаль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576000" y="899640"/>
            <a:ext cx="9217080" cy="648036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lIns="0" rIns="0" tIns="0" bIns="0" anchor="t">
            <a:normAutofit fontScale="95000"/>
          </a:bodyPr>
          <a:p>
            <a:pPr algn="just"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1.Не верьте рекламе на слово!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Каждый раз, когда услышите или увидите что-нибудь вроде «лучшие цены» или «самый вкусный», спрашивайте: почему? Разве какой-либо продукт станет лучше от того, что у его производителя есть деньги на постоянную прокрутку? Вообще все прилагательные в превосходной форме наводят на мысль, что конкретно хорошего о рекламируемом товаре сказать нечего. 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2.Не обращайте внимание на интонацию, с которой говорят актеры или голоса за кадром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Актеры и дикторы – люди профессиональные, и им изобразить восторг при приобретении какого-либо рекламного товара не составляет труда. 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3.Помните о том, что вы смотрите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тарайтесь максимально абстрагироваться от видеоряда, не теряйте осознания того, что вы сидите перед телевизором и смотрите на мелькающие на экране картинки. Реклама – это далеко не шедевры мирового кино и «погружаться» в нее не надо.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4.Избежать негативного воздействия рекламы поможет нейтральное отношение к ней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Нейтральное отношение отражает совершенно другой смысл: реклама не есть «обращение лично ко мне», а есть нечто другое – признаки жизни каких-то организаций.  Как только мы перестанем ее воспринимать как обращение лично к нам, то всякое негативное воздействие рекламы исчезнет. 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5. И самое главное – думайте!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Большинство рекламных роликов не выдержат проверку простейшей логикой. Сразу становится понятно, что в реальной жизни люди так не поступают и не говорят такими красивыми и неестественными фразами.           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6"/>
          <p:cNvSpPr/>
          <p:nvPr/>
        </p:nvSpPr>
        <p:spPr>
          <a:xfrm>
            <a:off x="1181160" y="157320"/>
            <a:ext cx="8348760" cy="6300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 не стать зависимым от рекла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полезные советы для обучающихся и родителе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664000" y="1038960"/>
            <a:ext cx="4557600" cy="24372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СПИСОК ИСПОЛЬЗОВАННОЙ ЛИТЕРАТУРЫ.</a:t>
            </a:r>
            <a:endParaRPr b="0" lang="en-US" sz="1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44000" y="1547280"/>
            <a:ext cx="9649080" cy="568836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just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Энциклопедический словарь. М., 199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Сентенберг И.В., Карасик В.И. Псевдоаргументация: некоторые виды речевых манипуляций. СПб. ,199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Бердышев С.Н. Рекламный текст., 199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)Гурочкина А.Г. Социолингвистика русского языка. Языковые манипулирования. М., 200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рнет- ссылк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[5]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s://znaytovar.ru/s/Istoriya-reklamy--ot-drevnosti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[6] 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s://www.nkj.ru/archive/articles/5117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[7] 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http://elar.uspu.ru/bitstream/uspu/417/1/uch00013.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[8] 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http://www.marketch.ru/marketing_dictionary/marketing_terms_v/types_of_advertis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[9]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https://studwood.ru/1838041/marketing/rechevoe_vozdeystvie_yazykovoe_manipulirovanie_sotsialnoy_rekl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[10] 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https://studfiles.net/preview/2793312/page:8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[11] 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https://works.doklad.ru/view/3lBwAfp8lRM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[12] 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http://russkayarech.ru/files/issues/2013/3/14-trigubenko.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НИСТЕРСТВО ОБРАЗОВАНИЯ РФ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НИЦИПАЛЬНОЕ ОБЩЕОБРАЗОВАТЕЛЬНОЕ УЧРЕЖДЕНИЕ 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РЕДНЯЯ ОБЩЕОБРАЗОВАТЕЛЬНАЯ ШКОЛА №62»</a:t>
            </a:r>
            <a:endParaRPr b="0" lang="en-US" sz="2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31640" y="936360"/>
            <a:ext cx="907272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сследовательский прое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Языковое манипулирование в реклам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3"/>
          <p:cNvSpPr/>
          <p:nvPr/>
        </p:nvSpPr>
        <p:spPr>
          <a:xfrm>
            <a:off x="3891960" y="5256360"/>
            <a:ext cx="6096960" cy="13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Выполнила ученица 7А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Привалова Гал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Наставник:  учитель русского языка и литера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Шолохова Ольга Владими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Прямоугольник 3" descr=""/>
          <p:cNvPicPr/>
          <p:nvPr/>
        </p:nvPicPr>
        <p:blipFill>
          <a:blip r:embed="rId1"/>
          <a:stretch/>
        </p:blipFill>
        <p:spPr>
          <a:xfrm>
            <a:off x="1238400" y="73080"/>
            <a:ext cx="7961040" cy="1444680"/>
          </a:xfrm>
          <a:prstGeom prst="rect">
            <a:avLst/>
          </a:prstGeom>
          <a:ln w="0">
            <a:noFill/>
          </a:ln>
        </p:spPr>
      </p:pic>
      <p:sp>
        <p:nvSpPr>
          <p:cNvPr id="45" name="Овал 4"/>
          <p:cNvSpPr/>
          <p:nvPr/>
        </p:nvSpPr>
        <p:spPr>
          <a:xfrm>
            <a:off x="0" y="1417680"/>
            <a:ext cx="4173480" cy="1888920"/>
          </a:xfrm>
          <a:prstGeom prst="ellipse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еклама представляет собой развивающуюся сферу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Овал 5"/>
          <p:cNvSpPr/>
          <p:nvPr/>
        </p:nvSpPr>
        <p:spPr>
          <a:xfrm>
            <a:off x="5433840" y="1574640"/>
            <a:ext cx="4253040" cy="1890720"/>
          </a:xfrm>
          <a:prstGeom prst="ellipse">
            <a:avLst/>
          </a:prstGeom>
          <a:solidFill>
            <a:srgbClr val="e6b9b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лияние рекламы сказывается на употреблении русского языка и, следовательно, на развитии его систе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Овал 6"/>
          <p:cNvSpPr/>
          <p:nvPr/>
        </p:nvSpPr>
        <p:spPr>
          <a:xfrm>
            <a:off x="5354640" y="3859200"/>
            <a:ext cx="4175280" cy="2205000"/>
          </a:xfrm>
          <a:prstGeom prst="ellipse">
            <a:avLst/>
          </a:prstGeom>
          <a:solidFill>
            <a:srgbClr val="d996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лавная задача рекламиста– привлечь внимание к товару, заинтересовать потенциальных потребител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Овал 7"/>
          <p:cNvSpPr/>
          <p:nvPr/>
        </p:nvSpPr>
        <p:spPr>
          <a:xfrm>
            <a:off x="236520" y="3859200"/>
            <a:ext cx="4016520" cy="2205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еклама нас заинтересовала  как образец использования языка в качестве средства манипулирования созна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Крест 9"/>
          <p:cNvSpPr/>
          <p:nvPr/>
        </p:nvSpPr>
        <p:spPr>
          <a:xfrm>
            <a:off x="4173480" y="2992320"/>
            <a:ext cx="1417680" cy="944640"/>
          </a:xfrm>
          <a:prstGeom prst="plus">
            <a:avLst>
              <a:gd name="adj" fmla="val 25000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6000" y="-2160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Цели и задачи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31640" y="863640"/>
            <a:ext cx="9072720" cy="62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 algn="just">
              <a:spcAft>
                <a:spcPts val="1412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Цель: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Изучить,как создатели рекламы воздействуют на зрителя, заставляют его приобрести рекламируемый товар, используя при этом средства язы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spcAft>
                <a:spcPts val="1412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Задач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spcAft>
                <a:spcPts val="1412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-Определить функции реклам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spcAft>
                <a:spcPts val="1412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-Изучить композицию рекламного текст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0200" indent="0" algn="just">
              <a:spcAft>
                <a:spcPts val="1412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-Выявить особенности построения рекламных слоган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0200" indent="0" algn="just">
              <a:spcAft>
                <a:spcPts val="1412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-Провести опрос с целью выявления роли рекламного слогана и уровня его воздействия на сознание челове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0200" indent="0" algn="just">
              <a:spcAft>
                <a:spcPts val="1412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-Проанализировать рекламные ролики, которые мы в настоящий момент можем увидеть на экранах телевизоров, сосредоточив внимание на приемах, которые используют создатели рекламы, воздействуя на наше созна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spcAft>
                <a:spcPts val="1412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родукт: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Создание буклета «Как не стать зависимым от рекламы» (полезные советы для обучающихся и родителей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еклама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176360" y="1692000"/>
            <a:ext cx="5543640" cy="28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421560" indent="-317520" algn="just"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клама (от лат. Reclamare - «утверждать, выкрикивать, протестовать») - коммерческое средство массовой информаци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1560" indent="0">
              <a:spcAft>
                <a:spcPts val="1412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1560" indent="0">
              <a:spcAft>
                <a:spcPts val="1412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1560" indent="0">
              <a:spcAft>
                <a:spcPts val="1412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3" descr="17f.jpg"/>
          <p:cNvPicPr/>
          <p:nvPr/>
        </p:nvPicPr>
        <p:blipFill>
          <a:blip r:embed="rId1"/>
          <a:stretch/>
        </p:blipFill>
        <p:spPr>
          <a:xfrm>
            <a:off x="936720" y="1619280"/>
            <a:ext cx="3139920" cy="2808360"/>
          </a:xfrm>
          <a:prstGeom prst="rect">
            <a:avLst/>
          </a:prstGeom>
          <a:ln w="0">
            <a:noFill/>
          </a:ln>
        </p:spPr>
      </p:pic>
      <p:sp>
        <p:nvSpPr>
          <p:cNvPr id="55" name="TextBox 5"/>
          <p:cNvSpPr/>
          <p:nvPr/>
        </p:nvSpPr>
        <p:spPr>
          <a:xfrm>
            <a:off x="936720" y="4859280"/>
            <a:ext cx="849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направленное на привлечение внимания к объекту рекламирования и на его продвижение на рын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32920" y="275760"/>
            <a:ext cx="9820440" cy="14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 месту и способу размещения существуют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ледующие виды рекламы:</a:t>
            </a: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74480" y="243360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Реклама в средствах массовой информаци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Наружная реклам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Реклама на транспорте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ечатная реклама (раздатк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рямая реклам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Реклама в интернет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3" descr="341699.742xp.jpg"/>
          <p:cNvPicPr/>
          <p:nvPr/>
        </p:nvPicPr>
        <p:blipFill>
          <a:blip r:embed="rId1"/>
          <a:stretch/>
        </p:blipFill>
        <p:spPr>
          <a:xfrm>
            <a:off x="5256360" y="4572000"/>
            <a:ext cx="3528720" cy="264312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410760"/>
            <a:ext cx="9072360" cy="734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418680" indent="0" algn="just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своей работе  я рассмотрю приемы языкового манипулирования в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телевезионной рекламе.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8680" indent="0" algn="just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зыковое манипулирование, получившее широкое распространение в телерекламе, позволяет комплексно воздействовать на аудиторию и удерживать внимание. Рекламный текст выполняет несколько функци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8680" indent="-313920">
              <a:spcAft>
                <a:spcPts val="1412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ммуникативная функц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8680" indent="-313920">
              <a:spcAft>
                <a:spcPts val="1412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ункция аттракции, т.е. привлечения внима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8680" indent="-313920">
              <a:spcAft>
                <a:spcPts val="1412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ункция эмоционального воздейств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8680" indent="-313920">
              <a:spcAft>
                <a:spcPts val="1412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ункция запомина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8680"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502920" y="684000"/>
            <a:ext cx="9072360" cy="27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just">
              <a:spcAft>
                <a:spcPts val="1412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 целью выявить, на какие особенности обращают внимание люди при просмотре рекламы, проведен опрос школьнико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2" descr="анкетирование.jpg"/>
          <p:cNvPicPr/>
          <p:nvPr/>
        </p:nvPicPr>
        <p:blipFill>
          <a:blip r:embed="rId1"/>
          <a:stretch/>
        </p:blipFill>
        <p:spPr>
          <a:xfrm>
            <a:off x="6408720" y="3708360"/>
            <a:ext cx="181944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64" name="Объект 4" descr=""/>
          <p:cNvPicPr/>
          <p:nvPr/>
        </p:nvPicPr>
        <p:blipFill>
          <a:blip r:embed="rId1"/>
          <a:stretch/>
        </p:blipFill>
        <p:spPr>
          <a:xfrm>
            <a:off x="573120" y="390600"/>
            <a:ext cx="9296280" cy="644832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49040" y="-73440"/>
            <a:ext cx="4380120" cy="20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Выводы</a:t>
            </a:r>
            <a:r>
              <a:rPr b="0" lang="ru-RU" sz="4400" spc="-1" strike="noStrike">
                <a:solidFill>
                  <a:srgbClr val="1f497d"/>
                </a:solidFill>
                <a:latin typeface="Arial"/>
              </a:rPr>
              <a:t>:</a:t>
            </a:r>
            <a:br>
              <a:rPr sz="4400"/>
            </a:b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just">
              <a:lnSpc>
                <a:spcPct val="100000"/>
              </a:lnSpc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Опрошенные обращают внимание на иллюстрации в рекламе и предпочитают музыкальное сопровожд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Большая часть респондентов ошибок в рекламе не замеча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В запоминающихся слоганах, сказанных опрошенными, используются, в основном, ритм, рифма (Все будет кока-кола; Ваша киска купила бы Вискас; Сделай паузу, скушай Твикс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08T12:37:15Z</dcterms:created>
  <dc:creator>Галина Привалова</dc:creator>
  <dc:description/>
  <dc:language>en-US</dc:language>
  <cp:lastModifiedBy>Пользователь</cp:lastModifiedBy>
  <dcterms:modified xsi:type="dcterms:W3CDTF">2019-03-15T04:28:50Z</dcterms:modified>
  <cp:revision>26</cp:revision>
  <dc:subject/>
  <dc:title>МИНИСТЕРСТВО ОБРАЗОВАНИЯ РФ МУНИЦИПАЛЬНОЕ ОБЩЕОБРАЗОВАТЕЛЬНОЕ УЧРЕЖДЕНИЕ   «СРЕДНЯЯ ОБЩЕОБРАЗОВАТЕЛЬНАЯ ШКОЛА №62»</dc:title>
</cp:coreProperties>
</file>