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A54-0688-4AD0-8D6C-A79E453F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7BB-48CC-42C8-BD9B-701FB176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D2109-4DF0-4820-A4BE-237E3511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4F589-80AD-4E4D-BD0C-9C458810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8769A-9324-40B1-BC82-8C6D9B4A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63CFC-DD94-4B88-9A7E-7E5100D4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16029-668E-4262-8681-2BAF56B8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2C205-7E5D-4492-9CE1-3FB4F727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D4F0D-42A5-4A9A-A1C3-BBB87B25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EDC8D-A826-4EC1-BABE-3B1635CC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89AF2-DB95-4933-AB71-F2F431EE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6C250-9A37-462A-B42F-E7ACD101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693-8659-48F2-978F-26AE5706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22C65-43DD-4911-A705-63701E2A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232ED-EA86-418E-AE25-C7FBD4D3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68340-47BB-45E6-9CEA-D893DE66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1992F-F273-43EA-B613-07CFA54C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91471-25A5-49CA-8C5C-9F8F314E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0CA0C-D918-4839-9295-C004711E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63046-6B00-43F9-8C60-A6CAAC4F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FA846-44E0-4CBD-8B21-D7B992FB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0599B-FF1B-4DDB-B291-6B18F421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FC2D1-63D1-4440-A6A4-1B4AB2FF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D22-F220-4263-8E00-5B8EBFA0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50F24-E3D2-4565-BCC6-39D658A2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3B54-5571-4E34-B8F0-36FED786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DDC5-17F5-4D3C-8DFB-B9B197CD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1803-8C8E-4C17-A314-7140E625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97D9-8FB7-45F4-9675-A54EF7EE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E818-D8A7-496A-B691-053332BD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FA3C-FFE4-40DC-8693-E7C7D1F8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C918-B850-4802-A273-2CB03B60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73A-A0E3-45BD-8E3B-88CBAD0E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E23B-8A3F-4468-BE22-C93DDCAC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DFA8-B855-4C58-BFD3-7B199396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B88E-5C3F-4BBB-80F0-6B912AC5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6749-8082-437C-AA97-10C7E657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51C8-A5C0-4194-A914-E04BAE02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D502-F398-430D-B882-C77370A7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9D50-E5F1-4478-8B5B-BCABBF71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DE95-2D15-4309-95C1-E993476F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C47CB-2C02-4F4E-BBFB-AABD90F0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67DDC-531D-461F-AEF2-551C1766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0CA-FFF8-4026-B04D-85303802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932C-421B-4475-9F4F-ECFDB609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4598-5D58-4B47-91E1-E10809EC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2CD5-445A-4BDA-90B7-C5B370D3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023A-9D5C-486D-B987-11C5AECF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5E56B-CE60-4D8C-9154-F52C5F16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99DF7-9CC1-4F23-828F-10D478E7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6FE4-0E35-4203-B023-D9486E2D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DDBD7-8F7B-4C59-92E1-3CDCEF59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72543-BCE6-4AEA-9457-AD76246D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5653-A462-4E6F-95CB-0EF6E717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D22-8E72-47E9-8E91-04E84B77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D8148-785F-4A4C-B87F-F81FA567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ECA26-E664-49BC-94E9-57D1AA25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0B9AF-3D2B-4DA8-95D6-E35EC61D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5193-4EBD-4FA8-8206-DC238ACC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B1949-7AF3-40FC-AFE2-3D97A399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10F26-FBCE-48F7-A792-7AF17CC3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7A2F-CF8E-4145-BF8D-87D33672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91DE-1709-4AE1-AE83-79BD9CC7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5DC70-F3CE-452F-865F-C90EDB07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B0543-06A3-419F-9900-1F81A850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264-E9A8-47E1-B35F-9B148D4C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D2F17-84C7-4421-8292-2D8FACE7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CFA57-BED3-46E4-9D16-6DE7EF6D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99001-3DA4-4093-829E-D7C932E2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F889-1ADB-4B66-AF89-7257400B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2CD2F-B1B7-4A5A-A7BF-FC53208B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1BDA8-B217-456A-9117-84F958DD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11C28-A538-4F65-910D-7F4D9BFB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17058-677C-4D54-969F-97C9A60A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7150C-C875-47E3-8F6D-7CCE47EC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775A7-C3F8-463F-9DD2-CF20A90B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A15-9148-4B9A-A716-9C243562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F8CD5-2717-466E-862A-DA116372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FC776-EF6F-46CC-8B31-92A92143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EA389-0DF2-4A96-AF94-F1552F8F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B097F-AAB4-4A51-B696-41ACB94D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A2789-2498-40E6-B7A7-F8E185D2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CE238-DAC4-41BE-B0F2-EF868CEA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E63B6-E494-490C-815A-0B75677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87CB7-2775-4DB6-9447-4647CF98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AA9B0-3126-463F-87AF-A3BA7E55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B203C-ABAB-4FDF-8E96-51803DA9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31C-3DF4-4B52-8068-2C881A14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D5F45-E896-4417-BFDD-C4D62621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8666C-83F1-4D5A-88A6-742A38C4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734BA-4CBC-4BF7-974C-8923B72E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5BD7C-E9F5-4F80-83F3-4ABC851C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B5B8D-BAC0-400B-868B-DA2B5925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D29E0-F67A-4F76-99BA-FA39491A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F86CF-A6AB-4DF7-840E-326B7635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8E831-4AD2-464C-AD48-8BEB066E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C1B19-DA61-455C-8765-38B91735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81AF8-C677-4287-ABA3-4CD20F8B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B74-E4AE-410C-A7D8-2BE28DB1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AF918-B707-4DF5-8616-70E0BF0B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11C29-1ED8-4092-A586-237EC7A3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7D14C-A193-41AE-9FF8-E3A4B56D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16238-780D-48BE-B3CB-3C806627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DF058-6FE6-4A46-A278-4A17D273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79008-ADAF-4E76-B8F5-1E042B3A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6615B-EBEF-4F70-AF04-A17446D0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EEE08-4BB3-4DD1-A3A9-0FE6F4D1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0443D-0110-4FA0-83CF-63182D96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6F6E3-256F-467A-9056-B2AD4B27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F0C-A1CE-4BC9-9727-D1AA5F88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1FBA4-8C40-490C-8A34-D8C58098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7DFC7-C95A-4C97-BE2D-E433DA20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A139B-B9E9-49D9-BF18-04227C8D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99BB1-A359-4791-8607-D8556434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DE441-B33B-4C59-90B3-F5723434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8D54E-A90F-4B24-9A0E-31BD42F3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53B6D-9F96-4A5A-8665-83B232E4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FEB50-239A-4564-B00D-B7298E2B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81199-B5ED-4EC3-B304-9EB53532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FA42C-7D34-4B8F-A747-D6343ED2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7F58-3879-4504-8959-13A3A9E76AB7}" type="datetime">
              <a:rPr b="0" lang="ru-RU" sz="1000" spc="-1" strike="noStrike">
                <a:solidFill>
                  <a:srgbClr val="4e3b30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271C-E377-4706-9A97-3DAC11652344}" type="slidenum">
              <a:rPr b="0" lang="ru-RU" sz="1000" spc="-1" strike="noStrike">
                <a:solidFill>
                  <a:srgbClr val="4e3b3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61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468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EE89-FDB8-4741-B173-61E8465717B2}" type="datetime">
              <a:rPr b="0" lang="ru-RU" sz="1000" spc="-1" strike="noStrike">
                <a:solidFill>
                  <a:srgbClr val="4e3b30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7179-F2BA-4022-87FA-CFC1997F9AE4}" type="slidenum">
              <a:rPr b="0" lang="ru-RU" sz="1000" spc="-1" strike="noStrike">
                <a:solidFill>
                  <a:srgbClr val="4e3b3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0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7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5C7B-B24A-4B2F-A5CE-7F85203E403E}" type="datetime">
              <a:rPr b="0" lang="ru-RU" sz="1000" spc="-1" strike="noStrike">
                <a:solidFill>
                  <a:srgbClr val="4e3b30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C735-5440-423B-B43C-3DFC0519A7B1}" type="slidenum">
              <a:rPr b="0" lang="ru-RU" sz="1000" spc="-1" strike="noStrike">
                <a:solidFill>
                  <a:srgbClr val="4e3b3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05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D537-61F4-4216-A9E1-AA48DEBA4D98}" type="datetime">
              <a:rPr b="0" lang="ru-RU" sz="1000" spc="-1" strike="noStrike">
                <a:solidFill>
                  <a:srgbClr val="4e3b30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F979-3460-4456-A6F1-70D1B6F1221D}" type="slidenum">
              <a:rPr b="0" lang="ru-RU" sz="1000" spc="-1" strike="noStrike">
                <a:solidFill>
                  <a:srgbClr val="4e3b3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53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fbeec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fbeec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6CE8-F272-498A-85FF-E9B96ED7862A}" type="datetime">
              <a:rPr b="0" lang="ru-RU" sz="1000" spc="-1" strike="noStrike">
                <a:solidFill>
                  <a:srgbClr val="4e3b30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9313-D243-4B43-BA4D-F5DDC5BF98F3}" type="slidenum">
              <a:rPr b="0" lang="ru-RU" sz="1000" spc="-1" strike="noStrike">
                <a:solidFill>
                  <a:srgbClr val="4e3b3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07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BB86-C570-4D28-87AC-C1913F07B623}" type="datetime">
              <a:rPr b="0" lang="ru-RU" sz="1000" spc="-1" strike="noStrike">
                <a:solidFill>
                  <a:srgbClr val="4e3b30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29A3-EB86-429D-954D-40AE4E9BDDFF}" type="slidenum">
              <a:rPr b="0" lang="ru-RU" sz="1000" spc="-1" strike="noStrike">
                <a:solidFill>
                  <a:srgbClr val="4e3b3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55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202E-4B7C-4783-9311-3A9932479D31}" type="datetime">
              <a:rPr b="0" lang="ru-RU" sz="1000" spc="-1" strike="noStrike">
                <a:solidFill>
                  <a:srgbClr val="4e3b30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FEED-3E36-4E5A-9411-2085FD4B6031}" type="slidenum">
              <a:rPr b="0" lang="ru-RU" sz="1000" spc="-1" strike="noStrike">
                <a:solidFill>
                  <a:srgbClr val="4e3b3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03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10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79D4-6BD7-4E16-AE6D-60CE1C6C83DD}" type="datetime">
              <a:rPr b="0" lang="ru-RU" sz="1000" spc="-1" strike="noStrike">
                <a:solidFill>
                  <a:srgbClr val="4e3b30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0D52-8B56-4FFB-9A5A-BE37F000CD53}" type="slidenum">
              <a:rPr b="0" lang="ru-RU" sz="1000" spc="-1" strike="noStrike">
                <a:solidFill>
                  <a:srgbClr val="4e3b3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58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3D6-7084-4204-BF13-7FD94FDDE609}" type="datetime">
              <a:rPr b="0" lang="ru-RU" sz="1000" spc="-1" strike="noStrike">
                <a:solidFill>
                  <a:srgbClr val="4e3b30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9E6D-6F08-427A-BF47-44D4E05E507F}" type="slidenum">
              <a:rPr b="0" lang="ru-RU" sz="1000" spc="-1" strike="noStrike">
                <a:solidFill>
                  <a:srgbClr val="4e3b3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c87d0e"/>
              </a:gs>
              <a:gs pos="100000">
                <a:srgbClr val="f6c7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13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fbeec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fbeec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8DFB-6AA2-4496-9418-CD9B3DA2D5F0}" type="datetime">
              <a:rPr b="0" lang="ru-RU" sz="1000" spc="-1" strike="noStrike">
                <a:solidFill>
                  <a:srgbClr val="4e3b30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3b30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ECE1-8A20-4349-ACB1-B768FDBD2911}" type="slidenum">
              <a:rPr b="0" lang="ru-RU" sz="1000" spc="-1" strike="noStrike">
                <a:solidFill>
                  <a:srgbClr val="4e3b3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93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ализация  ООП  ОО и НО в области воспитания и социализации»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БОУ «СОШ №3»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ГО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563640" y="4076280"/>
            <a:ext cx="4824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 по УВР </a:t>
            </a:r>
            <a:endParaRPr b="0" lang="en-US" sz="2000" spc="-1" strike="noStrike">
              <a:solidFill>
                <a:srgbClr val="4e3b30"/>
              </a:solidFill>
              <a:latin typeface="Candar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ОШ№3» ПГО</a:t>
            </a:r>
            <a:endParaRPr b="0" lang="en-US" sz="2000" spc="-1" strike="noStrike">
              <a:solidFill>
                <a:srgbClr val="4e3b30"/>
              </a:solidFill>
              <a:latin typeface="Candar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Партизанск </a:t>
            </a:r>
            <a:endParaRPr b="0" lang="en-US" sz="2000" spc="-1" strike="noStrike">
              <a:solidFill>
                <a:srgbClr val="4e3b30"/>
              </a:solidFill>
              <a:latin typeface="Candar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рский край</a:t>
            </a:r>
            <a:endParaRPr b="0" lang="en-US" sz="2000" spc="-1" strike="noStrike">
              <a:solidFill>
                <a:srgbClr val="4e3b30"/>
              </a:solidFill>
              <a:latin typeface="Candar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ова Лариса Павловна</a:t>
            </a:r>
            <a:endParaRPr b="0" lang="en-US" sz="2000" spc="-1" strike="noStrike">
              <a:solidFill>
                <a:srgbClr val="4e3b30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871560" y="1557000"/>
            <a:ext cx="740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диагностики является выяснение того, являются ли (и в какой степени) воспитывающими те виды деятельности, которыми занят школьник.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рвый предмет диагностики - это личность самого воспитанника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торой предмет диагностики — это детский коллектив как одно из важнейших условий развития личности ученика.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ретий предмет диагностики — это профессиональная позиция педагога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эффективности воспитательной деятельности школьников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C94C-A787-48EB-A08B-CCAD1354A060}" type="slidenum">
              <a:rPr b="0" lang="ru-RU" sz="1000" spc="-1" strike="noStrike">
                <a:solidFill>
                  <a:srgbClr val="4e3b3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871560" y="981000"/>
            <a:ext cx="7408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учение или воспитание нельзя создавать, можно лишь инициировать, провоцировать его возникновение, задавая для этого необходимые и достаточные условия.</a:t>
            </a:r>
            <a:endParaRPr b="0" lang="en-US" sz="2800" spc="-1" strike="noStrike">
              <a:solidFill>
                <a:srgbClr val="4e3b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andar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DDD2-0EEE-42B6-9E6F-A60FCC471CAA}" type="slidenum">
              <a:rPr b="0" lang="ru-RU" sz="1000" spc="-1" strike="noStrike">
                <a:solidFill>
                  <a:srgbClr val="4e3b3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Рисунок 5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3457440" cy="2664000"/>
          </a:xfrm>
          <a:prstGeom prst="rect">
            <a:avLst/>
          </a:prstGeom>
          <a:ln w="0">
            <a:noFill/>
          </a:ln>
        </p:spPr>
      </p:pic>
      <p:pic>
        <p:nvPicPr>
          <p:cNvPr id="580" name="Рисунок 6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23640" y="1125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marL="272880" indent="-272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чность не воспитывается по частям, а создаётся синтетически всей суммой влияния, которым она подвластна». </a:t>
            </a:r>
            <a:endParaRPr b="0" lang="en-US" sz="2800" spc="-1" strike="noStrike">
              <a:solidFill>
                <a:srgbClr val="4e3b30"/>
              </a:solidFill>
              <a:latin typeface="Candara"/>
            </a:endParaRPr>
          </a:p>
          <a:p>
            <a:pPr marL="272880" indent="-272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Макаренко</a:t>
            </a:r>
            <a:endParaRPr b="0" lang="en-US" sz="2800" spc="-1" strike="noStrike">
              <a:solidFill>
                <a:srgbClr val="4e3b30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57200" y="609480"/>
            <a:ext cx="5105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цепция духов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равствен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питания 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жданин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 flipV="1" rot="10800000">
            <a:off x="533520" y="4494960"/>
            <a:ext cx="396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р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питания и со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учаю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6019920" y="434340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e3b30"/>
                </a:solidFill>
                <a:latin typeface="Arial"/>
              </a:rPr>
              <a:t>Программы развития воспитательной компоненты в О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2"/>
          <p:cNvSpPr/>
          <p:nvPr/>
        </p:nvSpPr>
        <p:spPr>
          <a:xfrm>
            <a:off x="1660680" y="3313080"/>
            <a:ext cx="512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2547720" y="3465360"/>
            <a:ext cx="49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ственная программа воспитания и социализации обучаю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5791320" y="762120"/>
            <a:ext cx="335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О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1"/>
          <p:cNvSpPr/>
          <p:nvPr/>
        </p:nvSpPr>
        <p:spPr>
          <a:xfrm>
            <a:off x="380880" y="3048120"/>
            <a:ext cx="8534520" cy="106668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воспитания и социализации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тупени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Структура программы воспитания 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социализации обучающихся на ступени ООО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5.1. 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Цель и задачи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спитания и социализации обучающихся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5.2. Основные 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правления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и ценностные основы воспитания и социализации обучающихся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5.3. 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нципы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и особенности организации содержания воспитания и социализации обучающихся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5.4. 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новное содержание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уховно-нравственного развития и воспитания обучающихся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5.5. 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ды деятельности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формы занятий с обучающимися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5.6.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Этапы организации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циализации обучающихся, 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вместной деятельности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разовательного учреждения с </a:t>
            </a: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дприятиями, общественными организациями, системой дополнительного образования,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иными социальными субъектами</a:t>
            </a: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гражданственности, патриотизма, уважения к правам, свободам и обязанностям человек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0" y="1628640"/>
          <a:ext cx="8858160" cy="5459400"/>
        </p:xfrm>
        <a:graphic>
          <a:graphicData uri="http://schemas.openxmlformats.org/drawingml/2006/table">
            <a:tbl>
              <a:tblPr/>
              <a:tblGrid>
                <a:gridCol w="1550880"/>
                <a:gridCol w="1527120"/>
                <a:gridCol w="5780160"/>
              </a:tblGrid>
              <a:tr h="73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и формы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половина учебного 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ружк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«Журналистика», «Школа чемпионо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раеведение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поведное Приморье», «Живая Планет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по основам безопасности жизнедеятельности: встречи с ветеранами, уроки мужества, просмотр фильмов патриотической направленности, смотр песни и стро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адная физическая подготовка: тематические сборы, творческие конкуры (песни, рисунка, фотографии и др.), военно – спортивные праздники («Зарница», «Юный спасатель» и др.)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чник оборонно-массовой работы, вахта памяти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половина учебного дня, выходные д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 дополнительно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ику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8" name="Rectangle 1"/>
          <p:cNvSpPr/>
          <p:nvPr/>
        </p:nvSpPr>
        <p:spPr>
          <a:xfrm>
            <a:off x="-228600" y="4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-509760"/>
            <a:ext cx="8229600" cy="10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04920" y="620640"/>
          <a:ext cx="8429400" cy="5240520"/>
        </p:xfrm>
        <a:graphic>
          <a:graphicData uri="http://schemas.openxmlformats.org/drawingml/2006/table">
            <a:tbl>
              <a:tblPr/>
              <a:tblGrid>
                <a:gridCol w="2682720"/>
                <a:gridCol w="1889280"/>
                <a:gridCol w="3857400"/>
              </a:tblGrid>
              <a:tr h="610200">
                <a:tc rowSpan="2"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ие социальной ответственности и компетен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и формы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беседы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жки «Волшебные краски», «Умелые ручки»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бщественный смотр знаний, интеллектуальный клуб «Белая ладья"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ские исследовательские проекты, внешкольные акции познавательной направленности (конференции учащихся, «Одарёнок», интеллектуальные марафоны и т.п.)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 дополнительно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440"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1" name="Rectangle 1"/>
          <p:cNvSpPr/>
          <p:nvPr/>
        </p:nvSpPr>
        <p:spPr>
          <a:xfrm>
            <a:off x="1619280" y="333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Социальное направлени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395280" y="1268280"/>
          <a:ext cx="8358120" cy="4824720"/>
        </p:xfrm>
        <a:graphic>
          <a:graphicData uri="http://schemas.openxmlformats.org/drawingml/2006/table">
            <a:tbl>
              <a:tblPr/>
              <a:tblGrid>
                <a:gridCol w="1500120"/>
                <a:gridCol w="1928880"/>
                <a:gridCol w="49291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ные виды деятельности и формы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половина учебного 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рамках проекта «Благоустройство школьной территории», «Благоустройство горорда»; работа по озеленению класса, школы; организация дежурства в классе; профориентационные беседы, встречи с представителями разных профессий; выставки поделок и детского творчества; трудовые десанты, субботники; социальные пробы (инициативное участие ребенка в социальных акциях, организованных взрослыми); КТД (коллективное творческое дело); социально-образовательные проект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половина учебного дня, выходные д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 дополнительно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е оздоровительные лаге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57150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ику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25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Внеклассная, внешкольная деятельность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536" name="Diagram 27"/>
          <p:cNvGrpSpPr/>
          <p:nvPr/>
        </p:nvGrpSpPr>
        <p:grpSpPr>
          <a:xfrm>
            <a:off x="-757080" y="2205000"/>
            <a:ext cx="9900000" cy="4652640"/>
            <a:chOff x="-757080" y="2205000"/>
            <a:chExt cx="9900000" cy="4652640"/>
          </a:xfrm>
        </p:grpSpPr>
        <p:sp>
          <p:nvSpPr>
            <p:cNvPr id="537" name="_s273413"/>
            <p:cNvSpPr/>
            <p:nvPr/>
          </p:nvSpPr>
          <p:spPr>
            <a:xfrm flipH="1" flipV="1">
              <a:off x="2370600" y="3403080"/>
              <a:ext cx="1211040" cy="75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_s273414"/>
            <p:cNvSpPr/>
            <p:nvPr/>
          </p:nvSpPr>
          <p:spPr>
            <a:xfrm>
              <a:off x="734760" y="2563200"/>
              <a:ext cx="2068560" cy="93420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круж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_s273415"/>
            <p:cNvSpPr/>
            <p:nvPr/>
          </p:nvSpPr>
          <p:spPr>
            <a:xfrm flipH="1" flipV="1">
              <a:off x="1251360" y="4100760"/>
              <a:ext cx="195840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_s273416"/>
            <p:cNvSpPr/>
            <p:nvPr/>
          </p:nvSpPr>
          <p:spPr>
            <a:xfrm>
              <a:off x="-757080" y="3494160"/>
              <a:ext cx="2068560" cy="93420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сек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_s273417"/>
            <p:cNvSpPr/>
            <p:nvPr/>
          </p:nvSpPr>
          <p:spPr>
            <a:xfrm flipH="1">
              <a:off x="1251360" y="4677120"/>
              <a:ext cx="19620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_s273418"/>
            <p:cNvSpPr/>
            <p:nvPr/>
          </p:nvSpPr>
          <p:spPr>
            <a:xfrm>
              <a:off x="-753480" y="4642920"/>
              <a:ext cx="2069640" cy="93420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кругл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стол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_s273419"/>
            <p:cNvSpPr/>
            <p:nvPr/>
          </p:nvSpPr>
          <p:spPr>
            <a:xfrm flipH="1">
              <a:off x="2374920" y="4908600"/>
              <a:ext cx="1214640" cy="75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_s273420"/>
            <p:cNvSpPr/>
            <p:nvPr/>
          </p:nvSpPr>
          <p:spPr>
            <a:xfrm>
              <a:off x="772560" y="5553000"/>
              <a:ext cx="2065320" cy="93420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диспу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_s273421"/>
            <p:cNvSpPr/>
            <p:nvPr/>
          </p:nvSpPr>
          <p:spPr>
            <a:xfrm>
              <a:off x="4192920" y="4996080"/>
              <a:ext cx="3960" cy="93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_s273422"/>
            <p:cNvSpPr/>
            <p:nvPr/>
          </p:nvSpPr>
          <p:spPr>
            <a:xfrm>
              <a:off x="3164400" y="5923440"/>
              <a:ext cx="2068560" cy="93420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Олимпиа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соревн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_s273423"/>
            <p:cNvSpPr/>
            <p:nvPr/>
          </p:nvSpPr>
          <p:spPr>
            <a:xfrm>
              <a:off x="4800960" y="4906800"/>
              <a:ext cx="1206720" cy="75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_s273424"/>
            <p:cNvSpPr/>
            <p:nvPr/>
          </p:nvSpPr>
          <p:spPr>
            <a:xfrm>
              <a:off x="5582520" y="5566680"/>
              <a:ext cx="2068560" cy="93456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оиско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_s273425"/>
            <p:cNvSpPr/>
            <p:nvPr/>
          </p:nvSpPr>
          <p:spPr>
            <a:xfrm>
              <a:off x="5172840" y="4673520"/>
              <a:ext cx="1954800" cy="28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_s273426"/>
            <p:cNvSpPr/>
            <p:nvPr/>
          </p:nvSpPr>
          <p:spPr>
            <a:xfrm>
              <a:off x="7074360" y="4637520"/>
              <a:ext cx="2068560" cy="9345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конферен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_s273427"/>
            <p:cNvSpPr/>
            <p:nvPr/>
          </p:nvSpPr>
          <p:spPr>
            <a:xfrm flipV="1">
              <a:off x="5168520" y="4099320"/>
              <a:ext cx="195912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_s273428"/>
            <p:cNvSpPr/>
            <p:nvPr/>
          </p:nvSpPr>
          <p:spPr>
            <a:xfrm>
              <a:off x="7074360" y="3489120"/>
              <a:ext cx="2068560" cy="93420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Соци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рактик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_s273429"/>
            <p:cNvSpPr/>
            <p:nvPr/>
          </p:nvSpPr>
          <p:spPr>
            <a:xfrm flipV="1">
              <a:off x="4793040" y="3403080"/>
              <a:ext cx="1211040" cy="75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_s273430"/>
            <p:cNvSpPr/>
            <p:nvPr/>
          </p:nvSpPr>
          <p:spPr>
            <a:xfrm>
              <a:off x="5579280" y="2559960"/>
              <a:ext cx="2068560" cy="93420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роек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_s273431"/>
            <p:cNvSpPr/>
            <p:nvPr/>
          </p:nvSpPr>
          <p:spPr>
            <a:xfrm flipV="1">
              <a:off x="4189680" y="3137040"/>
              <a:ext cx="0" cy="92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_s273432"/>
            <p:cNvSpPr/>
            <p:nvPr/>
          </p:nvSpPr>
          <p:spPr>
            <a:xfrm>
              <a:off x="3156480" y="2205000"/>
              <a:ext cx="2069640" cy="93420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_s273433"/>
            <p:cNvSpPr/>
            <p:nvPr/>
          </p:nvSpPr>
          <p:spPr>
            <a:xfrm>
              <a:off x="2811240" y="4095720"/>
              <a:ext cx="2581560" cy="934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Arial"/>
                </a:rPr>
                <a:t>Форм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F2FF-A155-403F-8D64-1F9AF3E05ADE}" type="slidenum">
              <a:rPr b="0" lang="ru-RU" sz="1000" spc="-1" strike="noStrike">
                <a:solidFill>
                  <a:srgbClr val="37292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0" y="1371600"/>
            <a:ext cx="2057400" cy="9144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спортив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здоровите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324000" y="2276640"/>
            <a:ext cx="433080" cy="40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971640" y="620640"/>
            <a:ext cx="7200720" cy="36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Направленная на развит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7"/>
          <p:cNvSpPr/>
          <p:nvPr/>
        </p:nvSpPr>
        <p:spPr>
          <a:xfrm>
            <a:off x="2057400" y="1371600"/>
            <a:ext cx="1596960" cy="9144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духов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нравстве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3657600" y="1447920"/>
            <a:ext cx="1368360" cy="9144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соци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2"/>
          <p:cNvSpPr/>
          <p:nvPr/>
        </p:nvSpPr>
        <p:spPr>
          <a:xfrm rot="5400000">
            <a:off x="4497480" y="-1753200"/>
            <a:ext cx="432000" cy="59007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53720 h 5900760"/>
              <a:gd name="textAreaBottom" fmla="*/ 5747040 h 590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47"/>
                </a:lnTo>
                <a:cubicBezTo>
                  <a:pt x="10800" y="10447"/>
                  <a:pt x="5400" y="11347"/>
                  <a:pt x="0" y="11347"/>
                </a:cubicBezTo>
                <a:cubicBezTo>
                  <a:pt x="5400" y="11347"/>
                  <a:pt x="10800" y="12247"/>
                  <a:pt x="10800" y="1314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cc3300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5"/>
          <p:cNvSpPr/>
          <p:nvPr/>
        </p:nvSpPr>
        <p:spPr>
          <a:xfrm>
            <a:off x="5105520" y="1295280"/>
            <a:ext cx="1828800" cy="103212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интеллекту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6"/>
          <p:cNvSpPr/>
          <p:nvPr/>
        </p:nvSpPr>
        <p:spPr>
          <a:xfrm>
            <a:off x="6948360" y="1371600"/>
            <a:ext cx="2195640" cy="9558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бщекультур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9"/>
          <p:cNvSpPr/>
          <p:nvPr/>
        </p:nvSpPr>
        <p:spPr>
          <a:xfrm>
            <a:off x="3731040" y="2465640"/>
            <a:ext cx="104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учны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50"/>
          <p:cNvSpPr/>
          <p:nvPr/>
        </p:nvSpPr>
        <p:spPr>
          <a:xfrm>
            <a:off x="7093080" y="2421000"/>
            <a:ext cx="1993680" cy="3744720"/>
          </a:xfrm>
          <a:custGeom>
            <a:avLst/>
            <a:gdLst>
              <a:gd name="textAreaLeft" fmla="*/ 208440 w 1993680"/>
              <a:gd name="textAreaRight" fmla="*/ 1785240 w 1993680"/>
              <a:gd name="textAreaTop" fmla="*/ 208440 h 3744720"/>
              <a:gd name="textAreaBottom" fmla="*/ 3536280 h 3744720"/>
            </a:gdLst>
            <a:ahLst/>
            <a:rect l="textAreaLeft" t="textAreaTop" r="textAreaRight" b="textAreaBottom"/>
            <a:pathLst>
              <a:path w="21600" h="40568">
                <a:moveTo>
                  <a:pt x="7722" y="0"/>
                </a:moveTo>
                <a:arcTo wR="7722" hR="7722" stAng="16200000" swAng="-5400000"/>
                <a:lnTo>
                  <a:pt x="0" y="32846"/>
                </a:lnTo>
                <a:arcTo wR="7722" hR="7722" stAng="10800000" swAng="-5400000"/>
                <a:lnTo>
                  <a:pt x="13878" y="40568"/>
                </a:lnTo>
                <a:arcTo wR="7722" hR="7722" stAng="5400000" swAng="-5400000"/>
                <a:lnTo>
                  <a:pt x="21600" y="7722"/>
                </a:lnTo>
                <a:arcTo wR="7722" hR="7722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занятий долж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формироваться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учётом пожел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бучающихся и 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родителей 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существля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посредст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различных фор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тличных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урочной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214200" y="642960"/>
          <a:ext cx="8786880" cy="3119400"/>
        </p:xfrm>
        <a:graphic>
          <a:graphicData uri="http://schemas.openxmlformats.org/drawingml/2006/table">
            <a:tbl>
              <a:tblPr/>
              <a:tblGrid>
                <a:gridCol w="428760"/>
                <a:gridCol w="2714760"/>
                <a:gridCol w="564336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28008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портивно-оздоровите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«Школа чемпион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итмика с элементами акроба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28008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бщекультур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Театральный колейдоско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нтазё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итор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80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Духовно-нравственн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рай, в котором я жи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Школа вежливых на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ая  деятельность МБОУ «СОШ №3» в 2019-2020 уч.года: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9BCC-3EA2-42D2-BF07-069B55FE5780}" type="slidenum">
              <a:rPr b="0" lang="ru-RU" sz="1000" spc="-1" strike="noStrike">
                <a:solidFill>
                  <a:srgbClr val="4e3b3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4200" y="3860640"/>
          <a:ext cx="8715600" cy="2602080"/>
        </p:xfrm>
        <a:graphic>
          <a:graphicData uri="http://schemas.openxmlformats.org/drawingml/2006/table">
            <a:tbl>
              <a:tblPr/>
              <a:tblGrid>
                <a:gridCol w="428760"/>
                <a:gridCol w="2714760"/>
                <a:gridCol w="5572080"/>
              </a:tblGrid>
              <a:tr h="55980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e3d1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бщеинтеллектуальн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e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Живая план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0db"/>
                    </a:solidFill>
                  </a:tcPr>
                </a:tc>
              </a:tr>
              <a:tr h="55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руд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5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28008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оциа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Юный эк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доровое пи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4:47:01Z</dcterms:created>
  <dc:creator>User</dc:creator>
  <dc:description/>
  <dc:language>en-US</dc:language>
  <cp:lastModifiedBy>Лариса</cp:lastModifiedBy>
  <dcterms:modified xsi:type="dcterms:W3CDTF">2020-03-30T04:51:16Z</dcterms:modified>
  <cp:revision>644</cp:revision>
  <dc:subject/>
  <dc:title>Презентация PowerPoint</dc:title>
</cp:coreProperties>
</file>