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gif" ContentType="image/gif"/>
  <Override PartName="/ppt/media/image7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0C8E-E75C-4DC3-9F42-6906CB602A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EB47-ACBA-49D7-8972-C087AD710B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B32E-961F-4118-9A46-42C25BFA51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416C-D91B-45C6-BDBA-9D54E6AE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6B9C-1ACE-426E-BFC8-115DC030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A73D-2B52-494A-8FA6-669F3837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5F1-30BE-4E7B-9441-F9532099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72EA-1E4E-476E-8AAD-B4A00C56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8BF-192B-4477-AB45-D0639C3B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EAE-E0E2-4D4C-81A7-1B80CBDE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2826-2E7E-4F5B-8F3F-AD6D66EE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337-311D-44F8-A9EF-629440CD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7347-85C9-43DA-857A-68C40D1D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E57-0BF4-4E2E-B76D-5A6B8342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44D-3B55-4677-A85A-899A3FC5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3D62-F11E-43E0-85A1-D261E30CBC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79280" y="476280"/>
            <a:ext cx="345600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ные направления работы 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БОУ «СОШ№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бновление содержания образования (ФГО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системы мониторинга качества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ершенствование образовательного процесс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851280" y="41497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бновление технологий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недрение информационных технологий в образовательный процес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роектная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Формирование  УУД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DSC00385"/>
          <p:cNvPicPr/>
          <p:nvPr/>
        </p:nvPicPr>
        <p:blipFill>
          <a:blip r:embed="rId9"/>
          <a:stretch/>
        </p:blipFill>
        <p:spPr>
          <a:xfrm>
            <a:off x="5384880" y="404640"/>
            <a:ext cx="3362400" cy="2519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4067280" y="3284640"/>
            <a:ext cx="48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факторы, влияющие на качество образования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ОСНОВНОГО ОБЩЕГО ОБРАЗОВАНИ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 2015 – 2020  УЧЕБНЫЙ ГОД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5 -9 классы )      ФГОС О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ой документ, регламентирующий деятельность образовательного учреж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5480" y="571680"/>
            <a:ext cx="8305560" cy="80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руктура основной образовательной программы основ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2000160" y="1643040"/>
            <a:ext cx="1500120" cy="5716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иру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5429160" y="6000840"/>
            <a:ext cx="1152720" cy="5713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б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3643200" y="1643040"/>
            <a:ext cx="1000080" cy="5716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ц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285840" y="1643040"/>
            <a:ext cx="1571400" cy="5716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ясн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Левая фигурная скобка 17"/>
          <p:cNvSpPr/>
          <p:nvPr/>
        </p:nvSpPr>
        <p:spPr>
          <a:xfrm rot="10800000">
            <a:off x="4500360" y="1500120"/>
            <a:ext cx="733320" cy="868320"/>
          </a:xfrm>
          <a:custGeom>
            <a:avLst/>
            <a:gdLst>
              <a:gd name="textAreaLeft" fmla="*/ 468720 w 733320"/>
              <a:gd name="textAreaRight" fmla="*/ 733680 w 733320"/>
              <a:gd name="textAreaTop" fmla="*/ 19080 h 868320"/>
              <a:gd name="textAreaBottom" fmla="*/ 849240 h 86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0"/>
                  <a:pt x="10800" y="1520"/>
                </a:cubicBezTo>
                <a:lnTo>
                  <a:pt x="10800" y="9280"/>
                </a:lnTo>
                <a:cubicBezTo>
                  <a:pt x="10800" y="10040"/>
                  <a:pt x="5400" y="10800"/>
                  <a:pt x="0" y="10800"/>
                </a:cubicBezTo>
                <a:cubicBezTo>
                  <a:pt x="5400" y="10800"/>
                  <a:pt x="10800" y="11560"/>
                  <a:pt x="10800" y="12320"/>
                </a:cubicBezTo>
                <a:lnTo>
                  <a:pt x="10800" y="20080"/>
                </a:lnTo>
                <a:cubicBezTo>
                  <a:pt x="10800" y="2084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Левая фигурная скобка 18"/>
          <p:cNvSpPr/>
          <p:nvPr/>
        </p:nvSpPr>
        <p:spPr>
          <a:xfrm rot="16200000">
            <a:off x="6215040" y="2999880"/>
            <a:ext cx="304920" cy="4876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560 h 4876920"/>
              <a:gd name="textAreaBottom" fmla="*/ 4869360 h 487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6715080" y="6000840"/>
            <a:ext cx="2065320" cy="5713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стема услов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ализации О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Левая фигурная скобка 21"/>
          <p:cNvSpPr/>
          <p:nvPr/>
        </p:nvSpPr>
        <p:spPr>
          <a:xfrm>
            <a:off x="4857840" y="5857920"/>
            <a:ext cx="785880" cy="857160"/>
          </a:xfrm>
          <a:custGeom>
            <a:avLst/>
            <a:gdLst>
              <a:gd name="textAreaLeft" fmla="*/ 502200 w 785880"/>
              <a:gd name="textAreaRight" fmla="*/ 786240 w 785880"/>
              <a:gd name="textAreaTop" fmla="*/ 20160 h 857160"/>
              <a:gd name="textAreaBottom" fmla="*/ 83700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5"/>
                  <a:pt x="10800" y="1650"/>
                </a:cubicBezTo>
                <a:lnTo>
                  <a:pt x="10800" y="9150"/>
                </a:lnTo>
                <a:cubicBezTo>
                  <a:pt x="10800" y="9975"/>
                  <a:pt x="5400" y="10800"/>
                  <a:pt x="0" y="10800"/>
                </a:cubicBezTo>
                <a:cubicBezTo>
                  <a:pt x="5400" y="10800"/>
                  <a:pt x="10800" y="11625"/>
                  <a:pt x="10800" y="12450"/>
                </a:cubicBezTo>
                <a:lnTo>
                  <a:pt x="10800" y="19950"/>
                </a:lnTo>
                <a:cubicBezTo>
                  <a:pt x="10800" y="2077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5"/>
          <p:cNvSpPr/>
          <p:nvPr/>
        </p:nvSpPr>
        <p:spPr>
          <a:xfrm>
            <a:off x="5143680" y="178596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Ц е л е в о й  р а з д е 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6"/>
          <p:cNvSpPr/>
          <p:nvPr/>
        </p:nvSpPr>
        <p:spPr>
          <a:xfrm>
            <a:off x="4000680" y="55008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 о д е р ж а т е л ь н ы й  р а з д е 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7"/>
          <p:cNvSpPr/>
          <p:nvPr/>
        </p:nvSpPr>
        <p:spPr>
          <a:xfrm>
            <a:off x="142920" y="60721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О р г а н и з а ц и о н н ы й  р а з д е 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4000680" y="3714840"/>
            <a:ext cx="3143160" cy="78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эколог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льтуры, культуры здоро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безопасного образа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357120" y="2500200"/>
            <a:ext cx="1293840" cy="857520"/>
          </a:xfrm>
          <a:prstGeom prst="roundRect">
            <a:avLst>
              <a:gd name="adj" fmla="val 16667"/>
            </a:avLst>
          </a:prstGeom>
          <a:solidFill>
            <a:srgbClr val="e3fdf2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4929120" y="2500200"/>
            <a:ext cx="1500120" cy="857520"/>
          </a:xfrm>
          <a:prstGeom prst="roundRect">
            <a:avLst>
              <a:gd name="adj" fmla="val 16667"/>
            </a:avLst>
          </a:prstGeom>
          <a:solidFill>
            <a:srgbClr val="e3fdf2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ния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1928880" y="2500200"/>
            <a:ext cx="2143080" cy="857520"/>
          </a:xfrm>
          <a:prstGeom prst="roundRect">
            <a:avLst>
              <a:gd name="adj" fmla="val 16667"/>
            </a:avLst>
          </a:prstGeom>
          <a:solidFill>
            <a:srgbClr val="e3fdf2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дельных  учеб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метов (курс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357120" y="3500280"/>
            <a:ext cx="1785960" cy="857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развитие ИК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етен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4000680" y="4714920"/>
            <a:ext cx="3143160" cy="571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изац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ессиональная ори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357120" y="4714920"/>
            <a:ext cx="3429000" cy="571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бно-исследователь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проектная 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7072200" y="2500200"/>
            <a:ext cx="1643040" cy="857520"/>
          </a:xfrm>
          <a:prstGeom prst="roundRect">
            <a:avLst>
              <a:gd name="adj" fmla="val 16667"/>
            </a:avLst>
          </a:prstGeom>
          <a:solidFill>
            <a:srgbClr val="e3fdf2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рекцио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2286000" y="3500280"/>
            <a:ext cx="1500120" cy="1071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ухов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рав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Прямая со стрелкой 26"/>
          <p:cNvCxnSpPr>
            <a:stCxn id="91" idx="1"/>
          </p:cNvCxnSpPr>
          <p:nvPr/>
        </p:nvCxnSpPr>
        <p:spPr>
          <a:xfrm flipH="1">
            <a:off x="3785400" y="2928960"/>
            <a:ext cx="1143720" cy="714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28"/>
          <p:cNvCxnSpPr>
            <a:endCxn id="89" idx="0"/>
          </p:cNvCxnSpPr>
          <p:nvPr/>
        </p:nvCxnSpPr>
        <p:spPr>
          <a:xfrm flipH="1">
            <a:off x="5571360" y="3357720"/>
            <a:ext cx="143640" cy="357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Прямая со стрелкой 29"/>
          <p:cNvCxnSpPr>
            <a:endCxn id="93" idx="1"/>
          </p:cNvCxnSpPr>
          <p:nvPr/>
        </p:nvCxnSpPr>
        <p:spPr>
          <a:xfrm>
            <a:off x="142560" y="3929040"/>
            <a:ext cx="21492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Соединительная линия уступом 41"/>
          <p:cNvCxnSpPr>
            <a:stCxn id="90" idx="1"/>
            <a:endCxn id="95" idx="1"/>
          </p:cNvCxnSpPr>
          <p:nvPr/>
        </p:nvCxnSpPr>
        <p:spPr>
          <a:xfrm flipV="1" rot="10800000">
            <a:off x="356400" y="2927880"/>
            <a:ext cx="2520" cy="207252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02" name="Группа 138"/>
          <p:cNvGrpSpPr/>
          <p:nvPr/>
        </p:nvGrpSpPr>
        <p:grpSpPr>
          <a:xfrm>
            <a:off x="6429240" y="2928960"/>
            <a:ext cx="1001880" cy="2073240"/>
            <a:chOff x="6429240" y="2928960"/>
            <a:chExt cx="1001880" cy="2073240"/>
          </a:xfrm>
        </p:grpSpPr>
        <p:cxnSp>
          <p:nvCxnSpPr>
            <p:cNvPr id="103" name="Прямая со стрелкой 27"/>
            <p:cNvCxnSpPr>
              <a:endCxn id="94" idx="3"/>
            </p:cNvCxnSpPr>
            <p:nvPr/>
          </p:nvCxnSpPr>
          <p:spPr>
            <a:xfrm flipH="1" flipV="1">
              <a:off x="7143480" y="5000400"/>
              <a:ext cx="28656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4" name="Прямая соединительная линия 120"/>
            <p:cNvSpPr/>
            <p:nvPr/>
          </p:nvSpPr>
          <p:spPr>
            <a:xfrm>
              <a:off x="6429240" y="2928960"/>
              <a:ext cx="1000440" cy="78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ая соединительная линия 122"/>
            <p:cNvSpPr/>
            <p:nvPr/>
          </p:nvSpPr>
          <p:spPr>
            <a:xfrm flipH="1">
              <a:off x="7429680" y="3714840"/>
              <a:ext cx="1440" cy="127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грамма развития универсальных учебных действий на ступени основного 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конкретизирует требовани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ндарта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к личностным и метапредметным результата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своен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ОП ОО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дополняет традиционное содержани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разовательно-воспитательных программ и служит основой для разработки примерных программ учебных предметов, курсов, дисциплин, а также программ внеурочн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грамма развития УУД определя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цели и задачи взаимодействия педагогов и обучающихся по развитию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У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описание основных подходов,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взаимосвязи содержания урочной и внеурочной деятельности обучающихся по развитию УУД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ланируемые результаты усвоения обучающимися познавательных, регулятивных и коммуникативных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У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показатели уровней и степени владения ими, их взаимосвязь с другими результатами освоен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ОП ОО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рамма развития УУД на ступени основ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ключает описание содержания и организации работы по формировани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онно-коммуникационной компетентности уча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 учебно-исследовательской и проект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тегий смыслового чтения и работы с информаци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ниверсальные учебные действия (УУД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это умение учиться, т. е. способность субъекта к саморазвитию и самосовершенствованию путем сознательного и активного присвоения нов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циального опы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овокупность способов действия учащего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ивающих его способность к самостоятельному усвоению новых знаний и умений, включая организацию этого проце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ная цель в развитии УУД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чальная школа                Основная ш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рамма                                  Програм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я УУД               Развития УУ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чить ученика                     «Учить ученика         учиться»                       учиться   в общен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УД направлены на достижение планируемых результа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Различают три группы планируемых результатов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. Предметные универсальные учебные действия – лежат в основе изучения самого предме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.Метапредметные универсальные действия – центральной составляющей является формирование умения у учащихся работать с информацией (извлекать её, анализировать, воспринимать). Отражают межпредметные поняти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 Личностные универсальные учебные действия – эмоциональность и нравственность в изучении предмета, развитии толерантности, здорового образа жизн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спроектировать урок, формирующий не только предметные, но и метапредметные результа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тапредметные или надпредметные универсальные учебные действия - это способы деятельности, применимые как в рамках образовательного процесса, так и при решении проблем в реальных жизненных ситуация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универсальные действия учащихся, направленные на анализ и управление своей познавательной деятельность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2286000" y="2828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универсальных учебных действ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ЗНАВАТЕЛЬ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ходить информаци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в текстах, таблицах, схемах, иллюстрациях учебник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и других источниках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ом числе используя ИК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ладеть разными видами смыслового чтен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читывать фактуальную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дтекстовую, концептуальну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нформац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ализирова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(выделять главное, составные части) 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обща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делать выводы) на основе фактов 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бстрактных понят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лассифицировать (группировать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 заданным основаниям факты, явления и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бстрактные понят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равнива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 заданным основаниям факты,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вления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бстрактные поня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танавливать причины явлени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и их след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танавливать аналогии (в   том числе создавать модели объектов)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помощью учителя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амостоятель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ять информаци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развёрнутом и сжатом виде (рисунок, текст, таблица, схема,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пла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в   том числе используя ИК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Реализации основной образовательной программы основного общего образования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адровое обеспечени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и основной образовательной программы основного общего образования образовательного учреж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-график повышения квалификации работников ОУ, обеспечивающих введение ФГОС ОО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методической работы в общеобразовательном учрежд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универсальных учебных действ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РЕГУЛЯТИВНЫ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пределять цель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наруживать и формулировать проблему (урока,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проект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) с помощью учителя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и самостоятель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Выдвигать версии,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выбирать средства достижения цели с помощью учителя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и в группе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ланировать деятельность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 помощью учителя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и самостоятель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Работать по плану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сверяясь с целью;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находить и исправлять ошибки с помощью учителя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самостоятель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ценивать степень успешности достижения цели по критериям,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определять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причины успеха или неуспех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71560" y="765000"/>
            <a:ext cx="7408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ростковом возрасте ведущей становится деятельность межличностного общения, приоритетное значение в развитии УУД в этот период приобретаю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учебные действ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3" descr="DSC_0148"/>
          <p:cNvPicPr/>
          <p:nvPr/>
        </p:nvPicPr>
        <p:blipFill>
          <a:blip r:embed="rId1"/>
          <a:stretch/>
        </p:blipFill>
        <p:spPr>
          <a:xfrm>
            <a:off x="2484360" y="3284640"/>
            <a:ext cx="48243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ММУНИКАТИВ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лагать свое мнение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ргументируя его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дтверждая фак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ыть готовым изменить свою точку зр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 воздействием контраргументов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ритичной самооцен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вовать в диалоге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ушать и слышать друг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нимать позицию другог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выраженную в явном 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Еявн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иде (в том числе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ести диалог с автором текс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вать устные и письменные текс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ля решения разных задач общения с помощью учителя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 самостоятель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овать речевые средст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в соответствии с ситуацией общения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оммуникативной задаче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ботать в паре, групп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разных ролях (лидера, исполнителя, критика и т.п.)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участвовать в выработке реш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отвращать и преодолевать конфлик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― идти на взаимные уступки, уметь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говаривать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чност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опреде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ыслообраз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равственная оц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я деятельность на уроке выстраивается вокруг некоторой мыслительной организованности (знание, проблемные творческие задания, смысл, категория, обсуждение результа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хнологии развития УУ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ой для развития УУД является системно-деятельностный подх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ответственно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ивнос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учени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признаётся основой достижения развивающих целей образования — знания не передаются в готовом виде, а добываются самими обучающимися в процессе познавательной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редства формирования УУД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ое сотрудничеств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местная деятельнос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ная деятельность обучающих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нинг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ий прием доказатель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ическое общ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им из эффективных средств, способствующих познавательной мотивации, а также формированию универсальных учебных действий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ние проблемных ситуац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 уро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оцессе такой систематической работы на уроке формируются регулятивные, познавательные, коммуникативные действ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вивает умение воспринимать информацию, способность к рефлексии и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ием «Знаю – хочу узнать – узнал – научился»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Этап «Знаю» предполагает работу в паре: что я знаю о теме урока; «Хочу узнать» - формулирование цели; «Узнал» - соотношение старой и новой информации; «Научился» - осознание результативности деятельности.   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меняя такой прием, мы формируем  регулятивные, познавательные, коммуникативные действ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ышают мотивацию к изучению материала, развивают умение прогнозировать задания «Верные–неверные утверждения», «Прогнозирование ситуаци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50920" y="981000"/>
            <a:ext cx="352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Monotype Corsiva"/>
              </a:rPr>
              <a:t>«Кто постигает новое, лелея старое, тот может быть учителем»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404040"/>
                </a:solidFill>
                <a:latin typeface="Monotype Corsiva"/>
              </a:rPr>
              <a:t>	</a:t>
            </a:r>
            <a:r>
              <a:rPr b="1" i="1" lang="ru-RU" sz="2400" spc="-1" strike="noStrike">
                <a:solidFill>
                  <a:srgbClr val="404040"/>
                </a:solidFill>
                <a:latin typeface="Monotype Corsiva"/>
              </a:rPr>
              <a:t>	</a:t>
            </a:r>
            <a:r>
              <a:rPr b="1" i="1" lang="ru-RU" sz="2400" spc="-1" strike="noStrike">
                <a:solidFill>
                  <a:srgbClr val="404040"/>
                </a:solidFill>
                <a:latin typeface="Monotype Corsiva"/>
              </a:rPr>
              <a:t>Конфу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29640" y="260280"/>
            <a:ext cx="69958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овой школе – нового уч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DSC00989"/>
          <p:cNvPicPr/>
          <p:nvPr/>
        </p:nvPicPr>
        <p:blipFill>
          <a:blip r:embed="rId1"/>
          <a:stretch/>
        </p:blipFill>
        <p:spPr>
          <a:xfrm>
            <a:off x="4284720" y="1052640"/>
            <a:ext cx="3895560" cy="2921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DSC00916"/>
          <p:cNvPicPr/>
          <p:nvPr/>
        </p:nvPicPr>
        <p:blipFill>
          <a:blip r:embed="rId2"/>
          <a:stretch/>
        </p:blipFill>
        <p:spPr>
          <a:xfrm>
            <a:off x="0" y="3429000"/>
            <a:ext cx="3382920" cy="253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D:\Documents and Settings\Ольгина  флэш\Изображение 102.jpg"/>
          <p:cNvPicPr/>
          <p:nvPr/>
        </p:nvPicPr>
        <p:blipFill>
          <a:blip r:embed="rId3"/>
          <a:stretch/>
        </p:blipFill>
        <p:spPr>
          <a:xfrm>
            <a:off x="4140360" y="4365720"/>
            <a:ext cx="3024000" cy="22813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ейшую роль в формировании метапредметных УУД играе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бота с текст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ем составления пл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ем составления граф-схем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ем тез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ем коммент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ем логического запоминания учебной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Чтение с остановками», «Чтение с пометками», «Составление кластер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Дискусси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– еще одно средство формирования универсальных учебных действий школьников. Диалог учащихся может проходить не только в устной, но и письменной форм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Групповая форма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боты- учащиеся учатся в этом случае также искать информацию, сообщать ее другим, высказывать свою точку зрения, принимать чужое мнение, создавать продукт совместного труда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новозрастное сотрудниче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собое место в формировании УУД отвести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театрализации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 одной из форм групповой деятельности учащих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ектная и исследовательской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действенное средство формирования универсальных учебных действий. В процессе этих видов деятельности у учащихся формируется весь спектр метапредметных УУ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одно из важнейших средств формирования умения учиться. К средствам, формирующим универсальные учебные действия на стадии рефлексии, помогающие творчески интерпретировать информацию, относятс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исание эссе, составление телеграммы, памятки, инструкции, стихотворение по алгоритму, письмо по кругу, синквей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ние учащимися литературных произведен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сказок, рассказов, басен, баллад), в том числе и лингвистических. Это способствует формированию познавательных, регулятивных, коммуникативных УУД, помогает ученику и учителю оценить качество образования, развивать рефлективные способности учащих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ебная ситуация как метод развития УУ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 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ситуация-оцен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— прототип реальной ситуации с готовым предполагаемым решением, которое следует оценить, и предложить своё адекватное реш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 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ситуация-тренин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— прототип стандартной или другой ситуации (тренинг возможно проводить как по описанию ситуации, так и по её решению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разовательные задачи как метод развития УУ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ч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личностное самоопреде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 развитие Я-концеп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 смыслообраз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 мотиваци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 нравственно-этическое оцени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ют личностные УУ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Развитию регулятивных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УУД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способствует также использование в учебном процессе системы таких индивидуальных или групповых учебных заданий, которые наделяют учащихся функциями организации их выполнения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ланирования этапов выполнения работы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отслеживания продвижения в выполнении задания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облюдения графика подготовки и предоставления материалов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оиска необходимых ресурсов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распределения обязанностей и контроля качества выполнения работы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ри минимизации пошагового контроля со стороны учител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этом перечень средств для развития метапредметных УУД далеко не законч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Самое главное, используя данные средства обучения, научить ребёнк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иться не через памя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через универсальные учебные действ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«Великая цель образования не знания, а действия»,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 сказал в свое время Герберт Спенсер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Хоть выйди ты не в белый свет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 в поле за околицей,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ка идёшь за кем – то в след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рога не запомнит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то куда б ты ни попа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по какой распутице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рога, что ты сам искал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век не позабудетс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Рисунок 3" descr=""/>
          <p:cNvPicPr/>
          <p:nvPr/>
        </p:nvPicPr>
        <p:blipFill>
          <a:blip r:embed="rId1"/>
          <a:stretch/>
        </p:blipFill>
        <p:spPr>
          <a:xfrm>
            <a:off x="5791320" y="3565440"/>
            <a:ext cx="30351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45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Новый учитель, новый руководител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едение ФГОС ООО требует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33800" cy="44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т руковод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и к гибкой и мобильно меняющейся организации целостного образовательного проце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я ответственности за условия и качество реализации образовательных програ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траивания договорных отношений с родителями и социальными партнё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тивации учителей на непрерывное профессиональное совершенств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2640" y="1719360"/>
            <a:ext cx="4033800" cy="44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т педагог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строй  смены профессионального мировоззр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менения  профессиональной пози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логического перевооруж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стройки содержания образования и способов его интерпре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владения навыками проектирования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В качестве критериев эффективности урока с точки зрения формирования УУД можно рассматривать такие как: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нение знаний, позволяющих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енику самому выбира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ип, вид и форму материала (словесную, графическую, условно-символическую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ложительного эмоционального настроя 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работу всех учеников в ходе уро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суждение с детьм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онце урока не только того, что «мы узнали» но и того, что понравилось (не понравилось) и почему, что бы хотелось выполнить ещё раз, а сделать по-другом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имулирование учеников к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ыбору и самостоятельному использованию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ных способов выполнения задани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ценка (поощрение) при опросе на уроке не только правильного ответа ученика, но и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нализ т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го, как ученик рассуждал, какой способ использовал, почему и в чём ошибалс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метка, выставляемая ученику в конце урока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, должна аргументироваться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 ряду параметров: правильность, самостоятельность, оригинальность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 задании на дом называется не только тема и объём задания, но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одробно разъясняется, как следует рационально организова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мер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ровня сформированности универсальных учебных действ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результа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я специально сконструированных диагностических задач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аправленных на оценку уровня сформированности конкретного вида универсальных учебных действ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инструментальная основа (или как средство решения) и как условие успешност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я учебных и учебно-практических задач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редствами учебных предметов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успешность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я комплексных заданий на межпредметной основ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собое значение для развития УУД в основной школе имеет индивидуальный проек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яющий собой самостоятельную работу, осуществляемую обучающимся на протяжении длительного периода, возможно в течение всего учебного года. В ходе такой работы подросток — автор проекта — самостоятельно или с небольшой помощью педагога получает возможность научиться планировать и работать по плану — это один из важнейших не только учебных, но и социальных навыков, которым должен овладеть школьник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универсальных действий  основывается на работе с деятельностью учащегося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ередачей ему в первую очередь способов работ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 знаниями, а не просто зн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о научить учащих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менять способы действ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зависимо от предметной обла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26560" y="836640"/>
            <a:ext cx="74091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нно важно учитывать, что достижение цели развития УУД в основной школе не является уделом отдельных предметов, а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овится обязательным для всех без исключения учебных курсов как в урочной, так и во внеуроч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Рисунок 3" descr=""/>
          <p:cNvPicPr/>
          <p:nvPr/>
        </p:nvPicPr>
        <p:blipFill>
          <a:blip r:embed="rId1"/>
          <a:stretch/>
        </p:blipFill>
        <p:spPr>
          <a:xfrm>
            <a:off x="2268360" y="4005360"/>
            <a:ext cx="43927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педагоги  владеют технологиями организации современного урока (проектно-исследовательские технологии, технология проблемного обучения, технология дискуссий и др.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ладеют (знакомы) вариативными формами оценивания  процесса и результатов образ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уществляют  обучение на основе ИКТ- средств (интерактивная доска, ЦО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педагоги используют электронный дневник обучаю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95280" y="1413000"/>
            <a:ext cx="82090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Современный ур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позиции форм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УД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новение понятия «универсальные учебные действия» связано с изменением цели образования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усвоения знаний, умений и навыко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развитию Личности обучающего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ебования социума 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растающему покол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зировать свои действ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стоятельно принимать реше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нозируя их возможные последств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личаться мобильность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ть способными к сотрудничеств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ФГОС: каким образом можно получить новый результа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95280" y="1413000"/>
            <a:ext cx="856944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b03f5"/>
                </a:solidFill>
                <a:latin typeface="Times New Roman"/>
              </a:rPr>
              <a:t>организовать </a:t>
            </a:r>
            <a:r>
              <a:rPr b="1" lang="ru-RU" sz="3000" spc="-1" strike="noStrike" u="sng">
                <a:solidFill>
                  <a:srgbClr val="0000ff"/>
                </a:solidFill>
                <a:uFillTx/>
                <a:latin typeface="Times New Roman"/>
              </a:rPr>
              <a:t>ДЕЯТЕЛЬНОСТЬ</a:t>
            </a:r>
            <a:r>
              <a:rPr b="1" lang="ru-RU" sz="3000" spc="-1" strike="noStrike">
                <a:solidFill>
                  <a:srgbClr val="2b03f5"/>
                </a:solidFill>
                <a:latin typeface="Times New Roman"/>
              </a:rPr>
              <a:t> ученик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0" y="5734080"/>
            <a:ext cx="9144000" cy="94716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я того чтобы знания были результативными –учитель направляет, развивает, организовывает проце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0" y="479736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Calibri"/>
              </a:rPr>
              <a:t>умение</a:t>
            </a:r>
            <a:r>
              <a:rPr b="0" lang="ru-RU" sz="2400" spc="-1" strike="noStrike">
                <a:solidFill>
                  <a:srgbClr val="2b03f5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2b03f5"/>
                </a:solidFill>
                <a:latin typeface="Calibri"/>
              </a:rPr>
              <a:t>решать учебные задач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основе сформированных предметных и универсальных способов 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0" y="2205000"/>
            <a:ext cx="3022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Calibri"/>
              </a:rPr>
              <a:t>способность к самоорганиза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решении учебных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6156360" y="22050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Calibri"/>
              </a:rPr>
              <a:t>прогресс</a:t>
            </a:r>
            <a:r>
              <a:rPr b="1" i="1" lang="ru-RU" sz="2400" spc="-1" strike="noStrike">
                <a:solidFill>
                  <a:srgbClr val="2b03f5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2b03f5"/>
                </a:solidFill>
                <a:latin typeface="Calibri"/>
              </a:rPr>
              <a:t>в личностном разви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00255[1]"/>
          <p:cNvPicPr/>
          <p:nvPr/>
        </p:nvPicPr>
        <p:blipFill>
          <a:blip r:embed="rId1"/>
          <a:stretch/>
        </p:blipFill>
        <p:spPr>
          <a:xfrm>
            <a:off x="3564000" y="2276640"/>
            <a:ext cx="297180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13:09:01Z</dcterms:created>
  <dc:creator>sony</dc:creator>
  <dc:description/>
  <dc:language>en-US</dc:language>
  <cp:lastModifiedBy>Лариса</cp:lastModifiedBy>
  <dcterms:modified xsi:type="dcterms:W3CDTF">2020-03-30T04:24:37Z</dcterms:modified>
  <cp:revision>46</cp:revision>
  <dc:subject/>
  <dc:title>Слайд 1</dc:title>
</cp:coreProperties>
</file>