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2EA0-BEA4-4D63-A058-4744B5C0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4254-904D-4229-A8E8-BF5484DF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13A6-38F0-49BC-9505-E6210492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389B-0FCB-4412-AA2A-1E2ACB8B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444E-C82A-4EF3-A7BB-C83069F1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3B2E-29D1-4EEB-9337-A4012F82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EB79-FB97-43AC-9036-4EBBE88D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5324-77DC-4856-A557-D990A192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4DEC-B4AA-47B5-A124-E1563C99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75E1-8C4A-4FF9-B83D-21268C34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FD55-7E11-4654-83F5-C97362A7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8AF4-1A27-4D94-AB4E-A27697D5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537B-49CC-4067-AC3B-17E82D9B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50F9-088D-4A15-9803-364E45EA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DBDA-F144-42BC-A27C-71F5CD77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1B16-5F57-4847-9B74-9FD9C522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4671-FDE8-4F1B-95FD-737F612E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169F-BA43-4590-B2DD-330EE100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B2F5-47F9-4A42-B3C6-03F5A3A5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489FD-1028-43F9-BD0D-4C34BB88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21306-8CB8-4750-9FFD-B2BDFAEF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B075-699B-497A-B491-C00787F0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AF58-DB85-4792-AA91-5DFFC426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370FA-10C0-44CF-8E68-91FE45BB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4F68-7F16-4A88-A8E2-EF0A4B6851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1F78-40FC-4AB2-BE1E-2F6C2CEF6A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0027-027-Zimujuschie-ptitsy"/>
          <p:cNvPicPr/>
          <p:nvPr/>
        </p:nvPicPr>
        <p:blipFill>
          <a:blip r:embed="rId1"/>
          <a:srcRect l="957" t="0" r="95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148000" y="5373360"/>
            <a:ext cx="289404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оставила: Ямова Н.В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оспитатель ГБДОУ №97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алининского района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г. Санкт-Петербург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2019г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Чернокрылый, красногруд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И зимой найдет прию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Не боится он простуды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С первым снегом тут как ту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10_hf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Кто в берете ярко-красном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В черной курточке атласной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На меня он не глядит,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Все стучит, стучит, стучи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6" descr="big_bolshoy-pestryi-dytel"/>
          <p:cNvPicPr/>
          <p:nvPr/>
        </p:nvPicPr>
        <p:blipFill>
          <a:blip r:embed="rId1"/>
          <a:stretch/>
        </p:blipFill>
        <p:spPr>
          <a:xfrm>
            <a:off x="4648320" y="1947960"/>
            <a:ext cx="40384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Маленький вориш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В сером армячиш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По двору шныря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Крохи собирает</a:t>
            </a: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182248_html_2b78a6f9"/>
          <p:cNvPicPr/>
          <p:nvPr/>
        </p:nvPicPr>
        <p:blipFill>
          <a:blip r:embed="rId1"/>
          <a:stretch/>
        </p:blipFill>
        <p:spPr>
          <a:xfrm>
            <a:off x="457200" y="2344680"/>
            <a:ext cx="40384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Меня сизокрылы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Все с детства зову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Как символа ми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И любят, и чт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7" descr="golubi"/>
          <p:cNvPicPr/>
          <p:nvPr/>
        </p:nvPicPr>
        <p:blipFill>
          <a:blip r:embed="rId1"/>
          <a:stretch/>
        </p:blipFill>
        <p:spPr>
          <a:xfrm>
            <a:off x="4788000" y="227664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Окраской серовата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Повадкой воровата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Крикунья хрипловата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Известная персона. Кто он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7" descr="33975_original"/>
          <p:cNvPicPr/>
          <p:nvPr/>
        </p:nvPicPr>
        <p:blipFill>
          <a:blip r:embed="rId1"/>
          <a:stretch/>
        </p:blipFill>
        <p:spPr>
          <a:xfrm>
            <a:off x="250920" y="2182680"/>
            <a:ext cx="4249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Каких зимующих птиц вы знаете еще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Picture 5" descr="65"/>
          <p:cNvPicPr/>
          <p:nvPr/>
        </p:nvPicPr>
        <p:blipFill>
          <a:blip r:embed="rId1"/>
          <a:stretch/>
        </p:blipFill>
        <p:spPr>
          <a:xfrm>
            <a:off x="395280" y="1773360"/>
            <a:ext cx="2881440" cy="2244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29398_html_394ef8ef"/>
          <p:cNvPicPr/>
          <p:nvPr/>
        </p:nvPicPr>
        <p:blipFill>
          <a:blip r:embed="rId2"/>
          <a:stretch/>
        </p:blipFill>
        <p:spPr>
          <a:xfrm>
            <a:off x="3635280" y="1773360"/>
            <a:ext cx="2448000" cy="2243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щегол"/>
          <p:cNvPicPr/>
          <p:nvPr/>
        </p:nvPicPr>
        <p:blipFill>
          <a:blip r:embed="rId3"/>
          <a:stretch/>
        </p:blipFill>
        <p:spPr>
          <a:xfrm>
            <a:off x="395280" y="4076640"/>
            <a:ext cx="2573280" cy="257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41792022_1238405285_Klest"/>
          <p:cNvPicPr/>
          <p:nvPr/>
        </p:nvPicPr>
        <p:blipFill>
          <a:blip r:embed="rId4"/>
          <a:stretch/>
        </p:blipFill>
        <p:spPr>
          <a:xfrm>
            <a:off x="3276720" y="4076640"/>
            <a:ext cx="3095640" cy="24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filin"/>
          <p:cNvPicPr/>
          <p:nvPr/>
        </p:nvPicPr>
        <p:blipFill>
          <a:blip r:embed="rId5"/>
          <a:stretch/>
        </p:blipFill>
        <p:spPr>
          <a:xfrm>
            <a:off x="6659640" y="2349360"/>
            <a:ext cx="2155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Garamond"/>
              </a:rPr>
              <a:t>Игра «Кто лишний?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Picture 5" descr="Безымянный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Игра «Кто лишний?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5" descr="Безымянный2"/>
          <p:cNvPicPr/>
          <p:nvPr/>
        </p:nvPicPr>
        <p:blipFill>
          <a:blip r:embed="rId1"/>
          <a:stretch/>
        </p:blipFill>
        <p:spPr>
          <a:xfrm>
            <a:off x="539640" y="1341360"/>
            <a:ext cx="813600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97907340"/>
          <p:cNvPicPr/>
          <p:nvPr/>
        </p:nvPicPr>
        <p:blipFill>
          <a:blip r:embed="rId1"/>
          <a:stretch/>
        </p:blipFill>
        <p:spPr>
          <a:xfrm>
            <a:off x="250920" y="0"/>
            <a:ext cx="46558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6"/>
          <p:cNvSpPr txBox="1"/>
          <p:nvPr/>
        </p:nvSpPr>
        <p:spPr>
          <a:xfrm rot="5400000">
            <a:off x="4104000" y="2888280"/>
            <a:ext cx="6121440" cy="129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ерелетные птиц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Garamond"/>
              </a:rPr>
              <a:t>Д/и «Чем похожи?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Picture 6" descr="части птиц"/>
          <p:cNvPicPr/>
          <p:nvPr/>
        </p:nvPicPr>
        <p:blipFill>
          <a:blip r:embed="rId1"/>
          <a:stretch/>
        </p:blipFill>
        <p:spPr>
          <a:xfrm>
            <a:off x="1187280" y="150336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508500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обобщить знания детей о зимующих птицах, о необходимости заботы о них в зимнее время г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484360" y="476280"/>
            <a:ext cx="4032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ь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Д/и «Чем питаются?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Picture 5" descr="1577"/>
          <p:cNvPicPr/>
          <p:nvPr/>
        </p:nvPicPr>
        <p:blipFill>
          <a:blip r:embed="rId1"/>
          <a:stretch/>
        </p:blipFill>
        <p:spPr>
          <a:xfrm>
            <a:off x="971640" y="1341360"/>
            <a:ext cx="3024000" cy="246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60001999_normal_Elovuye_shishki"/>
          <p:cNvPicPr/>
          <p:nvPr/>
        </p:nvPicPr>
        <p:blipFill>
          <a:blip r:embed="rId2"/>
          <a:stretch/>
        </p:blipFill>
        <p:spPr>
          <a:xfrm>
            <a:off x="4788000" y="1341360"/>
            <a:ext cx="3097080" cy="2476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images"/>
          <p:cNvPicPr/>
          <p:nvPr/>
        </p:nvPicPr>
        <p:blipFill>
          <a:blip r:embed="rId3"/>
          <a:stretch/>
        </p:blipFill>
        <p:spPr>
          <a:xfrm>
            <a:off x="900000" y="4221000"/>
            <a:ext cx="3024360" cy="2273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semena"/>
          <p:cNvPicPr/>
          <p:nvPr/>
        </p:nvPicPr>
        <p:blipFill>
          <a:blip r:embed="rId4"/>
          <a:stretch/>
        </p:blipFill>
        <p:spPr>
          <a:xfrm>
            <a:off x="4788000" y="4221000"/>
            <a:ext cx="3168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Garamond"/>
              </a:rPr>
              <a:t>Д/и «Накорми птиц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Picture 5" descr="cdd6f1638ef67e573e0f4fdf77719d45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Garamond"/>
              </a:rPr>
              <a:t>Какие бывают кормушки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Picture 11" descr="311236389"/>
          <p:cNvPicPr/>
          <p:nvPr/>
        </p:nvPicPr>
        <p:blipFill>
          <a:blip r:embed="rId1"/>
          <a:stretch/>
        </p:blipFill>
        <p:spPr>
          <a:xfrm>
            <a:off x="250920" y="1413000"/>
            <a:ext cx="327960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ET16haQRTtw"/>
          <p:cNvPicPr/>
          <p:nvPr/>
        </p:nvPicPr>
        <p:blipFill>
          <a:blip r:embed="rId2"/>
          <a:stretch/>
        </p:blipFill>
        <p:spPr>
          <a:xfrm>
            <a:off x="5867280" y="141300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kormushka-dlya-ptits4"/>
          <p:cNvPicPr/>
          <p:nvPr/>
        </p:nvPicPr>
        <p:blipFill>
          <a:blip r:embed="rId3"/>
          <a:stretch/>
        </p:blipFill>
        <p:spPr>
          <a:xfrm>
            <a:off x="250920" y="3933720"/>
            <a:ext cx="2798640" cy="2187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kormushka-dlya-ptic-5"/>
          <p:cNvPicPr/>
          <p:nvPr/>
        </p:nvPicPr>
        <p:blipFill>
          <a:blip r:embed="rId4"/>
          <a:stretch/>
        </p:blipFill>
        <p:spPr>
          <a:xfrm>
            <a:off x="3276720" y="3933720"/>
            <a:ext cx="2808000" cy="2170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6" descr="907"/>
          <p:cNvPicPr/>
          <p:nvPr/>
        </p:nvPicPr>
        <p:blipFill>
          <a:blip r:embed="rId5"/>
          <a:stretch/>
        </p:blipFill>
        <p:spPr>
          <a:xfrm>
            <a:off x="6300720" y="3933720"/>
            <a:ext cx="2627280" cy="2183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1384329572-324590-138072"/>
          <p:cNvPicPr/>
          <p:nvPr/>
        </p:nvPicPr>
        <p:blipFill>
          <a:blip r:embed="rId6"/>
          <a:stretch/>
        </p:blipFill>
        <p:spPr>
          <a:xfrm>
            <a:off x="3635280" y="1413000"/>
            <a:ext cx="2129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844453160"/>
          <p:cNvPicPr/>
          <p:nvPr/>
        </p:nvPicPr>
        <p:blipFill>
          <a:blip r:embed="rId1"/>
          <a:stretch/>
        </p:blipFill>
        <p:spPr>
          <a:xfrm>
            <a:off x="457200" y="291960"/>
            <a:ext cx="822960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Garamond"/>
              </a:rPr>
              <a:t>Д/и «Кто как разговаривает?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Garamond"/>
              </a:rPr>
              <a:t>Воро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Garamond"/>
              </a:rPr>
              <a:t>Голуб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Garamond"/>
              </a:rPr>
              <a:t>Воробе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Garamond"/>
              </a:rPr>
              <a:t>Соро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Garamond"/>
              </a:rPr>
              <a:t>Дяте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Garamond"/>
              </a:rPr>
              <a:t>Синиц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886e0"/>
                </a:solidFill>
                <a:latin typeface="Garamond"/>
              </a:rPr>
              <a:t>воркуе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886e0"/>
                </a:solidFill>
                <a:latin typeface="Garamond"/>
              </a:rPr>
              <a:t>чирикае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886e0"/>
                </a:solidFill>
                <a:latin typeface="Garamond"/>
              </a:rPr>
              <a:t>каркае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886e0"/>
                </a:solidFill>
                <a:latin typeface="Garamond"/>
              </a:rPr>
              <a:t>тинькае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886e0"/>
                </a:solidFill>
                <a:latin typeface="Garamond"/>
              </a:rPr>
              <a:t>стрекоче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886e0"/>
                </a:solidFill>
                <a:latin typeface="Garamond"/>
              </a:rPr>
              <a:t>стучи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9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9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9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9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9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9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В названии какой птицы слышится звук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                  </a:t>
            </a:r>
            <a:r>
              <a:rPr b="1" lang="ru-RU" sz="3600" spc="-1" strike="noStrike">
                <a:solidFill>
                  <a:srgbClr val="00cc00"/>
                </a:solidFill>
                <a:latin typeface="Garamond"/>
              </a:rPr>
              <a:t>[с]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Garamond"/>
              </a:rPr>
              <a:t>              </a:t>
            </a:r>
            <a:r>
              <a:rPr b="1" lang="ru-RU" sz="3600" spc="-1" strike="noStrike">
                <a:solidFill>
                  <a:srgbClr val="00cc00"/>
                </a:solidFill>
                <a:latin typeface="Garamond"/>
              </a:rPr>
              <a:t>[р]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Garamond"/>
              </a:rPr>
              <a:t>              </a:t>
            </a:r>
            <a:r>
              <a:rPr b="1" lang="ru-RU" sz="3600" spc="-1" strike="noStrike">
                <a:solidFill>
                  <a:srgbClr val="00cc00"/>
                </a:solidFill>
                <a:latin typeface="Garamond"/>
              </a:rPr>
              <a:t>[л]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Garamond"/>
              </a:rPr>
              <a:t>              </a:t>
            </a:r>
            <a:r>
              <a:rPr b="1" lang="en-US" sz="3600" spc="-1" strike="noStrike">
                <a:solidFill>
                  <a:srgbClr val="00cc00"/>
                </a:solidFill>
                <a:latin typeface="Garamond"/>
              </a:rPr>
              <a:t>[</a:t>
            </a:r>
            <a:r>
              <a:rPr b="1" lang="ru-RU" sz="3600" spc="-1" strike="noStrike">
                <a:solidFill>
                  <a:srgbClr val="00cc00"/>
                </a:solidFill>
                <a:latin typeface="Garamond"/>
              </a:rPr>
              <a:t>в</a:t>
            </a:r>
            <a:r>
              <a:rPr b="1" lang="en-US" sz="3600" spc="-1" strike="noStrike">
                <a:solidFill>
                  <a:srgbClr val="00cc00"/>
                </a:solidFill>
                <a:latin typeface="Garamond"/>
              </a:rPr>
              <a:t>]</a:t>
            </a:r>
            <a:r>
              <a:rPr b="1" lang="ru-RU" sz="3600" spc="-1" strike="noStrike">
                <a:solidFill>
                  <a:srgbClr val="00cc00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рока, клест, снегирь, со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рока, ворона, вороб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ятел, глухарь, голуб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робей, ворона, со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Garamond"/>
              </a:rPr>
              <a:t>Ребус:</a:t>
            </a:r>
            <a:br>
              <a:rPr sz="4000"/>
            </a:br>
            <a:r>
              <a:rPr b="1" lang="ru-RU" sz="4000" spc="-1" strike="noStrike">
                <a:solidFill>
                  <a:srgbClr val="00cc00"/>
                </a:solidFill>
                <a:latin typeface="Garamond"/>
              </a:rPr>
              <a:t>соедини слоги из  одной части листа  со слогами другой части и назови птицу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8000" y="3068640"/>
            <a:ext cx="662472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НЕ                              ТЕ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                                ГИР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Я                                ХАР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НИ                           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ЛУ                              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4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4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4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4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4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4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4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4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4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Garamond"/>
              </a:rPr>
              <a:t>Скажи правильно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66ff"/>
                </a:solidFill>
                <a:latin typeface="Garamond"/>
              </a:rPr>
              <a:t>Черный воро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Garamond"/>
              </a:rPr>
              <a:t>Серое голуб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Garamond"/>
              </a:rPr>
              <a:t>Белый сов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Garamond"/>
              </a:rPr>
              <a:t>Снегирь клевала хле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Garamond"/>
              </a:rPr>
              <a:t>Сорока лежала на забор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Garamond"/>
              </a:rPr>
              <a:t>Ворона чирикала на солнышк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4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4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indefinite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1" dur="indefinite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2" dur="indefinite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indefinite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7" dur="indefinite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8" dur="indefinite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indefinite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63" dur="indefinite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4" dur="indefinite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indefinite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69" dur="indefinite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0" dur="indefinite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indefinite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75" dur="indefinite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6" dur="indefinite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Garamond"/>
              </a:rPr>
              <a:t>Заверши фразу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Ворона большая, а воробей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Голубь гулит, а сорока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У человека дети, а у птицы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У кошки лапы, а у птицы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У человека нос, а у птицы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У человека руки, а у птицы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У животных шерсть, а у  птицы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Один снегирь, а много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Один дятел, а много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Две синицы, а пять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Назови ласково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Garamond"/>
              </a:rPr>
              <a:t>Син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Garamond"/>
              </a:rPr>
              <a:t>С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Garamond"/>
              </a:rPr>
              <a:t>Вороб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Garamond"/>
              </a:rPr>
              <a:t>Голуб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Garamond"/>
              </a:rPr>
              <a:t>Кле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Garamond"/>
              </a:rPr>
              <a:t>Гал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5085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Garamond"/>
              </a:rPr>
              <a:t>Закрепить представления детей о зимующих и перелетных птица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Garamond"/>
              </a:rPr>
              <a:t>Закрепить знания детей об  их особенностях и разнообраз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Garamond"/>
              </a:rPr>
              <a:t>Упражнять в правильном согласовании прилагательного с существительны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Garamond"/>
              </a:rPr>
              <a:t>Упражнять фонематическое восприятие через нахождение слов со звуками [с], [р], [л], [в]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Garamond"/>
              </a:rPr>
              <a:t>Формировать умение разбивать слова на слоги, выделять ударный сло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755640" y="33336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разовательные задач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Garamond"/>
              </a:rPr>
              <a:t>Птичья викторин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Почему снегиря назвали снегирем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У какой птицы самый длинный язык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Дитя любых пернаты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Какая птица одета в желтую блузку с черным галстуком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Жизнь, какой птицы очень тесно связана с человеком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Почему снегири и синицы любят водить компанию с дятлом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376611523"/>
          <p:cNvPicPr/>
          <p:nvPr/>
        </p:nvPicPr>
        <p:blipFill>
          <a:blip r:embed="rId1"/>
          <a:stretch/>
        </p:blipFill>
        <p:spPr>
          <a:xfrm>
            <a:off x="457200" y="291960"/>
            <a:ext cx="83628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Помните, ребята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Птицы наши друзья! Берегите и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Особенно зимой, когда им очень тяжел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   </a:t>
            </a:r>
            <a:r>
              <a:rPr b="0" lang="ru-RU" sz="4000" spc="-1" strike="noStrike">
                <a:solidFill>
                  <a:srgbClr val="00ff00"/>
                </a:solidFill>
                <a:latin typeface="Garamond"/>
              </a:rPr>
              <a:t>Спасибо за</a:t>
            </a: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00ff00"/>
                </a:solidFill>
                <a:latin typeface="Garamond"/>
              </a:rPr>
              <a:t>внима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8320" y="2997000"/>
            <a:ext cx="403848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синицы1"/>
          <p:cNvPicPr/>
          <p:nvPr/>
        </p:nvPicPr>
        <p:blipFill>
          <a:blip r:embed="rId1"/>
          <a:stretch/>
        </p:blipFill>
        <p:spPr>
          <a:xfrm>
            <a:off x="4427640" y="1844640"/>
            <a:ext cx="446544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8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3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8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5085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Воспитывать заботливое отношение к птицам, ко всей живой природ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Показать необходимость защиты птиц зимо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Воспитывать чуткость, отзывчивос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826920" y="404640"/>
            <a:ext cx="74901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спитательные задач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508500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Развивать умение слушать внимательно речь воспитател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Развивать произвольное внимание, память, логическое мыш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Уточнить и расширить словарь по теме «Зимующие птицы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Формировать фразеологическую реч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900000" y="404640"/>
            <a:ext cx="770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вивающие задач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Д/и «Время год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ое сейчас время год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ие зимние месяцы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ая  погода бывает зимой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то в это время делают люди? Что происходит с животными? С птицам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11" descr="Воронеж_Чернавский мост_водохранилище_Придаченская дамба_крещение_зима_Shkondin"/>
          <p:cNvPicPr/>
          <p:nvPr/>
        </p:nvPicPr>
        <p:blipFill>
          <a:blip r:embed="rId1"/>
          <a:stretch/>
        </p:blipFill>
        <p:spPr>
          <a:xfrm>
            <a:off x="4643280" y="1557360"/>
            <a:ext cx="4105440" cy="23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zima"/>
          <p:cNvPicPr/>
          <p:nvPr/>
        </p:nvPicPr>
        <p:blipFill>
          <a:blip r:embed="rId2"/>
          <a:stretch/>
        </p:blipFill>
        <p:spPr>
          <a:xfrm>
            <a:off x="4648320" y="3933720"/>
            <a:ext cx="41004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Непоседа пестрая,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Птица длиннохвостая.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Птица говорливая,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Самая болтливая</a:t>
            </a:r>
            <a:r>
              <a:rPr b="0" lang="ru-RU" sz="2800" spc="-1" strike="noStrike">
                <a:solidFill>
                  <a:srgbClr val="ff0066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6" descr="000001"/>
          <p:cNvPicPr/>
          <p:nvPr/>
        </p:nvPicPr>
        <p:blipFill>
          <a:blip r:embed="rId1"/>
          <a:stretch/>
        </p:blipFill>
        <p:spPr>
          <a:xfrm>
            <a:off x="5243400" y="1752480"/>
            <a:ext cx="2847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Спинкою зеленовата,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Животиком желтова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Черненькая шапоч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И полоска шарфика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7" descr="9abcb91d-c137-4dfa-b47e-d718f22accf7"/>
          <p:cNvPicPr/>
          <p:nvPr/>
        </p:nvPicPr>
        <p:blipFill>
          <a:blip r:embed="rId1"/>
          <a:stretch/>
        </p:blipFill>
        <p:spPr>
          <a:xfrm>
            <a:off x="395280" y="2492280"/>
            <a:ext cx="399096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У нее глаза большие,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Хищный клюв всегда крючком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По ночам она летает,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Спит на дереве лишь днем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7" descr="why-do-owls-not-dizzy"/>
          <p:cNvPicPr/>
          <p:nvPr/>
        </p:nvPicPr>
        <p:blipFill>
          <a:blip r:embed="rId1"/>
          <a:stretch/>
        </p:blipFill>
        <p:spPr>
          <a:xfrm>
            <a:off x="4648320" y="1969920"/>
            <a:ext cx="40384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8:54:43Z</dcterms:created>
  <dc:creator>user</dc:creator>
  <dc:description/>
  <dc:language>en-US</dc:language>
  <cp:lastModifiedBy>Я</cp:lastModifiedBy>
  <dcterms:modified xsi:type="dcterms:W3CDTF">2020-03-30T13:57:21Z</dcterms:modified>
  <cp:revision>6</cp:revision>
  <dc:subject/>
  <dc:title>Слайд 1</dc:title>
</cp:coreProperties>
</file>