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4BE4-7A10-42BB-90F5-2B3F64F2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480F-9D14-411C-AFC2-80A3D54E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2A1D-56ED-4983-8B10-1524A35F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6797-2BFB-4A23-9710-170E05A3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E4E6-37AF-49E3-BD56-9001022B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A071-A9A9-4E4D-9ABD-EB0A51D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1579-5E4A-4A6A-B4FC-CEA429B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CA1A-59DF-48C8-947E-42B2E39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C4F6-C841-4BC5-AF4B-4475995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8CF8-1DD3-4FC0-B37D-5A57A98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6748-D751-4212-B2FB-22A31DBB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5AA7-395A-4F84-B7A6-BFC97400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24C3-AEB3-4D3F-942D-6D4A97FD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03D1-6B53-4DFE-B2A4-146A76E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D777-A71C-4F1A-A1AC-2B4D45E2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F232-F73D-4506-8B44-7C3F66DF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1AFF-43C4-484E-8474-E44F8265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B48B-8008-43F8-A94A-3901A44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227D-AA1E-43AB-8EB7-EF7DCFF9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8A34-A5DA-4B0C-9EC5-68C7A95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EB41-0DC0-43E0-96D5-DCE68E3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38B8-BA33-4E4E-AC38-88A5538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3C2C-4531-44A1-8679-9EDEA93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5ECA-D156-4D05-8C7C-A9FEC4A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777D-6FCC-4C94-839C-CC8F0C31B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DEF3-3BD9-4EB0-BF31-F33B129C21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0027-027-Zimujuschie-ptitsy"/>
          <p:cNvPicPr/>
          <p:nvPr/>
        </p:nvPicPr>
        <p:blipFill>
          <a:blip r:embed="rId1"/>
          <a:srcRect l="957" t="0" r="9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48000" y="5373360"/>
            <a:ext cx="28940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оставила: Ямова Н.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оспитатель ГБДОУ №97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лининского района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г. Санкт-Петербург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2019г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Чернокрылый, красногруд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И зимой найдет при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Не боится он простуды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С первым снегом тут как ту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10_h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Кто в берете ярко-красном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 черной курточке атласной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На меня он не глядит,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се стучит, стучит, стучи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6" descr="big_bolshoy-pestryi-dytel"/>
          <p:cNvPicPr/>
          <p:nvPr/>
        </p:nvPicPr>
        <p:blipFill>
          <a:blip r:embed="rId1"/>
          <a:stretch/>
        </p:blipFill>
        <p:spPr>
          <a:xfrm>
            <a:off x="4648320" y="1947960"/>
            <a:ext cx="40384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Маленький вориш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В сером армячиш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По двору шныря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Крохи собирает</a:t>
            </a: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182248_html_2b78a6f9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Меня сизокрылы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се с детства зову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Как символа ми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И любят, и чт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7" descr="golubi"/>
          <p:cNvPicPr/>
          <p:nvPr/>
        </p:nvPicPr>
        <p:blipFill>
          <a:blip r:embed="rId1"/>
          <a:stretch/>
        </p:blipFill>
        <p:spPr>
          <a:xfrm>
            <a:off x="4788000" y="2276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Окраской сероват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Повадкой вороват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Крикунья хрипловатая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Известная персона. Кто он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33975_original"/>
          <p:cNvPicPr/>
          <p:nvPr/>
        </p:nvPicPr>
        <p:blipFill>
          <a:blip r:embed="rId1"/>
          <a:stretch/>
        </p:blipFill>
        <p:spPr>
          <a:xfrm>
            <a:off x="250920" y="2182680"/>
            <a:ext cx="4249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аких зимующих птиц вы знаете ещ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65"/>
          <p:cNvPicPr/>
          <p:nvPr/>
        </p:nvPicPr>
        <p:blipFill>
          <a:blip r:embed="rId1"/>
          <a:stretch/>
        </p:blipFill>
        <p:spPr>
          <a:xfrm>
            <a:off x="395280" y="1773360"/>
            <a:ext cx="2881440" cy="2244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29398_html_394ef8ef"/>
          <p:cNvPicPr/>
          <p:nvPr/>
        </p:nvPicPr>
        <p:blipFill>
          <a:blip r:embed="rId2"/>
          <a:stretch/>
        </p:blipFill>
        <p:spPr>
          <a:xfrm>
            <a:off x="3635280" y="1773360"/>
            <a:ext cx="2448000" cy="224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щегол"/>
          <p:cNvPicPr/>
          <p:nvPr/>
        </p:nvPicPr>
        <p:blipFill>
          <a:blip r:embed="rId3"/>
          <a:stretch/>
        </p:blipFill>
        <p:spPr>
          <a:xfrm>
            <a:off x="395280" y="4076640"/>
            <a:ext cx="2573280" cy="257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41792022_1238405285_Klest"/>
          <p:cNvPicPr/>
          <p:nvPr/>
        </p:nvPicPr>
        <p:blipFill>
          <a:blip r:embed="rId4"/>
          <a:stretch/>
        </p:blipFill>
        <p:spPr>
          <a:xfrm>
            <a:off x="3276720" y="4076640"/>
            <a:ext cx="3095640" cy="24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filin"/>
          <p:cNvPicPr/>
          <p:nvPr/>
        </p:nvPicPr>
        <p:blipFill>
          <a:blip r:embed="rId5"/>
          <a:stretch/>
        </p:blipFill>
        <p:spPr>
          <a:xfrm>
            <a:off x="6659640" y="2349360"/>
            <a:ext cx="2155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Игра «Кто лишний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5" descr="Безымянный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гра «Кто лишний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5" descr="Безымянный2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97907340"/>
          <p:cNvPicPr/>
          <p:nvPr/>
        </p:nvPicPr>
        <p:blipFill>
          <a:blip r:embed="rId1"/>
          <a:stretch/>
        </p:blipFill>
        <p:spPr>
          <a:xfrm>
            <a:off x="250920" y="0"/>
            <a:ext cx="46558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 rot="5400000">
            <a:off x="4104000" y="2888280"/>
            <a:ext cx="612144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ерелетные птиц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Garamond"/>
              </a:rPr>
              <a:t>Д/и «Чем похожи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Picture 6" descr="части птиц"/>
          <p:cNvPicPr/>
          <p:nvPr/>
        </p:nvPicPr>
        <p:blipFill>
          <a:blip r:embed="rId1"/>
          <a:stretch/>
        </p:blipFill>
        <p:spPr>
          <a:xfrm>
            <a:off x="1187280" y="150336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обобщить знания детей о зимующих птицах, о необходимости заботы о них в зимнее время г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484360" y="476280"/>
            <a:ext cx="40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/и «Чем питаются?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5" descr="1577"/>
          <p:cNvPicPr/>
          <p:nvPr/>
        </p:nvPicPr>
        <p:blipFill>
          <a:blip r:embed="rId1"/>
          <a:stretch/>
        </p:blipFill>
        <p:spPr>
          <a:xfrm>
            <a:off x="971640" y="1341360"/>
            <a:ext cx="3024000" cy="246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0001999_normal_Elovuye_shishki"/>
          <p:cNvPicPr/>
          <p:nvPr/>
        </p:nvPicPr>
        <p:blipFill>
          <a:blip r:embed="rId2"/>
          <a:stretch/>
        </p:blipFill>
        <p:spPr>
          <a:xfrm>
            <a:off x="4788000" y="1341360"/>
            <a:ext cx="3097080" cy="247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images"/>
          <p:cNvPicPr/>
          <p:nvPr/>
        </p:nvPicPr>
        <p:blipFill>
          <a:blip r:embed="rId3"/>
          <a:stretch/>
        </p:blipFill>
        <p:spPr>
          <a:xfrm>
            <a:off x="900000" y="4221000"/>
            <a:ext cx="3024360" cy="227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emena"/>
          <p:cNvPicPr/>
          <p:nvPr/>
        </p:nvPicPr>
        <p:blipFill>
          <a:blip r:embed="rId4"/>
          <a:stretch/>
        </p:blipFill>
        <p:spPr>
          <a:xfrm>
            <a:off x="4788000" y="4221000"/>
            <a:ext cx="3168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aramond"/>
              </a:rPr>
              <a:t>Д/и «Накорми птиц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Picture 5" descr="cdd6f1638ef67e573e0f4fdf77719d45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Какие бывают кормушки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Picture 11" descr="311236389"/>
          <p:cNvPicPr/>
          <p:nvPr/>
        </p:nvPicPr>
        <p:blipFill>
          <a:blip r:embed="rId1"/>
          <a:stretch/>
        </p:blipFill>
        <p:spPr>
          <a:xfrm>
            <a:off x="250920" y="1413000"/>
            <a:ext cx="327960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ET16haQRTtw"/>
          <p:cNvPicPr/>
          <p:nvPr/>
        </p:nvPicPr>
        <p:blipFill>
          <a:blip r:embed="rId2"/>
          <a:stretch/>
        </p:blipFill>
        <p:spPr>
          <a:xfrm>
            <a:off x="5867280" y="1413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kormushka-dlya-ptits4"/>
          <p:cNvPicPr/>
          <p:nvPr/>
        </p:nvPicPr>
        <p:blipFill>
          <a:blip r:embed="rId3"/>
          <a:stretch/>
        </p:blipFill>
        <p:spPr>
          <a:xfrm>
            <a:off x="250920" y="3933720"/>
            <a:ext cx="2798640" cy="2187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kormushka-dlya-ptic-5"/>
          <p:cNvPicPr/>
          <p:nvPr/>
        </p:nvPicPr>
        <p:blipFill>
          <a:blip r:embed="rId4"/>
          <a:stretch/>
        </p:blipFill>
        <p:spPr>
          <a:xfrm>
            <a:off x="3276720" y="3933720"/>
            <a:ext cx="2808000" cy="2170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907"/>
          <p:cNvPicPr/>
          <p:nvPr/>
        </p:nvPicPr>
        <p:blipFill>
          <a:blip r:embed="rId5"/>
          <a:stretch/>
        </p:blipFill>
        <p:spPr>
          <a:xfrm>
            <a:off x="6300720" y="3933720"/>
            <a:ext cx="2627280" cy="218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1384329572-324590-138072"/>
          <p:cNvPicPr/>
          <p:nvPr/>
        </p:nvPicPr>
        <p:blipFill>
          <a:blip r:embed="rId6"/>
          <a:stretch/>
        </p:blipFill>
        <p:spPr>
          <a:xfrm>
            <a:off x="3635280" y="1413000"/>
            <a:ext cx="2129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844453160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Garamond"/>
              </a:rPr>
              <a:t>Д/и «Кто как разговаривает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Воро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Голуб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Воробе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Соро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Дяте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Garamond"/>
              </a:rPr>
              <a:t>Син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ворку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чирика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карка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тинька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стрекоче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886e0"/>
                </a:solidFill>
                <a:latin typeface="Garamond"/>
              </a:rPr>
              <a:t>стучи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9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9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В названии какой птицы слышится звук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                  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[с]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[р]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[л]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              </a:t>
            </a:r>
            <a:r>
              <a:rPr b="1" lang="en-US" sz="3600" spc="-1" strike="noStrike">
                <a:solidFill>
                  <a:srgbClr val="00cc00"/>
                </a:solidFill>
                <a:latin typeface="Garamond"/>
              </a:rPr>
              <a:t>[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в</a:t>
            </a:r>
            <a:r>
              <a:rPr b="1" lang="en-US" sz="3600" spc="-1" strike="noStrike">
                <a:solidFill>
                  <a:srgbClr val="00cc00"/>
                </a:solidFill>
                <a:latin typeface="Garamond"/>
              </a:rPr>
              <a:t>]</a:t>
            </a:r>
            <a:r>
              <a:rPr b="1" lang="ru-RU" sz="3600" spc="-1" strike="noStrike">
                <a:solidFill>
                  <a:srgbClr val="00cc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рока, клест, снегирь, с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рока, ворона, вороб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ятел, глухарь, голуб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робей, ворона, с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Garamond"/>
              </a:rPr>
              <a:t>Ребус:</a:t>
            </a:r>
            <a:br>
              <a:rPr sz="4000"/>
            </a:br>
            <a:r>
              <a:rPr b="1" lang="ru-RU" sz="4000" spc="-1" strike="noStrike">
                <a:solidFill>
                  <a:srgbClr val="00cc00"/>
                </a:solidFill>
                <a:latin typeface="Garamond"/>
              </a:rPr>
              <a:t>соедини слоги из  одной части листа  со слогами другой части и назови птицу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3068640"/>
            <a:ext cx="66247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Е                              ТЕ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                               ГИР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Я                                ХАР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НИ                           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ЛУ                              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4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4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4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4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Garamond"/>
              </a:rPr>
              <a:t>Скажи правильно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Черный воро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Серое голуб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Белый сов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Снегирь клевала хле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Сорока лежала на забо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Garamond"/>
              </a:rPr>
              <a:t>Ворона чирикала на солныш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4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indefinite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1" dur="indefinite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indefinite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indefinite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7" dur="indefinite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8" dur="indefinite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indefinite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3" dur="indefinite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4" dur="indefinite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indefinite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9" dur="indefinite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0" dur="indefinite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indefinite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5" dur="indefinite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6" dur="indefinite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Garamond"/>
              </a:rPr>
              <a:t>Заверши фраз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Ворона большая, а воробе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Голубь гулит, а сорока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человека дети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кошки лапы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человека нос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человека руки, а у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У животных шерсть, а у  пти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Один снегирь, а много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Один дятел, а много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Garamond"/>
              </a:rPr>
              <a:t>Две синицы, а пять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азови ласково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С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С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Голуб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Garamond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5085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Закрепить представления детей о зимующих и перелетных птиц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Закрепить знания детей об  их особенностях и разнообраз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Упражнять в правильном согласовании прилагательного с существитель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Упражнять фонематическое восприятие через нахождение слов со звуками [с], [р], [л], [в]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Garamond"/>
              </a:rPr>
              <a:t>Формировать умение разбивать слова на слоги, выделять ударный сло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овательные 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Garamond"/>
              </a:rPr>
              <a:t>Птичья викторин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Почему снегиря назвали снегире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У какой птицы самый длинный язык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Дитя любых пернат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Какая птица одета в желтую блузку с черным галстуко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Жизнь, какой птицы очень тесно связана с человеко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Почему снегири и синицы любят водить компанию с дятло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376611523"/>
          <p:cNvPicPr/>
          <p:nvPr/>
        </p:nvPicPr>
        <p:blipFill>
          <a:blip r:embed="rId1"/>
          <a:stretch/>
        </p:blipFill>
        <p:spPr>
          <a:xfrm>
            <a:off x="457200" y="291960"/>
            <a:ext cx="83628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Помните, ребята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Птицы наши друзья! Берегите и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Особенно зимой, когда им очень тяжел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00ff00"/>
                </a:solidFill>
                <a:latin typeface="Garamond"/>
              </a:rPr>
              <a:t>Спасибо за</a:t>
            </a: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ff00"/>
                </a:solidFill>
                <a:latin typeface="Garamond"/>
              </a:rPr>
              <a:t>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2997000"/>
            <a:ext cx="40384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синицы1"/>
          <p:cNvPicPr/>
          <p:nvPr/>
        </p:nvPicPr>
        <p:blipFill>
          <a:blip r:embed="rId1"/>
          <a:stretch/>
        </p:blipFill>
        <p:spPr>
          <a:xfrm>
            <a:off x="4427640" y="1844640"/>
            <a:ext cx="44654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5085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оспитывать заботливое отношение к птицам, ко всей живой приро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оказать необходимость защиты птиц зим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Воспитывать чуткость, отзывчив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826920" y="404640"/>
            <a:ext cx="7490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спитательные 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Развивать умение слушать внимательно речь воспитател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Развивать произвольное внимание, память, логическое 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Уточнить и расширить словарь по теме «Зимующие птицы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Формировать фразеологическую реч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900000" y="404640"/>
            <a:ext cx="770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вающие зада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Д/и «Время год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е сейчас время год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ие зимние месяцы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ая  погода бывает зимой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в это время делают люди? Что происходит с животными? С птицам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1" descr="Воронеж_Чернавский мост_водохранилище_Придаченская дамба_крещение_зима_Shkondin"/>
          <p:cNvPicPr/>
          <p:nvPr/>
        </p:nvPicPr>
        <p:blipFill>
          <a:blip r:embed="rId1"/>
          <a:stretch/>
        </p:blipFill>
        <p:spPr>
          <a:xfrm>
            <a:off x="4643280" y="1557360"/>
            <a:ext cx="410544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zima"/>
          <p:cNvPicPr/>
          <p:nvPr/>
        </p:nvPicPr>
        <p:blipFill>
          <a:blip r:embed="rId2"/>
          <a:stretch/>
        </p:blipFill>
        <p:spPr>
          <a:xfrm>
            <a:off x="4648320" y="3933720"/>
            <a:ext cx="41004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Непоседа пестрая,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тица длиннохвостая.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тица говорливая,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Самая болтливая</a:t>
            </a:r>
            <a:r>
              <a:rPr b="0" lang="ru-RU" sz="2800" spc="-1" strike="noStrike">
                <a:solidFill>
                  <a:srgbClr val="ff0066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6" descr="000001"/>
          <p:cNvPicPr/>
          <p:nvPr/>
        </p:nvPicPr>
        <p:blipFill>
          <a:blip r:embed="rId1"/>
          <a:stretch/>
        </p:blipFill>
        <p:spPr>
          <a:xfrm>
            <a:off x="5243400" y="1752480"/>
            <a:ext cx="2847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Спинкою зеленовата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Животиком желтова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Черненькая шапоч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И полоска шарфика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9abcb91d-c137-4dfa-b47e-d718f22accf7"/>
          <p:cNvPicPr/>
          <p:nvPr/>
        </p:nvPicPr>
        <p:blipFill>
          <a:blip r:embed="rId1"/>
          <a:stretch/>
        </p:blipFill>
        <p:spPr>
          <a:xfrm>
            <a:off x="395280" y="2492280"/>
            <a:ext cx="39909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У нее глаза большие,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Хищный клюв всегда крючко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По ночам она летает,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Garamond"/>
              </a:rPr>
              <a:t>Спит на дереве лишь дн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why-do-owls-not-dizzy"/>
          <p:cNvPicPr/>
          <p:nvPr/>
        </p:nvPicPr>
        <p:blipFill>
          <a:blip r:embed="rId1"/>
          <a:stretch/>
        </p:blipFill>
        <p:spPr>
          <a:xfrm>
            <a:off x="4648320" y="1969920"/>
            <a:ext cx="4038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08:54:43Z</dcterms:created>
  <dc:creator>user</dc:creator>
  <dc:description/>
  <dc:language>en-US</dc:language>
  <cp:lastModifiedBy>Я</cp:lastModifiedBy>
  <dcterms:modified xsi:type="dcterms:W3CDTF">2020-03-30T13:57:21Z</dcterms:modified>
  <cp:revision>6</cp:revision>
  <dc:subject/>
  <dc:title>Слайд 1</dc:title>
</cp:coreProperties>
</file>