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AF9-943B-4365-96EB-CDEAA27C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663-BC11-4BDA-B849-1FB45634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B6D-D3E9-4E33-B8EE-B434FCCC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289-8EA3-4C01-BE7E-0061C5B4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10FF-99EE-4493-A447-285227B6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F365-04DD-4976-8A37-EAE251F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2BC0-58BD-493D-9A18-1475221F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49E6-5EA6-470C-A6C0-3FAFDBFF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2605-FEE4-4AF7-9951-C10A83B1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B3D9-310C-4965-B404-292D3BBF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69CE-419E-4E01-8CD3-A8A5D76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DE6-0D68-4446-8A2F-9EE9FC4F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99F5-434F-40DE-AC37-CCEBCD68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8A48-C3F3-48C5-9290-3E018386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895F-4CAA-41E7-A104-CD478B6B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E0A7-501B-4ADD-BA3A-430BB302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B1A4-F2DF-4F36-8D9E-BFF499D2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DDC-5FDF-4CBB-BD58-176CE7DE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E27-B034-4D26-9B20-C24BCCBE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9EF-1539-4406-B850-8FDFE06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851-D2AD-42D9-9FE2-4F1D9660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3C7-CCD8-4E82-A9AA-B581214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D64-D293-4A5A-B3E6-BAA3EACD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4D0-2028-4919-8875-83C65016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BC22-3097-4108-A89D-0507BED7515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9544-09D3-4C5C-8171-4079C16F574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88;&#1080;&#1087;&#1088;&#1072;&#1074;&#1072;" TargetMode="External"/><Relationship Id="rId3" Type="http://schemas.openxmlformats.org/officeDocument/2006/relationships/hyperlink" Target="http://ru.wikipedia.org/wiki/&#1042;&#1082;&#1091;&#1089;" TargetMode="External"/><Relationship Id="rId4" Type="http://schemas.openxmlformats.org/officeDocument/2006/relationships/hyperlink" Target="http://ru.wikipedia.org/wiki/&#1050;&#1086;&#1085;&#1089;&#1077;&#1088;&#1074;&#1072;&#1085;&#1090;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0;&#1076;&#1088;&#1086;&#1082;&#1072;&#1088;&#1073;&#1086;&#1085;&#1072;&#1090;_&#1085;&#1072;&#1090;&#1088;&#1080;&#1103;" TargetMode="External"/><Relationship Id="rId2" Type="http://schemas.openxmlformats.org/officeDocument/2006/relationships/hyperlink" Target="http://ru.wikipedia.org/wiki/&#1050;&#1091;&#1083;&#1080;&#1085;&#1072;&#1088;&#1080;&#1103;" TargetMode="External"/><Relationship Id="rId3" Type="http://schemas.openxmlformats.org/officeDocument/2006/relationships/hyperlink" Target="http://ru.wikipedia.org/wiki/&#1055;&#1077;&#1082;&#1072;&#1088;&#1089;&#1082;&#1080;&#1081;_&#1087;&#1086;&#1088;&#1086;&#1096;&#1086;&#1082;" TargetMode="External"/><Relationship Id="rId4" Type="http://schemas.openxmlformats.org/officeDocument/2006/relationships/hyperlink" Target="http://ru.wikipedia.org/wiki/&#1050;&#1072;&#1088;&#1073;&#1086;&#1085;&#1072;&#1090;_&#1072;&#1084;&#1084;&#1086;&#1085;&#1080;&#1103;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52;&#1099;&#1083;&#1086;" TargetMode="External"/><Relationship Id="rId3" Type="http://schemas.openxmlformats.org/officeDocument/2006/relationships/hyperlink" Target="http://ru.wikipedia.org/wiki/&#1057;&#1090;&#1080;&#1088;&#1072;&#1083;&#1100;&#1085;&#1099;&#1081;_&#1087;&#1086;&#1088;&#1086;&#1096;&#1086;&#1082;" TargetMode="External"/><Relationship Id="rId4" Type="http://schemas.openxmlformats.org/officeDocument/2006/relationships/hyperlink" Target="http://ru.wikipedia.org/wiki/&#1046;&#1105;&#1089;&#1090;&#1082;&#1086;&#1089;&#1090;&#1100;_&#1074;&#1086;&#1076;&#1099;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89;&#1090;&#1074;&#1086;&#1088;&#1080;&#1084;&#1086;&#1089;&#1090;&#1100;" TargetMode="External"/><Relationship Id="rId2" Type="http://schemas.openxmlformats.org/officeDocument/2006/relationships/hyperlink" Target="http://ru.wikipedia.org/wiki/&#1057;&#1086;&#1083;&#1080;" TargetMode="External"/><Relationship Id="rId3" Type="http://schemas.openxmlformats.org/officeDocument/2006/relationships/hyperlink" Target="http://ru.wikipedia.org/wiki/&#1046;&#1080;&#1088;&#1085;&#1099;&#1077;_&#1082;&#1080;&#1089;&#1083;&#1086;&#1090;&#1099;" TargetMode="External"/><Relationship Id="rId4" Type="http://schemas.openxmlformats.org/officeDocument/2006/relationships/hyperlink" Target="http://ru.wikipedia.org/wiki/&#1053;&#1072;&#1090;&#1088;&#1080;&#1081;" TargetMode="External"/><Relationship Id="rId5" Type="http://schemas.openxmlformats.org/officeDocument/2006/relationships/hyperlink" Target="http://ru.wikipedia.org/wiki/&#1050;&#1072;&#1083;&#1080;&#1081;" TargetMode="External"/><Relationship Id="rId6" Type="http://schemas.openxmlformats.org/officeDocument/2006/relationships/hyperlink" Target="http://ru.wikipedia.org/wiki/&#1040;&#1084;&#1084;&#1086;&#1085;&#1080;&#1081;" TargetMode="External"/><Relationship Id="rId7" Type="http://schemas.openxmlformats.org/officeDocument/2006/relationships/hyperlink" Target="http://ru.wikipedia.org/wiki/&#1057;&#1090;&#1077;&#1072;&#1088;&#1080;&#1085;&#1086;&#1074;&#1072;&#1103;_&#1082;&#1080;&#1089;&#1083;&#1086;&#1090;&#1072;" TargetMode="External"/><Relationship Id="rId8" Type="http://schemas.openxmlformats.org/officeDocument/2006/relationships/hyperlink" Target="http://ru.wikipedia.org/wiki/&#1055;&#1072;&#1083;&#1100;&#1084;&#1080;&#1090;&#1080;&#1085;&#1086;&#1074;&#1072;&#1103;_&#1082;&#1080;&#1089;&#1083;&#1086;&#1090;&#1072;" TargetMode="External"/><Relationship Id="rId9" Type="http://schemas.openxmlformats.org/officeDocument/2006/relationships/hyperlink" Target="http://ru.wikipedia.org/wiki/&#1054;&#1083;&#1077;&#1080;&#1085;&#1086;&#1074;&#1072;&#1103;_&#1082;&#1080;&#1089;&#1083;&#1086;&#1090;&#1072;" TargetMode="External"/><Relationship Id="rId10" Type="http://schemas.openxmlformats.org/officeDocument/2006/relationships/hyperlink" Target="http://ru.wikipedia.org/wiki/&#1040;&#1088;&#1086;&#1084;&#1072;&#1090;&#1080;&#1079;&#1072;&#1090;&#1086;&#1088;&#1099;" TargetMode="External"/><Relationship Id="rId11" Type="http://schemas.openxmlformats.org/officeDocument/2006/relationships/hyperlink" Target="http://ru.wikipedia.org/wiki/&#1050;&#1088;&#1072;&#1089;&#1080;&#1090;&#1077;&#1083;&#1080;" TargetMode="External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87;&#1072;&#1090;&#1083;&#1105;&#1074;&#1082;&#1072;" TargetMode="External"/><Relationship Id="rId2" Type="http://schemas.openxmlformats.org/officeDocument/2006/relationships/hyperlink" Target="http://ru.wikipedia.org/wiki/&#1043;&#1077;&#1088;&#1084;&#1077;&#1090;&#1080;&#1082;" TargetMode="External"/><Relationship Id="rId3" Type="http://schemas.openxmlformats.org/officeDocument/2006/relationships/hyperlink" Target="http://ru.wikipedia.org/wiki/&#1055;&#1080;&#1097;&#1077;&#1074;&#1072;&#1103;_&#1087;&#1088;&#1086;&#1084;&#1099;&#1096;&#1083;&#1077;&#1085;&#1085;&#1086;&#1089;&#1090;&#1100;" TargetMode="External"/><Relationship Id="rId4" Type="http://schemas.openxmlformats.org/officeDocument/2006/relationships/hyperlink" Target="http://ru.wikipedia.org/wiki/&#1055;&#1083;&#1072;&#1089;&#1090;&#1084;&#1072;&#1089;&#1089;&#1099;" TargetMode="External"/><Relationship Id="rId5" Type="http://schemas.openxmlformats.org/officeDocument/2006/relationships/hyperlink" Target="http://ru.wikipedia.org/wiki/&#1050;&#1088;&#1072;&#1089;&#1082;&#1080;" TargetMode="External"/><Relationship Id="rId6" Type="http://schemas.openxmlformats.org/officeDocument/2006/relationships/hyperlink" Target="http://ru.wikipedia.org/wiki/&#1056;&#1077;&#1079;&#1080;&#1085;&#1072;" TargetMode="External"/><Relationship Id="rId7" Type="http://schemas.openxmlformats.org/officeDocument/2006/relationships/hyperlink" Target="http://ru.wikipedia.org/wiki/&#1041;&#1091;&#1084;&#1072;&#1075;&#1072;" TargetMode="External"/><Relationship Id="rId8" Type="http://schemas.openxmlformats.org/officeDocument/2006/relationships/hyperlink" Target="http://ru.wikipedia.org/wiki/&#1055;&#1086;&#1083;&#1080;&#1074;&#1080;&#1085;&#1080;&#1083;&#1093;&#1083;&#1086;&#1088;&#1080;&#1076;" TargetMode="External"/><Relationship Id="rId9" Type="http://schemas.openxmlformats.org/officeDocument/2006/relationships/hyperlink" Target="http://ru.wikipedia.org/wiki/&#1050;&#1088;&#1080;&#1084;&#1087;&#1083;&#1077;&#1085;" TargetMode="External"/><Relationship Id="rId10" Type="http://schemas.openxmlformats.org/officeDocument/2006/relationships/hyperlink" Target="http://ru.wikipedia.org/wiki/&#1051;&#1072;&#1074;&#1089;&#1072;&#1085;" TargetMode="External"/><Relationship Id="rId11" Type="http://schemas.openxmlformats.org/officeDocument/2006/relationships/hyperlink" Target="http://ru.wikipedia.org/wiki/&#1055;&#1086;&#1083;&#1080;&#1086;&#1083;&#1077;&#1092;&#1080;&#1085;&#1099;" TargetMode="External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76;&#1086;&#1073;&#1088;&#1077;&#1085;&#1080;&#1077;" TargetMode="External"/><Relationship Id="rId2" Type="http://schemas.openxmlformats.org/officeDocument/2006/relationships/hyperlink" Target="http://ru.wikipedia.org/wiki/&#1050;&#1072;&#1083;&#1080;&#1077;&#1074;&#1072;&#1103;_&#1089;&#1077;&#1083;&#1080;&#1090;&#1088;&#1072;" TargetMode="External"/><Relationship Id="rId3" Type="http://schemas.openxmlformats.org/officeDocument/2006/relationships/hyperlink" Target="http://ru.wikipedia.org/wiki/&#1050;&#1072;&#1083;&#1080;&#1081;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7;&#1088;&#1077;&#1073;&#1088;&#1072;_&#1085;&#1080;&#1090;&#1088;&#1072;&#1090;" TargetMode="External"/><Relationship Id="rId2" Type="http://schemas.openxmlformats.org/officeDocument/2006/relationships/hyperlink" Target="http://ru.wikipedia.org/wiki/&#1051;&#1072;&#1079;&#1091;&#1088;&#1080;&#1090;" TargetMode="External"/><Relationship Id="rId3" Type="http://schemas.openxmlformats.org/officeDocument/2006/relationships/hyperlink" Target="http://ru.wikipedia.org/wiki/&#1052;&#1077;&#1076;&#1080;&#1094;&#1080;&#1085;&#1072;" TargetMode="External"/><Relationship Id="rId4" Type="http://schemas.openxmlformats.org/officeDocument/2006/relationships/hyperlink" Target="http://ru.wikipedia.org/wiki/&#1050;&#1080;&#1089;&#1083;&#1086;&#1090;&#1085;&#1086;&#1089;&#1090;&#1100;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Тема: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«Применение солей. Способы распознавания солей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Содержимое 7" descr="img7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одержимое 4" descr="img7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згадайте ребус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Содержимое 4" descr="15-013.gif"/>
          <p:cNvPicPr/>
          <p:nvPr/>
        </p:nvPicPr>
        <p:blipFill>
          <a:blip r:embed="rId1"/>
          <a:stretch/>
        </p:blipFill>
        <p:spPr>
          <a:xfrm>
            <a:off x="1447920" y="2133720"/>
            <a:ext cx="7162560" cy="37335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4" descr="hello_html_m7e257a04.jpg"/>
          <p:cNvPicPr/>
          <p:nvPr/>
        </p:nvPicPr>
        <p:blipFill>
          <a:blip r:embed="rId1"/>
          <a:stretch/>
        </p:blipFill>
        <p:spPr>
          <a:xfrm>
            <a:off x="1143000" y="2057400"/>
            <a:ext cx="7543800" cy="2028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Georgia"/>
              </a:rPr>
              <a:t>Соли на кухн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Picture 7" descr="sil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862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 приготовлении пищи поваренная соль употребляется как важна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приправа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Соль имеет хорошо знакомый каждому человеку характерны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вкус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, без которого пища кажется пресной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варенная соль обладает слабыми антисептическими свойствами; 10-15 % содержание соли предотвращает развитие гнилостных бактерий, что служит причиной её широкого применения в качеств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консерванта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пищи и иных органических масс (кожи, древесины, кле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D:\69582024_kamennaya[1].jpg"/>
          <p:cNvPicPr/>
          <p:nvPr/>
        </p:nvPicPr>
        <p:blipFill>
          <a:blip r:embed="rId5"/>
          <a:stretch/>
        </p:blipFill>
        <p:spPr>
          <a:xfrm>
            <a:off x="0" y="5002200"/>
            <a:ext cx="2133720" cy="1855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NaHCO</a:t>
            </a:r>
            <a:r>
              <a:rPr b="1" i="1" lang="ru-RU" sz="2000" spc="-1" strike="noStrike" baseline="-25000">
                <a:solidFill>
                  <a:srgbClr val="eaeaea"/>
                </a:solidFill>
                <a:latin typeface="Tahoma"/>
              </a:rPr>
              <a:t>3</a:t>
            </a: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ru-RU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гидрокарбонат натрия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 — питьевая или пищевая сода, натрий двууглекислый, бикарбонат натрия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239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 пищевой промышленности — хлебопечении, производстве кондитерских изделий, приготовлении напи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Основное применение питьевой соды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кулинария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, где она применяется, преимущественно, в качестве основного или дополнительного </a:t>
            </a: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разрыхлителя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при выпечке (так как при нагревании выделяет углекислый газ), самостоятельно или в составе комплексных разрыхлителей (например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пекарского порошка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, в смести с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карбонатом аммония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) и в готовых смесях для выпечки (кексы, торты и пр.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" descr="D:\soda-new[1].jpg"/>
          <p:cNvPicPr/>
          <p:nvPr/>
        </p:nvPicPr>
        <p:blipFill>
          <a:blip r:embed="rId5"/>
          <a:stretch/>
        </p:blipFill>
        <p:spPr>
          <a:xfrm>
            <a:off x="6705720" y="5029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15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ли в ванно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Кальцинированная и кристаллическая с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47552860"/>
          <p:cNvPicPr/>
          <p:nvPr/>
        </p:nvPicPr>
        <p:blipFill>
          <a:blip r:embed="rId1"/>
          <a:stretch/>
        </p:blipFill>
        <p:spPr>
          <a:xfrm>
            <a:off x="914400" y="0"/>
            <a:ext cx="2070000" cy="1828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914400" y="2413080"/>
            <a:ext cx="7848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карбонат натрия) — кальцинированная с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·10H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O (декагидрат карбоната натрия, содержит 62,5 % кристаллизационной воды) — стиральная с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990720" y="3352680"/>
            <a:ext cx="77724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бонат натрия используют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мыловарен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производстве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стиральных и чистящих порош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Также он применяется для смягчения воды паровых котлов, устранени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жёсткости воды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арбонат натрия (кальцинированная сод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бонат натрия (кальцинированная сода) - регулятор кислотности; окислитель. Используется ка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мпунь, мыло, соль для ванны. Жидкость для мытья посуд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D:\кальцинированн сода.jpg"/>
          <p:cNvPicPr/>
          <p:nvPr/>
        </p:nvPicPr>
        <p:blipFill>
          <a:blip r:embed="rId5"/>
          <a:stretch/>
        </p:blipFill>
        <p:spPr>
          <a:xfrm>
            <a:off x="7543800" y="5397480"/>
            <a:ext cx="1600200" cy="1460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66"/>
                </a:solidFill>
                <a:latin typeface="Georgia"/>
              </a:rPr>
              <a:t>Мыл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имическом отношении основным компонентом твёрдого мыла являются смес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растворимы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сол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высших жирных кисло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Обычно это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натриев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еже —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калиев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аммониев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ли таких кислот, как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стеарино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пальмитино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олеино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ин из вариантов химического состава твёрдого мыла — C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3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COONa (жидкого — C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3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COOK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полнительно в составе мыла могут быть и другие вещества, обладающие моющим действием, а также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10"/>
              </a:rPr>
              <a:t>ароматизато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11"/>
              </a:rPr>
              <a:t>крас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D:\1[1].jpg"/>
          <p:cNvPicPr/>
          <p:nvPr/>
        </p:nvPicPr>
        <p:blipFill>
          <a:blip r:embed="rId12"/>
          <a:stretch/>
        </p:blipFill>
        <p:spPr>
          <a:xfrm>
            <a:off x="5943600" y="4657680"/>
            <a:ext cx="32004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soap200507-0[1].jpg"/>
          <p:cNvPicPr/>
          <p:nvPr/>
        </p:nvPicPr>
        <p:blipFill>
          <a:blip r:embed="rId13"/>
          <a:stretch/>
        </p:blipFill>
        <p:spPr>
          <a:xfrm>
            <a:off x="152280" y="0"/>
            <a:ext cx="2895840" cy="18111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4647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Соли для ремон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Строительство —  это  один из основных потребителей карбоната кальция.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Шпатлевки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, различны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герметики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 — все они содержат карбонат кальция в значительных количествах. Также, карбонат кальция является важнейшим составным элементом при производстве продукции бытовой химии — средств для чистки сантехни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Очищенный от посторонних примесей, карбонат кальция широко используется в бумажной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промышленности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, при производств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пластмасс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красок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резины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, продукции </a:t>
            </a:r>
            <a:r>
              <a:rPr b="0" lang="ru-RU" sz="1400" spc="-1" strike="noStrike" u="sng">
                <a:solidFill>
                  <a:srgbClr val="ffff00"/>
                </a:solidFill>
                <a:uFillTx/>
                <a:latin typeface="Tahoma"/>
              </a:rPr>
              <a:t>бытовой химии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. Производители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бумаги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используют карбонат кальция одновременно в качестве отбеливателя, наполнителя (заменяя им дорогостоящие волокна и красители), а также раскислител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Производители пластмассы — одни из основных потребителей карбоната кальция (более 50 % всего потребления). Используемый в качестве наполнителя и красителя, карбонат кальция необходим при производств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поливинилхлорида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(PVC), полиэфирных волокон (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кримплен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10"/>
              </a:rPr>
              <a:t>лавсан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, и т. п.),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11"/>
              </a:rPr>
              <a:t>полиолефинов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. Изделия из данных видов пластмасс распространены повсеместно — это трубы, сантехника, кафельная плитка, черепица, линолеум, ковровые покрытия, и т. п. Карбонат кальция составляет порядка 20 % красящего пигмента, используемого при производстве красо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1263385711"/>
          <p:cNvPicPr/>
          <p:nvPr/>
        </p:nvPicPr>
        <p:blipFill>
          <a:blip r:embed="rId12"/>
          <a:stretch/>
        </p:blipFill>
        <p:spPr>
          <a:xfrm>
            <a:off x="6781680" y="0"/>
            <a:ext cx="2362320" cy="186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:\Кальцит(1)[1].jpg"/>
          <p:cNvPicPr/>
          <p:nvPr/>
        </p:nvPicPr>
        <p:blipFill>
          <a:blip r:embed="rId13"/>
          <a:stretch/>
        </p:blipFill>
        <p:spPr>
          <a:xfrm>
            <a:off x="0" y="54100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320" y="380880"/>
            <a:ext cx="4496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Соли в саду и огород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2d050"/>
                </a:solidFill>
                <a:latin typeface="Georgia"/>
              </a:rPr>
              <a:t>Селитры используются как азотные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Georgia"/>
                <a:hlinkClick r:id="rId1"/>
              </a:rPr>
              <a:t>удобрения</a:t>
            </a:r>
            <a:r>
              <a:rPr b="1" i="1" lang="ru-RU" sz="2400" spc="-1" strike="noStrike">
                <a:solidFill>
                  <a:srgbClr val="92d050"/>
                </a:solidFill>
                <a:latin typeface="Georgia"/>
              </a:rPr>
              <a:t>, при этом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Georgia"/>
                <a:hlinkClick r:id="rId2"/>
              </a:rPr>
              <a:t>калиевая селитра</a:t>
            </a:r>
            <a:r>
              <a:rPr b="1" i="1" lang="ru-RU" sz="2400" spc="-1" strike="noStrike">
                <a:solidFill>
                  <a:srgbClr val="92d050"/>
                </a:solidFill>
                <a:latin typeface="Georgia"/>
              </a:rPr>
              <a:t> является также источником необходимого растениям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Georgia"/>
                <a:hlinkClick r:id="rId3"/>
              </a:rPr>
              <a:t>калия</a:t>
            </a:r>
            <a:r>
              <a:rPr b="1" i="1" lang="ru-RU" sz="2400" spc="-1" strike="noStrike">
                <a:solidFill>
                  <a:srgbClr val="92d05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2d050"/>
                </a:solidFill>
                <a:latin typeface="Georgia"/>
              </a:rPr>
              <a:t>При помощи карбоната кальция восстанавливают кислотно-щелочной баланс почв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D:\1233010318_256[1].jpg"/>
          <p:cNvPicPr/>
          <p:nvPr/>
        </p:nvPicPr>
        <p:blipFill>
          <a:blip r:embed="rId4"/>
          <a:stretch/>
        </p:blipFill>
        <p:spPr>
          <a:xfrm>
            <a:off x="5821200" y="4267080"/>
            <a:ext cx="3322800" cy="259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:\сел.jpg"/>
          <p:cNvPicPr/>
          <p:nvPr/>
        </p:nvPicPr>
        <p:blipFill>
          <a:blip r:embed="rId5"/>
          <a:stretch/>
        </p:blipFill>
        <p:spPr>
          <a:xfrm>
            <a:off x="914400" y="0"/>
            <a:ext cx="1905120" cy="1782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4267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Tahoma"/>
              </a:rPr>
              <a:t>Соли в аптечк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Ляп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Ляпис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 — Нитрат серебра (I) используется в медицине (ляписный карандаш) для прижигания ран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Ляпис-лазурь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— лазурит, непрозрачный минерал от синего до голубовато-серого или зеленовато-серого цв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ahoma"/>
              </a:rPr>
              <a:t>Жженная магне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медицине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применяют при повышенной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кислотности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желудочного сок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, так как она обусловливается избыточным содержание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соляной кислоты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 Жжёную магнезию принимают также при случайном попадании в желудок кисло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D:\ляпис.jpg"/>
          <p:cNvPicPr/>
          <p:nvPr/>
        </p:nvPicPr>
        <p:blipFill>
          <a:blip r:embed="rId5"/>
          <a:stretch/>
        </p:blipFill>
        <p:spPr>
          <a:xfrm>
            <a:off x="228600" y="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D:\магн.jpg"/>
          <p:cNvPicPr/>
          <p:nvPr/>
        </p:nvPicPr>
        <p:blipFill>
          <a:blip r:embed="rId6"/>
          <a:stretch/>
        </p:blipFill>
        <p:spPr>
          <a:xfrm>
            <a:off x="708660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Перманганат кал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азбавленные растворы (около 0,1 %) перманганата калия нашли широчайшее применение в медицине как антисептическое средство, для полоскания горла, промывания ран, обработки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ожогов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Обладает также дезодорирующим эффектом. Эффективен при лечении ожогов и язв. Способность перманганата калия обезвреживать некоторые яды лежит в основе использования его растворов для промывания желудка при отравлениях неизвестным ядом и пищевых токсикоинфекц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Используется также в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гомеопатии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" descr="D:\2210[1].jpg"/>
          <p:cNvPicPr/>
          <p:nvPr/>
        </p:nvPicPr>
        <p:blipFill>
          <a:blip r:embed="rId1"/>
          <a:stretch/>
        </p:blipFill>
        <p:spPr>
          <a:xfrm>
            <a:off x="152280" y="2895480"/>
            <a:ext cx="1838520" cy="3676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20-03-30T16:22:0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