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8B1-F1B4-43B9-902D-267E8BCB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F2C-11B4-4EF5-B5A7-45A6A31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E69-C6A2-40FC-8FBB-582C4F7A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936-026C-4D8B-A9A6-916DFFF9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3C8-47FD-4916-9B1F-7C3B7A84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B72-C79E-49BA-BED4-FEE8B661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621-247B-4EBB-B098-731D34DE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7D2-52D1-49AB-BF65-FED04737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ACD-8D69-45BD-8D40-DDAD5C14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C5A-D373-498D-B37F-9F55A11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B6F-EF0A-4EF1-9B28-4D16B78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891-821F-4AA8-A762-508254D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BAE1-59EF-46C8-9B08-94604E092F0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0" y="-792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обозначает глаго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ействие или состояние предм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едм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знак предм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каком ряду НЕ с глаголами пишется слит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(не)хотеть, (не)лет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(не)навидеть, (не)годов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не)быть, (не)доумев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0" y="260280"/>
            <a:ext cx="925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каком ряду в корне глагола пишется 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ам…реть, раст…ре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об…рать, заст…л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л…стеть, заст…л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ажите глаголы условного накло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ишу, чит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бежать, сда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любил бы, слушал 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кажите глаголы I спря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итаешь, пиш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троишь, бежи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терпишь, ид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619280" y="0"/>
            <a:ext cx="5605560" cy="11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роверяем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существительно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асть реч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76320" y="981000"/>
            <a:ext cx="8959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ть имя существительное от других частей реч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значение и морфологические признаки существительного как части речи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находить существительные в тексте и определять их морфологические признаки и синтаксическую рол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нний к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есна, зацвели мать-и-мачеха и незабудки, под коричневыми корнями леса явились подснежники, а в соседнем доме неожиданно расцвёл к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нежниками заголубели котовьи усы, мать-и-мачехой и листом черёмухи зазолотели глаза, а на лапах и на груди объявились белые вербные серёж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крашенный, цветущий, полёживал он на новой траве, посиживал на старом заборе, блистал глазами на крыше сар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ё ждал, что на хвосте у него объявится какой-нибудь тюльпан весенний, особенный, котовий, но тюльпан не появлял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верно, у котов хвосты цветут позднее, – думал я. – В июл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сборника «Жеребёнок» Ю. Ковал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41280" y="1197000"/>
            <a:ext cx="8361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существительное 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иа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речи –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1:50:12Z</dcterms:created>
  <dc:creator>1</dc:creator>
  <dc:description/>
  <dc:language>en-US</dc:language>
  <cp:lastModifiedBy>Нафаня</cp:lastModifiedBy>
  <dcterms:modified xsi:type="dcterms:W3CDTF">2020-03-14T08:03:43Z</dcterms:modified>
  <cp:revision>135</cp:revision>
  <dc:subject/>
  <dc:title>Имя существительное как часть речи</dc:title>
</cp:coreProperties>
</file>