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74E-04D9-4CE8-8C46-B5C3A334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8CE-A922-4569-B04E-B8333F5F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688-4FC6-423A-B4E1-B39F7076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3FB-F08B-4BD6-B517-8B753E36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95C-0511-4CCA-A990-1F82116B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72E-665E-48F3-A2F1-C75D3898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022-B2D1-470A-A1BB-0D4D4BB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C9E-94A8-4A16-A744-9235D43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02C-41E5-4820-A045-127FE00E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1A9-656C-402A-B044-1FDF6AA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0F8-7FEB-4590-9B1D-46D6AA6C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B50-B513-4792-9D68-7EFCAD1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9DA2-A49A-47D7-92E6-0D359CF16C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071013144031.jpg"/>
          <p:cNvPicPr/>
          <p:nvPr/>
        </p:nvPicPr>
        <p:blipFill>
          <a:blip r:embed="rId1"/>
          <a:stretch/>
        </p:blipFill>
        <p:spPr>
          <a:xfrm>
            <a:off x="900000" y="1413000"/>
            <a:ext cx="3454560" cy="4152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4716360" y="1773360"/>
            <a:ext cx="4011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Documents and Settings\Admin\Рабочий стол\Пушкин\Duel_of_Pushlin_and_dAnthes_Naumov1850.jpg"/>
          <p:cNvPicPr/>
          <p:nvPr/>
        </p:nvPicPr>
        <p:blipFill>
          <a:blip r:embed="rId1"/>
          <a:stretch/>
        </p:blipFill>
        <p:spPr>
          <a:xfrm>
            <a:off x="2406600" y="907920"/>
            <a:ext cx="4902120" cy="302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TextBox 9"/>
          <p:cNvSpPr/>
          <p:nvPr/>
        </p:nvSpPr>
        <p:spPr>
          <a:xfrm>
            <a:off x="250920" y="4581360"/>
            <a:ext cx="87152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Прожив два дня, в страшных мучениях,  Пушкин  умер 29 января 1937 года.                        </a:t>
            </a: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4"/>
          <p:cNvSpPr/>
          <p:nvPr/>
        </p:nvSpPr>
        <p:spPr>
          <a:xfrm>
            <a:off x="5148360" y="1268280"/>
            <a:ext cx="3429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man Old Style"/>
              </a:rPr>
              <a:t>Смерть поэта оплакивала вся Рос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man Old Style"/>
              </a:rPr>
              <a:t>Писатель 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man Old Style"/>
              </a:rPr>
              <a:t>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man Old Style"/>
              </a:rPr>
              <a:t>"Солнце русской поэзии закатилос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1297080" y="1268280"/>
            <a:ext cx="343692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285840" y="3860640"/>
            <a:ext cx="1857240" cy="265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1932120" cy="22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6372360" y="549360"/>
            <a:ext cx="2139840" cy="213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6948360" y="3645000"/>
            <a:ext cx="1817640" cy="260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Picture 12" descr=""/>
          <p:cNvPicPr/>
          <p:nvPr/>
        </p:nvPicPr>
        <p:blipFill>
          <a:blip r:embed="rId5"/>
          <a:stretch/>
        </p:blipFill>
        <p:spPr>
          <a:xfrm>
            <a:off x="3708360" y="549360"/>
            <a:ext cx="1590840" cy="217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Rectangle 2"/>
          <p:cNvSpPr/>
          <p:nvPr/>
        </p:nvSpPr>
        <p:spPr>
          <a:xfrm>
            <a:off x="2571840" y="3332160"/>
            <a:ext cx="41432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А.С.Пушкин остави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нам большое литературное наследи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Мы любим и читаем его стихи и поэмы, сказки и прозаические произвед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395280" y="1430280"/>
            <a:ext cx="1655640" cy="243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904080" y="1413000"/>
            <a:ext cx="165744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3132000" y="4724280"/>
            <a:ext cx="2519640" cy="189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87640" y="1628640"/>
            <a:ext cx="2952720" cy="221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581360"/>
            <a:ext cx="1533240" cy="20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804000" y="4724280"/>
            <a:ext cx="1671840" cy="16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4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4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4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39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4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04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pushkin_04.jpg"/>
          <p:cNvPicPr/>
          <p:nvPr/>
        </p:nvPicPr>
        <p:blipFill>
          <a:blip r:embed="rId1"/>
          <a:stretch/>
        </p:blipFill>
        <p:spPr>
          <a:xfrm>
            <a:off x="3276720" y="1484280"/>
            <a:ext cx="2305080" cy="30052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5"/>
          <p:cNvSpPr/>
          <p:nvPr/>
        </p:nvSpPr>
        <p:spPr>
          <a:xfrm>
            <a:off x="3071880" y="4786200"/>
            <a:ext cx="285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А.С.Пушкин родился 26 мая 179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в Моск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pushkin_s_l.jpg"/>
          <p:cNvPicPr/>
          <p:nvPr/>
        </p:nvPicPr>
        <p:blipFill>
          <a:blip r:embed="rId2"/>
          <a:stretch/>
        </p:blipFill>
        <p:spPr>
          <a:xfrm>
            <a:off x="649440" y="3357720"/>
            <a:ext cx="2065320" cy="2592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8"/>
          <p:cNvSpPr/>
          <p:nvPr/>
        </p:nvSpPr>
        <p:spPr>
          <a:xfrm>
            <a:off x="0" y="785880"/>
            <a:ext cx="27147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Отец его, майор в отставке, Сергей Львович, происходил из старинного дворянского рода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pushkina_n_o.jpg"/>
          <p:cNvPicPr/>
          <p:nvPr/>
        </p:nvPicPr>
        <p:blipFill>
          <a:blip r:embed="rId3"/>
          <a:stretch/>
        </p:blipFill>
        <p:spPr>
          <a:xfrm>
            <a:off x="6659640" y="765000"/>
            <a:ext cx="2225520" cy="24940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2"/>
          <p:cNvSpPr/>
          <p:nvPr/>
        </p:nvSpPr>
        <p:spPr>
          <a:xfrm>
            <a:off x="5857920" y="3786120"/>
            <a:ext cx="31431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Мать Пушкина, Надежда Осиповна, приходилась внучкой русскому генералу Ганниб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702480" y="1841400"/>
            <a:ext cx="2117520" cy="27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423720" y="2916360"/>
            <a:ext cx="2203560" cy="28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TextBox 5"/>
          <p:cNvSpPr/>
          <p:nvPr/>
        </p:nvSpPr>
        <p:spPr>
          <a:xfrm>
            <a:off x="214200" y="21420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495600" y="2222640"/>
            <a:ext cx="2156040" cy="30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7"/>
          <p:cNvSpPr/>
          <p:nvPr/>
        </p:nvSpPr>
        <p:spPr>
          <a:xfrm>
            <a:off x="93600" y="600084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492600" y="50720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500280" y="5572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Documents and Settings\Admin\Рабочий стол\пушкин1\arina.jpg"/>
          <p:cNvPicPr/>
          <p:nvPr/>
        </p:nvPicPr>
        <p:blipFill>
          <a:blip r:embed="rId1"/>
          <a:stretch/>
        </p:blipFill>
        <p:spPr>
          <a:xfrm>
            <a:off x="5796000" y="2432160"/>
            <a:ext cx="2376360" cy="350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Rectangle 3"/>
          <p:cNvSpPr/>
          <p:nvPr/>
        </p:nvSpPr>
        <p:spPr>
          <a:xfrm>
            <a:off x="4714920" y="221760"/>
            <a:ext cx="4214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Маленький Саша очень любил свою няню, Арину Родионовну, которая рассказывала ему сказки. Когда он вырос, он написал эти сказки в стихах</a:t>
            </a:r>
            <a:r>
              <a:rPr b="0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Admin\Рабочий стол\Пушкин\gannibal_m_a.jpg"/>
          <p:cNvPicPr/>
          <p:nvPr/>
        </p:nvPicPr>
        <p:blipFill>
          <a:blip r:embed="rId2"/>
          <a:stretch/>
        </p:blipFill>
        <p:spPr>
          <a:xfrm>
            <a:off x="900000" y="549360"/>
            <a:ext cx="2522520" cy="35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Прямоугольник 8"/>
          <p:cNvSpPr/>
          <p:nvPr/>
        </p:nvSpPr>
        <p:spPr>
          <a:xfrm>
            <a:off x="142920" y="457200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Любовь к родному языку маленькому Пушкину привила бабушка, Мария Алексеевна Ганнибал, превосходно говорившая и писавшая по-рус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slide0010_image025"/>
          <p:cNvPicPr/>
          <p:nvPr/>
        </p:nvPicPr>
        <p:blipFill>
          <a:blip r:embed="rId1"/>
          <a:stretch/>
        </p:blipFill>
        <p:spPr>
          <a:xfrm>
            <a:off x="2871720" y="523800"/>
            <a:ext cx="3973680" cy="3737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28760" y="4793400"/>
            <a:ext cx="8286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В возрасте 12 лет Пушкин был отправлен учиться в Царскосельский лицей под Петербургом, обучение в котором продлилось 6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00"/>
                </a:solidFill>
                <a:latin typeface="Bookman Old Style"/>
              </a:rPr>
              <a:t>Здесь он начал писать свои первые стихи, которые изумляли знаменитых поэ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071720" y="4143240"/>
            <a:ext cx="685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После лицея Пушкин стал работать в Коллегии иностранных д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В первые годы по окончании Лицея им были написаны стихотво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"Деревня," "Домовому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« К Чаадаеву", ода "Вольность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поэма "Руслан и Людмил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E:\новое\новое\pushkin_32.jpg"/>
          <p:cNvPicPr/>
          <p:nvPr/>
        </p:nvPicPr>
        <p:blipFill>
          <a:blip r:embed="rId1"/>
          <a:stretch/>
        </p:blipFill>
        <p:spPr>
          <a:xfrm>
            <a:off x="2484360" y="765000"/>
            <a:ext cx="4535640" cy="29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619280" y="3716280"/>
            <a:ext cx="635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В некоторых стихах Александр Пушкин высмеивал власти. Из-за этого его отправили в ссылку на юг, в Кишен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За три года ссылки написаны "Кавказский пленник" , "Бахчисарайский фонтан" , а также "Узник", "Песнь о Вещем Олеге». Начат роман в стихах "Евгений Онегин"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Так же была написана поэма «Кавказский пленник», которая сделала Александра Пушкина знамени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Рабочий стол\Пушкин\pushkin_26.jpg"/>
          <p:cNvPicPr/>
          <p:nvPr/>
        </p:nvPicPr>
        <p:blipFill>
          <a:blip r:embed="rId1"/>
          <a:stretch/>
        </p:blipFill>
        <p:spPr>
          <a:xfrm>
            <a:off x="1019160" y="714240"/>
            <a:ext cx="3840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7"/>
          <p:cNvSpPr/>
          <p:nvPr/>
        </p:nvSpPr>
        <p:spPr>
          <a:xfrm>
            <a:off x="5286240" y="57168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Пушкин в селе Михайлов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Пущин у Пушкина). Н.Н. Ге. 18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 flipH="1">
            <a:off x="4931640" y="404640"/>
            <a:ext cx="350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18 февраля 1831 г. в церкви Вознесения Господня состоялось их венч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1042920" y="1197000"/>
            <a:ext cx="3524400" cy="43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657520" y="3981600"/>
            <a:ext cx="1871640" cy="258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5005440" y="3906720"/>
            <a:ext cx="1833480" cy="265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438280" y="334800"/>
            <a:ext cx="1962360" cy="2786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142920" y="571680"/>
            <a:ext cx="221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9933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668840" y="341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2"/>
          <p:cNvSpPr/>
          <p:nvPr/>
        </p:nvSpPr>
        <p:spPr>
          <a:xfrm>
            <a:off x="6786720" y="71424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1836-1913г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0" y="3286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2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92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92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92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Анатолий</cp:lastModifiedBy>
  <dcterms:modified xsi:type="dcterms:W3CDTF">2020-03-31T11:58:56Z</dcterms:modified>
  <cp:revision>106</cp:revision>
  <dc:subject/>
  <dc:title>Слайд 1</dc:title>
</cp:coreProperties>
</file>