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BF5-128D-4BCB-AA13-889D7B45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AA1-0C32-4598-8730-C48BA705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9EA-59F6-449B-B5F2-6A132740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E9D-CB84-41D7-8D23-53F65F33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A0F-C96B-4F10-AEA3-8D490B19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CE6-FDA0-48A4-94AB-9BE9E4BE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130-FE98-4736-9A59-8A23214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363-A9A3-401B-941C-3C649DE8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B0A-CD09-4F8A-9DDE-704F738B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D79-A85C-472B-BAE7-047913A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88D-F275-4734-9B77-33587C96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F47-E68F-4346-AA85-D4D9ABE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1405-C234-4092-82DD-FC742A6E4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071013144031.jpg"/>
          <p:cNvPicPr/>
          <p:nvPr/>
        </p:nvPicPr>
        <p:blipFill>
          <a:blip r:embed="rId1"/>
          <a:stretch/>
        </p:blipFill>
        <p:spPr>
          <a:xfrm>
            <a:off x="900000" y="1413000"/>
            <a:ext cx="3454560" cy="4152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4716360" y="1773360"/>
            <a:ext cx="4011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Documents and Settings\Admin\Рабочий стол\Пушкин\Duel_of_Pushlin_and_dAnthes_Naumov1850.jpg"/>
          <p:cNvPicPr/>
          <p:nvPr/>
        </p:nvPicPr>
        <p:blipFill>
          <a:blip r:embed="rId1"/>
          <a:stretch/>
        </p:blipFill>
        <p:spPr>
          <a:xfrm>
            <a:off x="2406600" y="907920"/>
            <a:ext cx="4902120" cy="302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TextBox 9"/>
          <p:cNvSpPr/>
          <p:nvPr/>
        </p:nvSpPr>
        <p:spPr>
          <a:xfrm>
            <a:off x="250920" y="4581360"/>
            <a:ext cx="87152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Прожив два дня, в страшных мучениях,  Пушкин  умер 29 января 1937 года.                        </a:t>
            </a: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4"/>
          <p:cNvSpPr/>
          <p:nvPr/>
        </p:nvSpPr>
        <p:spPr>
          <a:xfrm>
            <a:off x="5148360" y="1268280"/>
            <a:ext cx="3429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Смерть поэта оплакивала вся Рос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Писатель 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man Old Style"/>
              </a:rPr>
              <a:t>"Солнце русской поэзии закатилос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1297080" y="1268280"/>
            <a:ext cx="343692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285840" y="3860640"/>
            <a:ext cx="1857240" cy="265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1932120" cy="22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6372360" y="549360"/>
            <a:ext cx="2139840" cy="21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6948360" y="3645000"/>
            <a:ext cx="1817640" cy="260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3708360" y="549360"/>
            <a:ext cx="1590840" cy="217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Rectangle 2"/>
          <p:cNvSpPr/>
          <p:nvPr/>
        </p:nvSpPr>
        <p:spPr>
          <a:xfrm>
            <a:off x="2571840" y="3332160"/>
            <a:ext cx="41432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А.С.Пушкин остави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нам большое литературное наследи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Мы любим и читаем его стихи и поэмы, сказки и прозаические произвед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395280" y="1430280"/>
            <a:ext cx="1655640" cy="243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904080" y="1413000"/>
            <a:ext cx="165744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3132000" y="4724280"/>
            <a:ext cx="2519640" cy="189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87640" y="1628640"/>
            <a:ext cx="2952720" cy="221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581360"/>
            <a:ext cx="1533240" cy="20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804000" y="4724280"/>
            <a:ext cx="1671840" cy="16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4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4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4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39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4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04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pushkin_04.jpg"/>
          <p:cNvPicPr/>
          <p:nvPr/>
        </p:nvPicPr>
        <p:blipFill>
          <a:blip r:embed="rId1"/>
          <a:stretch/>
        </p:blipFill>
        <p:spPr>
          <a:xfrm>
            <a:off x="3276720" y="1484280"/>
            <a:ext cx="2305080" cy="30052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5"/>
          <p:cNvSpPr/>
          <p:nvPr/>
        </p:nvSpPr>
        <p:spPr>
          <a:xfrm>
            <a:off x="3071880" y="4786200"/>
            <a:ext cx="285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А.С.Пушкин родился 26 мая 179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в Моск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pushkin_s_l.jpg"/>
          <p:cNvPicPr/>
          <p:nvPr/>
        </p:nvPicPr>
        <p:blipFill>
          <a:blip r:embed="rId2"/>
          <a:stretch/>
        </p:blipFill>
        <p:spPr>
          <a:xfrm>
            <a:off x="649440" y="3357720"/>
            <a:ext cx="2065320" cy="2592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8"/>
          <p:cNvSpPr/>
          <p:nvPr/>
        </p:nvSpPr>
        <p:spPr>
          <a:xfrm>
            <a:off x="0" y="785880"/>
            <a:ext cx="27147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Отец его, майор в отставке, Сергей Львович, происходил из старинного дворянского рода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pushkina_n_o.jpg"/>
          <p:cNvPicPr/>
          <p:nvPr/>
        </p:nvPicPr>
        <p:blipFill>
          <a:blip r:embed="rId3"/>
          <a:stretch/>
        </p:blipFill>
        <p:spPr>
          <a:xfrm>
            <a:off x="6659640" y="765000"/>
            <a:ext cx="2225520" cy="2494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2"/>
          <p:cNvSpPr/>
          <p:nvPr/>
        </p:nvSpPr>
        <p:spPr>
          <a:xfrm>
            <a:off x="5857920" y="3786120"/>
            <a:ext cx="3143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Мать Пушкина, Надежда Осиповна, приходилась внучкой русскому генералу Ганниб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702480" y="1841400"/>
            <a:ext cx="2117520" cy="27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423720" y="2916360"/>
            <a:ext cx="2203560" cy="28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TextBox 5"/>
          <p:cNvSpPr/>
          <p:nvPr/>
        </p:nvSpPr>
        <p:spPr>
          <a:xfrm>
            <a:off x="21420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495600" y="2222640"/>
            <a:ext cx="215604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7"/>
          <p:cNvSpPr/>
          <p:nvPr/>
        </p:nvSpPr>
        <p:spPr>
          <a:xfrm>
            <a:off x="93600" y="600084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492600" y="50720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500280" y="5572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Admin\Рабочий стол\пушкин1\arina.jpg"/>
          <p:cNvPicPr/>
          <p:nvPr/>
        </p:nvPicPr>
        <p:blipFill>
          <a:blip r:embed="rId1"/>
          <a:stretch/>
        </p:blipFill>
        <p:spPr>
          <a:xfrm>
            <a:off x="5796000" y="2432160"/>
            <a:ext cx="2376360" cy="350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Rectangle 3"/>
          <p:cNvSpPr/>
          <p:nvPr/>
        </p:nvSpPr>
        <p:spPr>
          <a:xfrm>
            <a:off x="4714920" y="221760"/>
            <a:ext cx="4214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Маленький Саша очень любил свою няню, Арину Родионовну, которая рассказывала ему сказки. Когда он вырос, он написал эти сказки в стихах</a:t>
            </a: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Admin\Рабочий стол\Пушкин\gannibal_m_a.jpg"/>
          <p:cNvPicPr/>
          <p:nvPr/>
        </p:nvPicPr>
        <p:blipFill>
          <a:blip r:embed="rId2"/>
          <a:stretch/>
        </p:blipFill>
        <p:spPr>
          <a:xfrm>
            <a:off x="900000" y="549360"/>
            <a:ext cx="252252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Прямоугольник 8"/>
          <p:cNvSpPr/>
          <p:nvPr/>
        </p:nvSpPr>
        <p:spPr>
          <a:xfrm>
            <a:off x="142920" y="457200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Любовь к родному языку маленькому Пушкину привила бабушка, Мария Алексеевна Ганнибал, превосходно говорившая и писавшая по-рус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slide0010_image025"/>
          <p:cNvPicPr/>
          <p:nvPr/>
        </p:nvPicPr>
        <p:blipFill>
          <a:blip r:embed="rId1"/>
          <a:stretch/>
        </p:blipFill>
        <p:spPr>
          <a:xfrm>
            <a:off x="2871720" y="523800"/>
            <a:ext cx="3973680" cy="3737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28760" y="4793400"/>
            <a:ext cx="8286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00"/>
                </a:solidFill>
                <a:latin typeface="Bookman Old Style"/>
                <a:ea typeface="Times New Roman"/>
              </a:rPr>
              <a:t>В возрасте 12 лет Пушкин был отправлен учиться в Царскосельский лицей под Петербургом, обучение в котором продлилось 6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3300"/>
                </a:solidFill>
                <a:latin typeface="Bookman Old Style"/>
              </a:rPr>
              <a:t>Здесь он начал писать свои первые стихи, которые изумляли знаменитых поэ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071720" y="4143240"/>
            <a:ext cx="685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После лицея Пушкин стал работать в Коллегии иностранных д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В первые годы по окончании Лицея им были написаны стихотво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"Деревня," "Домовому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« К Чаадаеву", ода "Вольность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поэма "Руслан и Людмил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E:\новое\новое\pushkin_32.jpg"/>
          <p:cNvPicPr/>
          <p:nvPr/>
        </p:nvPicPr>
        <p:blipFill>
          <a:blip r:embed="rId1"/>
          <a:stretch/>
        </p:blipFill>
        <p:spPr>
          <a:xfrm>
            <a:off x="2484360" y="765000"/>
            <a:ext cx="4535640" cy="29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619280" y="3716280"/>
            <a:ext cx="635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В некоторых стихах Александр Пушкин высмеивал власти. Из-за этого его отправили в ссылку на юг, в Кишен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Так же была написана поэма «Кавказский пленник», которая сделала Александра Пушкина знамени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Рабочий стол\Пушкин\pushkin_26.jpg"/>
          <p:cNvPicPr/>
          <p:nvPr/>
        </p:nvPicPr>
        <p:blipFill>
          <a:blip r:embed="rId1"/>
          <a:stretch/>
        </p:blipFill>
        <p:spPr>
          <a:xfrm>
            <a:off x="1019160" y="714240"/>
            <a:ext cx="3840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7"/>
          <p:cNvSpPr/>
          <p:nvPr/>
        </p:nvSpPr>
        <p:spPr>
          <a:xfrm>
            <a:off x="5286240" y="57168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 flipH="1">
            <a:off x="4931640" y="404640"/>
            <a:ext cx="350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18 февраля 1831 г. в церкви Вознесения Господня состоялось их венч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1042920" y="1197000"/>
            <a:ext cx="3524400" cy="43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657520" y="3981600"/>
            <a:ext cx="1871640" cy="258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5005440" y="3906720"/>
            <a:ext cx="1833480" cy="265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438280" y="334800"/>
            <a:ext cx="1962360" cy="2786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142920" y="571680"/>
            <a:ext cx="221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668840" y="341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2"/>
          <p:cNvSpPr/>
          <p:nvPr/>
        </p:nvSpPr>
        <p:spPr>
          <a:xfrm>
            <a:off x="6786720" y="71424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993300"/>
                </a:solidFill>
                <a:latin typeface="Bookman Old Style"/>
              </a:rPr>
              <a:t>(1836-1913г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0" y="3286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9933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92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92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92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Анатолий</cp:lastModifiedBy>
  <dcterms:modified xsi:type="dcterms:W3CDTF">2020-03-31T11:58:56Z</dcterms:modified>
  <cp:revision>106</cp:revision>
  <dc:subject/>
  <dc:title>Слайд 1</dc:title>
</cp:coreProperties>
</file>