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4EC-DFC5-44CF-BB4D-4FDFAB4E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0CA-78BA-40F9-A77B-3B6B9A9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415-D6A8-4A17-9D9D-EDD5CC12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398-6DB2-431A-8E88-44B85A46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04B-ECCC-48E0-89EE-0F407EB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DD14-18CF-45B2-BE71-D394685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2CD4-4259-405F-A34A-FD0FCABD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38A-EF9D-4F34-B946-D8490CB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4F00-40B2-4ACA-9E70-B5EF98E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9AC-AFF5-4174-AE15-D7FF598D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CC4-1E95-494C-B160-6D0DB44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F77-EA75-4C77-B57A-9AF32E4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9B88-B43D-4602-9BB7-7B052BF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6A1D-1D14-4F1B-9231-378458A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0B1E-D052-47CA-9655-5DDF6193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7CC-6888-4281-831F-9A46EA8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5F0B-D914-44E4-A829-9482F1C6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128-D9FE-452A-8AFB-8E611A3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75E-2D55-4D5A-9A4F-D71ED33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11E-1CD1-4A8D-9A77-19DCC0D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91A-E054-4B63-9836-3F21526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626-0597-4FBC-9981-769B103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680-ED89-485D-83AE-04286F2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7D5-CCE5-4701-B4B6-339E28C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D988F-9AA8-46AA-A4B6-BA15B5804ABA}" type="slidenum"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172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8560" y="1653840"/>
            <a:ext cx="7346880" cy="43527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83720" y="6248160"/>
            <a:ext cx="19321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26000" y="6248160"/>
            <a:ext cx="199692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770707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9661F-34F3-45E3-AB0C-F936EFC74DE2}" type="slidenum">
              <a:rPr b="0" lang="ru-RU" sz="1400" spc="-1" strike="noStrike">
                <a:solidFill>
                  <a:srgbClr val="770707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1510920"/>
            <a:ext cx="78105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ИВАН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КОНСТАНТИНОВИЧ</a:t>
            </a: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4000"/>
            </a:br>
            <a:r>
              <a:rPr b="1" lang="ru-RU" sz="6000" spc="-1" strike="noStrike">
                <a:solidFill>
                  <a:srgbClr val="0066ff"/>
                </a:solidFill>
                <a:latin typeface="Arial Black"/>
              </a:rPr>
              <a:t>АЙВАЗОВСКИЙ</a:t>
            </a:r>
            <a:r>
              <a:rPr b="1" lang="en-US" sz="6000" spc="-1" strike="noStrike">
                <a:solidFill>
                  <a:srgbClr val="0066ff"/>
                </a:solidFill>
                <a:latin typeface="Arial Black"/>
              </a:rPr>
              <a:t> </a:t>
            </a:r>
            <a:br>
              <a:rPr sz="60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(1817-1900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Чернова Н.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45360" y="609120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ус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42240" y="5443560"/>
            <a:ext cx="220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оре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50400" y="611352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16480" y="58039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а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уба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19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36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менский 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19680" y="61642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. Коктеб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62760" cy="530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640" y="61657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е пути. Кронштад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576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76440" y="61642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тый 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47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35320" y="60912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905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25360" y="6184800"/>
            <a:ext cx="46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нная ночь в Кры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237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 брига Меркурий с русской эскад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1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25440" y="6165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7240" y="857160"/>
            <a:ext cx="722952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14800" y="61642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545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08360" y="61642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ки на берегу мо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12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70400" y="6399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торм в н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0:27:53Z</dcterms:created>
  <dc:creator>Andrew</dc:creator>
  <dc:description/>
  <dc:language>en-US</dc:language>
  <cp:lastModifiedBy/>
  <dcterms:modified xsi:type="dcterms:W3CDTF">2020-03-18T14:32:54Z</dcterms:modified>
  <cp:revision>11</cp:revision>
  <dc:subject/>
  <dc:title>Айвазовский Иван Константинович</dc:title>
</cp:coreProperties>
</file>