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5081-8AC8-4E26-9EB4-188C82358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4989-3BB1-433B-968A-2CDE4ED3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4066-66E3-43E0-9FDD-CEB07CED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C393-0447-4A43-92CE-0A6C2571F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8D0D-590A-4CC7-B758-5FE90A1E8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901D-5956-456C-B93E-2BE6B509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A4FD-A62A-441D-A445-88D68BE1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4FB7-1FD4-4332-8A24-2E764A33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8B61-7BCE-479C-86F3-8251B709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9083-554E-45A8-A0AF-1A8BA523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7EF3-71BD-45FA-88EF-0A0FFD11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7D6A-09AD-4227-A19B-B1EB89CB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7D42-04B8-41A9-84D1-A99C87C5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9C81-BB95-4DB7-BF92-D6AD450A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D374-78AB-4E14-A977-B041CB6E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9243-EEF5-4145-AEC7-E72F69985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F64F-F5CB-4469-BC64-DBE41A4FE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92D1-10F4-4BDE-89E2-E14D006E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86CE-FCB4-4443-A76D-AE21357F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0FAB-5454-498E-8CEF-2AAE1D16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6236-0AE4-459B-B4F1-6DA6A1F0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06D6-541D-41F0-A03C-E263FC63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B30D-5994-415D-9287-A6F84ED4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E601-89C8-4232-B86A-ED15073C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770707"/>
                </a:solidFill>
                <a:latin typeface="Arial"/>
                <a:ea typeface="Segoe U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770707"/>
                </a:solidFill>
                <a:latin typeface="Arial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770707"/>
                </a:solidFill>
                <a:latin typeface="Arial"/>
                <a:ea typeface="Segoe UI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770707"/>
                </a:solidFill>
                <a:latin typeface="Arial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770707"/>
                </a:solidFill>
                <a:latin typeface="Arial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80D8E-BE73-44CD-AC2F-C6ED016DA046}" type="slidenum">
              <a:rPr b="0" lang="ru-RU" sz="1400" spc="-1" strike="noStrike">
                <a:solidFill>
                  <a:srgbClr val="770707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1720" cy="10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98560" y="1653840"/>
            <a:ext cx="7346880" cy="43527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783720" y="6248160"/>
            <a:ext cx="1932120" cy="4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770707"/>
                </a:solidFill>
                <a:latin typeface="Arial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770707"/>
                </a:solidFill>
                <a:latin typeface="Arial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770707"/>
                </a:solidFill>
                <a:latin typeface="Arial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770707"/>
                </a:solidFill>
                <a:latin typeface="Arial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26000" y="6248160"/>
            <a:ext cx="1996920" cy="4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770707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0ABDC-6938-4257-9BBA-9F5750B73FA5}" type="slidenum">
              <a:rPr b="0" lang="ru-RU" sz="1400" spc="-1" strike="noStrike">
                <a:solidFill>
                  <a:srgbClr val="770707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20720" y="1510920"/>
            <a:ext cx="7810560" cy="21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 Black"/>
              </a:rPr>
              <a:t>ИВАН </a:t>
            </a:r>
            <a:br>
              <a:rPr sz="4000"/>
            </a:br>
            <a:r>
              <a:rPr b="1" lang="ru-RU" sz="4000" spc="-1" strike="noStrike">
                <a:solidFill>
                  <a:srgbClr val="0066ff"/>
                </a:solidFill>
                <a:latin typeface="Arial Black"/>
              </a:rPr>
              <a:t>КОНСТАНТИНОВИЧ</a:t>
            </a:r>
            <a:r>
              <a:rPr b="1" lang="ru-RU" sz="4000" spc="-1" strike="noStrike">
                <a:solidFill>
                  <a:srgbClr val="ff3300"/>
                </a:solidFill>
                <a:latin typeface="Arial Black"/>
              </a:rPr>
              <a:t> </a:t>
            </a:r>
            <a:br>
              <a:rPr sz="4000"/>
            </a:br>
            <a:r>
              <a:rPr b="1" lang="ru-RU" sz="6000" spc="-1" strike="noStrike">
                <a:solidFill>
                  <a:srgbClr val="0066ff"/>
                </a:solidFill>
                <a:latin typeface="Arial Black"/>
              </a:rPr>
              <a:t>АЙВАЗОВСКИЙ</a:t>
            </a:r>
            <a:r>
              <a:rPr b="1" lang="en-US" sz="6000" spc="-1" strike="noStrike">
                <a:solidFill>
                  <a:srgbClr val="0066ff"/>
                </a:solidFill>
                <a:latin typeface="Arial Black"/>
              </a:rPr>
              <a:t> </a:t>
            </a:r>
            <a:br>
              <a:rPr sz="6000"/>
            </a:b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(1817-1900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                                                                       Чернова Н.С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96908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245360" y="6091200"/>
            <a:ext cx="15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ус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75272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942240" y="5443560"/>
            <a:ext cx="220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ща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С.Пушки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морем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896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150400" y="6113520"/>
            <a:ext cx="25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16480" y="580392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сан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 Субаш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626160" cy="6191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700360" y="6165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сменский б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4720" cy="5616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019680" y="616428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е. Коктеб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6962760" cy="5305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411640" y="6165720"/>
            <a:ext cx="38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кие пути. Кронштад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632720" cy="5761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376440" y="616428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ятый в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5472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235320" y="609120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 Петербур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704000" cy="5905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25360" y="6184800"/>
            <a:ext cx="46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нная ночь в Крым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5759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11280" y="623736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реча брига Меркурий с русской эскадр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16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925440" y="616572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тор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57240" y="857160"/>
            <a:ext cx="7229520" cy="5143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14800" y="616428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ёрное мо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5545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808360" y="6164280"/>
            <a:ext cx="35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баки на берегу мор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344000" cy="6120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470400" y="639936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торм в но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00:27:53Z</dcterms:created>
  <dc:creator>Andrew</dc:creator>
  <dc:description/>
  <dc:language>en-US</dc:language>
  <cp:lastModifiedBy/>
  <dcterms:modified xsi:type="dcterms:W3CDTF">2020-03-18T14:32:54Z</dcterms:modified>
  <cp:revision>11</cp:revision>
  <dc:subject/>
  <dc:title>Айвазовский Иван Константинович</dc:title>
</cp:coreProperties>
</file>