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584-D267-4AD4-AF70-372CC640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87D-6CE0-4FAE-B514-52DE0CD7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170-2E28-4FEB-9F53-1B7E8447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140-96EA-473E-95E2-F9E48537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5F2-4AD7-4425-8B6D-3C9C84D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5AE-DB8B-40D9-AC21-282063D0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CB0-625D-47C7-9D40-1A257D6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D5D-E7E3-46EA-9D51-B1A1DB6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6D7-B637-47B2-A5BD-13A512CF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860-20BB-412F-9402-0D6EB9B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187-7696-4285-8353-6DF3B5D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3B2-F18A-425C-9E61-F420909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ebffeb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CFF-E785-4D79-95CA-7FD9CAB88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dpress.ru/UserFilesSMI/111/vibori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_Jefferson_by_Charles_Willson_Peale_1791_2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ru.wikipedia.org/wiki/&#1060;&#1072;&#1081;&#1083;:Abraham_Lincoln_head_on_shoulders_photo_portrait.jpg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akmudaindonesia.files.wordpress.com/2010/01/finlandia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.vesti.ru/p/o_40415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Italy.sv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/index.php?title=&#1060;&#1072;&#1081;&#1083;:Flag_of_Germany.svg&amp;filetimestamp=20070926182838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kdenizyukseliskoleji.k12.tr/images/menu/28_0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kamchatka.gov.ru/img/news/b/11160_6281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static2.aif.ru/public/news/581/728eb62b4ccb08b46b94a9d21015b029_big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magistr.marketing.rea.ru/UserFiles/foreignst/&#1082;&#1072;&#1085;&#1072;&#1076;&#1072;.gif" TargetMode="External"/><Relationship Id="rId12" Type="http://schemas.openxmlformats.org/officeDocument/2006/relationships/image" Target="../media/image9.png"/><Relationship Id="rId13" Type="http://schemas.openxmlformats.org/officeDocument/2006/relationships/hyperlink" Target="http://images-5.moifoto.ru/big/1/499/3366610zzf.jpg?1287231765" TargetMode="External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18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50920" y="907920"/>
            <a:ext cx="84978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мократические выборы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ческие парти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360" y="112536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астоящее время в демократических странах сложились два типа партийны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1989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ВУХПАРТИЙНАЯ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Томас Джефферс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84640"/>
            <a:ext cx="1995480" cy="280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b_irish"/>
          <p:cNvPicPr/>
          <p:nvPr/>
        </p:nvPicPr>
        <p:blipFill>
          <a:blip r:embed="rId3"/>
          <a:stretch/>
        </p:blipFill>
        <p:spPr>
          <a:xfrm>
            <a:off x="2050920" y="3716280"/>
            <a:ext cx="2376720" cy="2359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79280" y="278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МОКР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 Джефф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148360" y="278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СПУБЛИК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Авраам Линкольн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05600" y="3284640"/>
            <a:ext cx="2138400" cy="281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600px-Republicanlogo"/>
          <p:cNvPicPr/>
          <p:nvPr/>
        </p:nvPicPr>
        <p:blipFill>
          <a:blip r:embed="rId6"/>
          <a:stretch/>
        </p:blipFill>
        <p:spPr>
          <a:xfrm>
            <a:off x="4500720" y="3860640"/>
            <a:ext cx="2519280" cy="2187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6767640" y="607860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раам Линколь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52320" y="1125360"/>
            <a:ext cx="652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НОГОПАРТИЙ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ФРАНЦИЯ, НИДЕРЛАНДЫ, ФИНЛЯН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Картинка 2 из 3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05000"/>
            <a:ext cx="4132080" cy="252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4" name="Picture 8" descr="jap1"/>
          <p:cNvPicPr/>
          <p:nvPr/>
        </p:nvPicPr>
        <p:blipFill>
          <a:blip r:embed="rId3"/>
          <a:stretch/>
        </p:blipFill>
        <p:spPr>
          <a:xfrm>
            <a:off x="179280" y="2205000"/>
            <a:ext cx="3973680" cy="25192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5" name="Picture 10" descr="Картинка 2 из 3473"/>
          <p:cNvPicPr/>
          <p:nvPr/>
        </p:nvPicPr>
        <p:blipFill>
          <a:blip r:embed="rId4"/>
          <a:stretch/>
        </p:blipFill>
        <p:spPr>
          <a:xfrm>
            <a:off x="2627280" y="4338720"/>
            <a:ext cx="3782880" cy="25192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95280" y="6922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овременной России МНОГОПАРТИЙ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ртинка 7 из 17327"/>
          <p:cNvPicPr/>
          <p:nvPr/>
        </p:nvPicPr>
        <p:blipFill>
          <a:blip r:embed="rId1"/>
          <a:stretch/>
        </p:blipFill>
        <p:spPr>
          <a:xfrm>
            <a:off x="3708360" y="227664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68360" y="1197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выборах в Государственную Думу в 2011 году участвовало 7 пар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8360" y="227664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Еди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8360" y="285264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КП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Картинка 124 из 17327"/>
          <p:cNvPicPr/>
          <p:nvPr/>
        </p:nvPicPr>
        <p:blipFill>
          <a:blip r:embed="rId2"/>
          <a:stretch/>
        </p:blipFill>
        <p:spPr>
          <a:xfrm>
            <a:off x="3924360" y="2276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68360" y="3429000"/>
            <a:ext cx="417492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Справедлив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spravru"/>
          <p:cNvPicPr/>
          <p:nvPr/>
        </p:nvPicPr>
        <p:blipFill>
          <a:blip r:embed="rId3"/>
          <a:stretch/>
        </p:blipFill>
        <p:spPr>
          <a:xfrm>
            <a:off x="4716360" y="2637000"/>
            <a:ext cx="4427640" cy="3468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468360" y="400536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ЛД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1_265"/>
          <p:cNvPicPr/>
          <p:nvPr/>
        </p:nvPicPr>
        <p:blipFill>
          <a:blip r:embed="rId4"/>
          <a:stretch/>
        </p:blipFill>
        <p:spPr>
          <a:xfrm>
            <a:off x="4932360" y="2276640"/>
            <a:ext cx="3641760" cy="4138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468360" y="458136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large_22750"/>
          <p:cNvPicPr/>
          <p:nvPr/>
        </p:nvPicPr>
        <p:blipFill>
          <a:blip r:embed="rId5"/>
          <a:stretch/>
        </p:blipFill>
        <p:spPr>
          <a:xfrm>
            <a:off x="4643280" y="3959280"/>
            <a:ext cx="3024360" cy="2459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468360" y="5157720"/>
            <a:ext cx="3456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Патриот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1214289059_image"/>
          <p:cNvPicPr/>
          <p:nvPr/>
        </p:nvPicPr>
        <p:blipFill>
          <a:blip r:embed="rId6"/>
          <a:stretch/>
        </p:blipFill>
        <p:spPr>
          <a:xfrm>
            <a:off x="4643280" y="4056120"/>
            <a:ext cx="30974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8"/>
          <p:cNvSpPr/>
          <p:nvPr/>
        </p:nvSpPr>
        <p:spPr>
          <a:xfrm>
            <a:off x="468360" y="5734080"/>
            <a:ext cx="3456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7. Прав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Картинка 58 из 17327"/>
          <p:cNvPicPr/>
          <p:nvPr/>
        </p:nvPicPr>
        <p:blipFill>
          <a:blip r:embed="rId7"/>
          <a:stretch/>
        </p:blipFill>
        <p:spPr>
          <a:xfrm>
            <a:off x="4356000" y="5095800"/>
            <a:ext cx="3456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2232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ить параграф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ить на вопросы на стр. 261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ния № 1 стр.261 и № 4 стр.262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hurov"/>
          <p:cNvPicPr/>
          <p:nvPr/>
        </p:nvPicPr>
        <p:blipFill>
          <a:blip r:embed="rId1"/>
          <a:stretch/>
        </p:blipFill>
        <p:spPr>
          <a:xfrm>
            <a:off x="2556000" y="3656160"/>
            <a:ext cx="44640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592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бир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"/>
          <p:cNvPicPr/>
          <p:nvPr/>
        </p:nvPicPr>
        <p:blipFill>
          <a:blip r:embed="rId1"/>
          <a:stretch/>
        </p:blipFill>
        <p:spPr>
          <a:xfrm>
            <a:off x="2268360" y="3351240"/>
            <a:ext cx="4392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Избир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5280" y="112536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ИЗБИРАТЕЛЬНАЯ СИСТЕ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порядок выборов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редставительные учреждения и выборных должностных лиц, а также определение результатов голо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2708280"/>
            <a:ext cx="8136000" cy="174744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ЗБИРАТЕЛЬНОЕ ПРАВ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комплекс правовых норм о порядке вы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ЗБИРАТЕЛЬНЫЙ ПРОЦЕСС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комплекс действий в процессе вы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771640" y="4724280"/>
            <a:ext cx="3240360" cy="3682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ЗБИРАТЕЛЬ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5877000"/>
            <a:ext cx="3240000" cy="3682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КТИВНОЕ (избир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292720" y="5877000"/>
            <a:ext cx="3240000" cy="64260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АССИВНОЕ                (быть избранны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2050560" y="5157720"/>
            <a:ext cx="2233800" cy="647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4572000" y="5157720"/>
            <a:ext cx="2305080" cy="647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а 9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17640"/>
            <a:ext cx="5545080" cy="414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/>
          <p:cNvSpPr/>
          <p:nvPr/>
        </p:nvSpPr>
        <p:spPr>
          <a:xfrm>
            <a:off x="468360" y="2708280"/>
            <a:ext cx="8136000" cy="2859840"/>
          </a:xfrm>
          <a:prstGeom prst="rect">
            <a:avLst/>
          </a:prstGeom>
          <a:solidFill>
            <a:srgbClr val="ccffff"/>
          </a:solidFill>
          <a:ln w="34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БИРАТЕЛЬНОЕ ПРАВО в широком смысле включает избирательные зак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 выборах Президента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 выборах депутатов Государственной Думы Федерального Собрания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ные акты (инструкции, разъясн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бирательная систе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процедура выявления и согласования политических предпочтений населения, включающая определение весомости каждого голоса, порядок его подачи и способ подведения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2421000"/>
            <a:ext cx="8351640" cy="94716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уществует ДВЕ основные избиратель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3789360"/>
            <a:ext cx="3816360" cy="45972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ОПОРЦИО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580000" y="3789360"/>
            <a:ext cx="3095640" cy="45972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АЖОР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4000" y="4365720"/>
            <a:ext cx="3816360" cy="2288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ределение мест в парламенте в соответствии с количеством голосов, полученных по партийным спис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124000" y="3429000"/>
            <a:ext cx="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7093080" y="3429000"/>
            <a:ext cx="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859280" y="4365720"/>
            <a:ext cx="403380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ста в парламенте распределяются среди кандидатов победивших в избирательном о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984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ПОРЦИОНАЛЬНАЯ система использу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Итал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216036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826920" y="2924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Герм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557360"/>
            <a:ext cx="2449440" cy="1469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924360" y="29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350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ЖОРИТАРНАЯ система использу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Картинка 2 из 668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1484280"/>
            <a:ext cx="2098800" cy="157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6516720" y="306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Картинка 3 из 320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49720"/>
            <a:ext cx="230508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Картинка 4 из 103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11280" y="4149720"/>
            <a:ext cx="2168640" cy="14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1 из 768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149720"/>
            <a:ext cx="2233800" cy="148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Картинка 4 из 1201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48360" y="4149720"/>
            <a:ext cx="2195640" cy="146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539640" y="566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2268360" y="5661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292720" y="5661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488360" y="5589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ажоритарная избир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уществуют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тр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разновидности мажоритарной системы: абсолютного, относительного и квалифицированного больш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флаг"/>
          <p:cNvPicPr/>
          <p:nvPr/>
        </p:nvPicPr>
        <p:blipFill>
          <a:blip r:embed="rId1"/>
          <a:stretch/>
        </p:blipFill>
        <p:spPr>
          <a:xfrm>
            <a:off x="611280" y="3284640"/>
            <a:ext cx="2990880" cy="3352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Vibori_b"/>
          <p:cNvPicPr/>
          <p:nvPr/>
        </p:nvPicPr>
        <p:blipFill>
          <a:blip r:embed="rId2"/>
          <a:stretch/>
        </p:blipFill>
        <p:spPr>
          <a:xfrm>
            <a:off x="6156360" y="2924280"/>
            <a:ext cx="25178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170080" cy="6048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203640" y="1557360"/>
            <a:ext cx="2665440" cy="6048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588000" y="1557360"/>
            <a:ext cx="2170080" cy="82224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лифици-рова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187280" y="2276640"/>
            <a:ext cx="0" cy="86328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4500720" y="2349360"/>
            <a:ext cx="0" cy="86364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7667640" y="2421000"/>
            <a:ext cx="0" cy="86364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3357720"/>
            <a:ext cx="2305080" cy="28382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бранным считается кандидат, собравший абсолютное большинство голосов -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0 % + 1 голо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збир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348000" y="3357720"/>
            <a:ext cx="2305080" cy="22284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дидату для победы достаточно набрать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ольш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, чем кому-либо из конкур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012000" y="3357720"/>
            <a:ext cx="2952720" cy="30186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обеды необходимо набрать заранее установленное большинство, которое выше половины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/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3/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 т. д. Обычно применяется при решении конституционных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79280" y="8366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зновидности мажоритарной избир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Политическая пар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объединение людей, ставящее перед собой задачу овладения государственной властью и ее у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2179800"/>
            <a:ext cx="8964720" cy="4353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изнаки политической парт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бровольное объединение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– участие в осуществлении политиче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руководящих органов,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имущества,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символов, значков, знамен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1268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ногопартийно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наличие в обществе двух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более пар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2133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ртии различают по разным параметр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4000" y="2637000"/>
            <a:ext cx="8135640" cy="119124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о идеологическому признаку – ЛИБЕРАЛЬНЫЕ, КОНСЕРВАТИВНЫЕ, СОЦИАЛ-ДЕМОКРАТИЧЕСКИЕ, КОММУНИСТИЧЕСКИЕ, ФАШИСТСКИ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3933720"/>
            <a:ext cx="8135640" cy="15570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 типу политических программ – ЛЕВЫЕ (коммунистические, социалистические), ПРАВЫЕ (консервативные, либеральные), ЦЕНТРИСТСКИЕ (социал-демократическ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4000" y="5648400"/>
            <a:ext cx="8135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По организационному признаку – массовые и кадр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637000"/>
            <a:ext cx="8135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По отношению к власти – правящие и оппози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4000" y="3860640"/>
            <a:ext cx="8135640" cy="157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Также можно подразделять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игиозные и свет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егальные и нелег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i?id=49521774-14"/>
          <p:cNvPicPr/>
          <p:nvPr/>
        </p:nvPicPr>
        <p:blipFill>
          <a:blip r:embed="rId1"/>
          <a:stretch/>
        </p:blipFill>
        <p:spPr>
          <a:xfrm>
            <a:off x="0" y="2708280"/>
            <a:ext cx="2525760" cy="3238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Fidel_Castro5_cropped"/>
          <p:cNvPicPr/>
          <p:nvPr/>
        </p:nvPicPr>
        <p:blipFill>
          <a:blip r:embed="rId2"/>
          <a:stretch/>
        </p:blipFill>
        <p:spPr>
          <a:xfrm>
            <a:off x="7013520" y="2708280"/>
            <a:ext cx="2130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8:09:39Z</dcterms:created>
  <dc:creator>Нафор Маточ</dc:creator>
  <dc:description/>
  <dc:language>en-US</dc:language>
  <cp:lastModifiedBy>Администратор</cp:lastModifiedBy>
  <dcterms:modified xsi:type="dcterms:W3CDTF">2020-03-31T17:08:15Z</dcterms:modified>
  <cp:revision>63</cp:revision>
  <dc:subject/>
  <dc:title>Демократические выборы и политические партии</dc:title>
</cp:coreProperties>
</file>