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jpeg" ContentType="image/jpeg"/>
  <Override PartName="/ppt/media/image2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0697-6A73-43FD-801B-D69EDBA3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521F-84A7-4ECE-A1C3-951EB6ED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DBD9-EA87-488D-BD45-1FFB92CB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1C62-C635-42BC-8C1B-FA6B8B80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D7D3-4E9C-4E9A-A6F2-B753604C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6CE7-B726-4899-9822-B04A4533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BF8-3034-42A6-BA46-6758ED50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2730-2F52-42AA-A83E-FF6500F1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4FE-BB64-458E-A8B2-9615014C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689-1D2C-44C1-86B9-5CCC010F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0CA-6F6D-4E6D-9CFE-F4AAA518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242-A150-47EC-A8BB-39B3B72D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ebffeb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E6E3-1469-4C80-A0A3-571B793F5D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edpress.ru/UserFilesSMI/111/vibori5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_Jefferson_by_Charles_Willson_Peale_1791_2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hyperlink" Target="http://ru.wikipedia.org/wiki/&#1060;&#1072;&#1081;&#1083;:Abraham_Lincoln_head_on_shoulders_photo_portrait.jpg" TargetMode="External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nakmudaindonesia.files.wordpress.com/2010/01/finlandia.jp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tatic.vesti.ru/p/o_40415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lag_of_Italy.svg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ru.wikipedia.org/w/index.php?title=&#1060;&#1072;&#1081;&#1083;:Flag_of_Germany.svg&amp;filetimestamp=20070926182838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www.akdenizyukseliskoleji.k12.tr/images/menu/28_0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kamchatka.gov.ru/img/news/b/11160_6281.jpg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static2.aif.ru/public/news/581/728eb62b4ccb08b46b94a9d21015b029_big.jpg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magistr.marketing.rea.ru/UserFiles/foreignst/&#1082;&#1072;&#1085;&#1072;&#1076;&#1072;.gif" TargetMode="External"/><Relationship Id="rId12" Type="http://schemas.openxmlformats.org/officeDocument/2006/relationships/image" Target="../media/image9.png"/><Relationship Id="rId13" Type="http://schemas.openxmlformats.org/officeDocument/2006/relationships/hyperlink" Target="http://images-5.moifoto.ru/big/1/499/3366610zzf.jpg?1287231765" TargetMode="External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Картинка 184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3360"/>
            <a:ext cx="9144000" cy="617544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50920" y="907920"/>
            <a:ext cx="849780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мократические выборы</a:t>
            </a:r>
            <a:endParaRPr b="1" lang="en-US" sz="18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итические партии</a:t>
            </a:r>
            <a:endParaRPr b="1" lang="en-US" sz="18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Многопартийность и партийные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68360" y="112536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настоящее время в демократических странах сложились два типа партийных сист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9640" y="19890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ДВУХПАРТИЙНАЯ (СШ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Томас Джефферсо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284640"/>
            <a:ext cx="1995480" cy="2806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jb_irish"/>
          <p:cNvPicPr/>
          <p:nvPr/>
        </p:nvPicPr>
        <p:blipFill>
          <a:blip r:embed="rId3"/>
          <a:stretch/>
        </p:blipFill>
        <p:spPr>
          <a:xfrm>
            <a:off x="2050920" y="3716280"/>
            <a:ext cx="2376720" cy="2359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179280" y="2781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МОКРАТ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0" y="6165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мас Джеффер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148360" y="278136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СПУБЛИКА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Авраам Линкольн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05600" y="3284640"/>
            <a:ext cx="2138400" cy="2811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600px-Republicanlogo"/>
          <p:cNvPicPr/>
          <p:nvPr/>
        </p:nvPicPr>
        <p:blipFill>
          <a:blip r:embed="rId6"/>
          <a:stretch/>
        </p:blipFill>
        <p:spPr>
          <a:xfrm>
            <a:off x="4500720" y="3860640"/>
            <a:ext cx="2519280" cy="2187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3"/>
          <p:cNvSpPr/>
          <p:nvPr/>
        </p:nvSpPr>
        <p:spPr>
          <a:xfrm>
            <a:off x="6767640" y="607860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раам Линколь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Многопартийность и партийные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552320" y="1125360"/>
            <a:ext cx="652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НОГОПАРТИЙ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(ФРАНЦИЯ, НИДЕРЛАНДЫ, ФИНЛЯНД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Картинка 2 из 31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2205000"/>
            <a:ext cx="4132080" cy="252108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124" name="Picture 8" descr="jap1"/>
          <p:cNvPicPr/>
          <p:nvPr/>
        </p:nvPicPr>
        <p:blipFill>
          <a:blip r:embed="rId3"/>
          <a:stretch/>
        </p:blipFill>
        <p:spPr>
          <a:xfrm>
            <a:off x="179280" y="2205000"/>
            <a:ext cx="3973680" cy="251928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125" name="Picture 10" descr="Картинка 2 из 3473"/>
          <p:cNvPicPr/>
          <p:nvPr/>
        </p:nvPicPr>
        <p:blipFill>
          <a:blip r:embed="rId4"/>
          <a:stretch/>
        </p:blipFill>
        <p:spPr>
          <a:xfrm>
            <a:off x="2627280" y="4338720"/>
            <a:ext cx="3782880" cy="251928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. Многопартийность и партий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95280" y="69228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современной России МНОГОПАРТИЙН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Картинка 7 из 17327"/>
          <p:cNvPicPr/>
          <p:nvPr/>
        </p:nvPicPr>
        <p:blipFill>
          <a:blip r:embed="rId1"/>
          <a:stretch/>
        </p:blipFill>
        <p:spPr>
          <a:xfrm>
            <a:off x="3708360" y="2276640"/>
            <a:ext cx="4103640" cy="4103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468360" y="119700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выборах в Государственную Думу в 2011 году участвовало 7 парт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68360" y="2276640"/>
            <a:ext cx="302400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 Единая 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68360" y="2852640"/>
            <a:ext cx="302400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КП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Картинка 124 из 17327"/>
          <p:cNvPicPr/>
          <p:nvPr/>
        </p:nvPicPr>
        <p:blipFill>
          <a:blip r:embed="rId2"/>
          <a:stretch/>
        </p:blipFill>
        <p:spPr>
          <a:xfrm>
            <a:off x="3924360" y="227664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468360" y="3429000"/>
            <a:ext cx="417492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 Справедливая 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spravru"/>
          <p:cNvPicPr/>
          <p:nvPr/>
        </p:nvPicPr>
        <p:blipFill>
          <a:blip r:embed="rId3"/>
          <a:stretch/>
        </p:blipFill>
        <p:spPr>
          <a:xfrm>
            <a:off x="4716360" y="2637000"/>
            <a:ext cx="4427640" cy="34686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2"/>
          <p:cNvSpPr/>
          <p:nvPr/>
        </p:nvSpPr>
        <p:spPr>
          <a:xfrm>
            <a:off x="468360" y="4005360"/>
            <a:ext cx="302400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4. ЛД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3" descr="1_265"/>
          <p:cNvPicPr/>
          <p:nvPr/>
        </p:nvPicPr>
        <p:blipFill>
          <a:blip r:embed="rId4"/>
          <a:stretch/>
        </p:blipFill>
        <p:spPr>
          <a:xfrm>
            <a:off x="4932360" y="2276640"/>
            <a:ext cx="3641760" cy="41385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4"/>
          <p:cNvSpPr/>
          <p:nvPr/>
        </p:nvSpPr>
        <p:spPr>
          <a:xfrm>
            <a:off x="468360" y="4581360"/>
            <a:ext cx="302400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. Яб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large_22750"/>
          <p:cNvPicPr/>
          <p:nvPr/>
        </p:nvPicPr>
        <p:blipFill>
          <a:blip r:embed="rId5"/>
          <a:stretch/>
        </p:blipFill>
        <p:spPr>
          <a:xfrm>
            <a:off x="4643280" y="3959280"/>
            <a:ext cx="3024360" cy="2459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6"/>
          <p:cNvSpPr/>
          <p:nvPr/>
        </p:nvSpPr>
        <p:spPr>
          <a:xfrm>
            <a:off x="468360" y="5157720"/>
            <a:ext cx="345600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6. Патриоты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7" descr="1214289059_image"/>
          <p:cNvPicPr/>
          <p:nvPr/>
        </p:nvPicPr>
        <p:blipFill>
          <a:blip r:embed="rId6"/>
          <a:stretch/>
        </p:blipFill>
        <p:spPr>
          <a:xfrm>
            <a:off x="4643280" y="4056120"/>
            <a:ext cx="3097440" cy="2355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8"/>
          <p:cNvSpPr/>
          <p:nvPr/>
        </p:nvSpPr>
        <p:spPr>
          <a:xfrm>
            <a:off x="468360" y="5734080"/>
            <a:ext cx="345600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7. Правое д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9" descr="Картинка 58 из 17327"/>
          <p:cNvPicPr/>
          <p:nvPr/>
        </p:nvPicPr>
        <p:blipFill>
          <a:blip r:embed="rId7"/>
          <a:stretch/>
        </p:blipFill>
        <p:spPr>
          <a:xfrm>
            <a:off x="4356000" y="5095800"/>
            <a:ext cx="34560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8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4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86840" y="33336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 и Обществ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187200" y="3284640"/>
            <a:ext cx="8705880" cy="30970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и истории открытого банка заданий ФИП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, карты по Всеобщей истории 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2880000"/>
          </a:xfrm>
          <a:prstGeom prst="rect">
            <a:avLst/>
          </a:prstGeom>
          <a:noFill/>
          <a:ln w="2232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зучить параграф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тветить на вопросы на стр. 261 (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дания № 1 стр.261 и № 4 стр.262 (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Churov"/>
          <p:cNvPicPr/>
          <p:nvPr/>
        </p:nvPicPr>
        <p:blipFill>
          <a:blip r:embed="rId1"/>
          <a:stretch/>
        </p:blipFill>
        <p:spPr>
          <a:xfrm>
            <a:off x="2556000" y="3656160"/>
            <a:ext cx="446400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259272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збирательна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Типы избирательных 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ногопартийность и партийные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"/>
          <p:cNvPicPr/>
          <p:nvPr/>
        </p:nvPicPr>
        <p:blipFill>
          <a:blip r:embed="rId1"/>
          <a:stretch/>
        </p:blipFill>
        <p:spPr>
          <a:xfrm>
            <a:off x="2268360" y="3351240"/>
            <a:ext cx="43927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Избирательна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95280" y="112536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ИЗБИРАТЕЛЬНАЯ СИСТЕМ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– порядок выборов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представительные учреждения и выборных должностных лиц, а также определение результатов голос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68360" y="2708280"/>
            <a:ext cx="8136000" cy="174744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ИЗБИРАТЕЛЬНОЕ ПРАВ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– комплекс правовых норм о порядке вы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ИЗБИРАТЕЛЬНЫЙ ПРОЦЕСС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– комплекс действий в процессе вы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771640" y="4724280"/>
            <a:ext cx="3240360" cy="368280"/>
          </a:xfrm>
          <a:prstGeom prst="rect">
            <a:avLst/>
          </a:prstGeom>
          <a:solidFill>
            <a:srgbClr val="ccffff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ИЗБИРАТЕЛЬНОЕ 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95280" y="5877000"/>
            <a:ext cx="3240000" cy="368280"/>
          </a:xfrm>
          <a:prstGeom prst="rect">
            <a:avLst/>
          </a:prstGeom>
          <a:solidFill>
            <a:srgbClr val="ccffff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АКТИВНОЕ (избира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292720" y="5877000"/>
            <a:ext cx="3240000" cy="642600"/>
          </a:xfrm>
          <a:prstGeom prst="rect">
            <a:avLst/>
          </a:prstGeom>
          <a:solidFill>
            <a:srgbClr val="ccffff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ПАССИВНОЕ                (быть избранны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 flipH="1">
            <a:off x="2050560" y="5157720"/>
            <a:ext cx="2233800" cy="647640"/>
          </a:xfrm>
          <a:prstGeom prst="line">
            <a:avLst/>
          </a:prstGeom>
          <a:ln w="604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4572000" y="5157720"/>
            <a:ext cx="2305080" cy="647640"/>
          </a:xfrm>
          <a:prstGeom prst="line">
            <a:avLst/>
          </a:prstGeom>
          <a:ln w="604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Картинка 90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717640"/>
            <a:ext cx="5545080" cy="4140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2"/>
          <p:cNvSpPr/>
          <p:nvPr/>
        </p:nvSpPr>
        <p:spPr>
          <a:xfrm>
            <a:off x="468360" y="2708280"/>
            <a:ext cx="8136000" cy="2859840"/>
          </a:xfrm>
          <a:prstGeom prst="rect">
            <a:avLst/>
          </a:prstGeom>
          <a:solidFill>
            <a:srgbClr val="ccffff"/>
          </a:solidFill>
          <a:ln w="349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БИРАТЕЛЬНОЕ ПРАВО в широком смысле включает избирательные зако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О выборах Президента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О выборах депутатов Государственной Думы Федерального Собрания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личные акты (инструкции, разъяснения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Типы избирательных 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9647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збирательная систем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– процедура выявления и согласования политических предпочтений населения, включающая определение весомости каждого голоса, порядок его подачи и способ подведения ит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24000" y="2421000"/>
            <a:ext cx="8351640" cy="947160"/>
          </a:xfrm>
          <a:prstGeom prst="rect">
            <a:avLst/>
          </a:pr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уществует ДВЕ основные избирательны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3789360"/>
            <a:ext cx="3816360" cy="459720"/>
          </a:xfrm>
          <a:prstGeom prst="rect">
            <a:avLst/>
          </a:prstGeom>
          <a:solidFill>
            <a:srgbClr val="ffff00"/>
          </a:solidFill>
          <a:ln w="3492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ПРОПОРЦИОН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580000" y="3789360"/>
            <a:ext cx="3095640" cy="459720"/>
          </a:xfrm>
          <a:prstGeom prst="rect">
            <a:avLst/>
          </a:prstGeom>
          <a:solidFill>
            <a:srgbClr val="ffff00"/>
          </a:solidFill>
          <a:ln w="3492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МАЖОРИТА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24000" y="4365720"/>
            <a:ext cx="3816360" cy="2288520"/>
          </a:xfrm>
          <a:prstGeom prst="rect">
            <a:avLst/>
          </a:prstGeom>
          <a:solidFill>
            <a:srgbClr val="ffff99"/>
          </a:solidFill>
          <a:ln w="34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спределение мест в парламенте в соответствии с количеством голосов, полученных по партийным спис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>
            <a:off x="2124000" y="3429000"/>
            <a:ext cx="0" cy="28728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7093080" y="3429000"/>
            <a:ext cx="0" cy="28728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859280" y="4365720"/>
            <a:ext cx="4033800" cy="1557000"/>
          </a:xfrm>
          <a:prstGeom prst="rect">
            <a:avLst/>
          </a:prstGeom>
          <a:solidFill>
            <a:srgbClr val="ffff99"/>
          </a:solidFill>
          <a:ln w="34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ста в парламенте распределяются среди кандидатов победивших в избирательном окру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Типы избирательных 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9840" y="981000"/>
            <a:ext cx="8713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ОПОРЦИОНАЛЬНАЯ система используется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Итал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557360"/>
            <a:ext cx="2160360" cy="1440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826920" y="29242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та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Герман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9280" y="1557360"/>
            <a:ext cx="2449440" cy="14698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3924360" y="2997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50920" y="35002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АЖОРИТАРНАЯ система используе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Картинка 2 из 6687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27640" y="1484280"/>
            <a:ext cx="2098800" cy="1575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0"/>
          <p:cNvSpPr/>
          <p:nvPr/>
        </p:nvSpPr>
        <p:spPr>
          <a:xfrm>
            <a:off x="6516720" y="3068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Картинка 3 из 3200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149720"/>
            <a:ext cx="2305080" cy="144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Картинка 4 из 1032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411280" y="4149720"/>
            <a:ext cx="2168640" cy="1484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Картинка 1 из 7688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43280" y="4149720"/>
            <a:ext cx="2233800" cy="1487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Картинка 4 из 12014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948360" y="4149720"/>
            <a:ext cx="2195640" cy="1465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5"/>
          <p:cNvSpPr/>
          <p:nvPr/>
        </p:nvSpPr>
        <p:spPr>
          <a:xfrm>
            <a:off x="539640" y="5661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2268360" y="566100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ликобр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5292720" y="5661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7488360" y="55897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Типы избирательных 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Мажоритарная избиратель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уществуют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три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разновидности мажоритарной системы: абсолютного, относительного и квалифицированного больши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флаг"/>
          <p:cNvPicPr/>
          <p:nvPr/>
        </p:nvPicPr>
        <p:blipFill>
          <a:blip r:embed="rId1"/>
          <a:stretch/>
        </p:blipFill>
        <p:spPr>
          <a:xfrm>
            <a:off x="611280" y="3284640"/>
            <a:ext cx="2990880" cy="3352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Vibori_b"/>
          <p:cNvPicPr/>
          <p:nvPr/>
        </p:nvPicPr>
        <p:blipFill>
          <a:blip r:embed="rId2"/>
          <a:stretch/>
        </p:blipFill>
        <p:spPr>
          <a:xfrm>
            <a:off x="6156360" y="2924280"/>
            <a:ext cx="251784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Типы избирательных 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2170080" cy="604800"/>
          </a:xfrm>
          <a:prstGeom prst="rect">
            <a:avLst/>
          </a:prstGeom>
          <a:solidFill>
            <a:srgbClr val="ffff99"/>
          </a:solidFill>
          <a:ln w="34920">
            <a:solidFill>
              <a:srgbClr val="3399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бсолют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203640" y="1557360"/>
            <a:ext cx="2665440" cy="604800"/>
          </a:xfrm>
          <a:prstGeom prst="rect">
            <a:avLst/>
          </a:prstGeom>
          <a:solidFill>
            <a:srgbClr val="ffff99"/>
          </a:solidFill>
          <a:ln w="349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с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588000" y="1557360"/>
            <a:ext cx="2170080" cy="822240"/>
          </a:xfrm>
          <a:prstGeom prst="rect">
            <a:avLst/>
          </a:prstGeom>
          <a:solidFill>
            <a:srgbClr val="ffff99"/>
          </a:solidFill>
          <a:ln w="349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алифици-рова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1187280" y="2276640"/>
            <a:ext cx="0" cy="863280"/>
          </a:xfrm>
          <a:prstGeom prst="line">
            <a:avLst/>
          </a:prstGeom>
          <a:ln w="73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>
            <a:off x="4500720" y="2349360"/>
            <a:ext cx="0" cy="863640"/>
          </a:xfrm>
          <a:prstGeom prst="line">
            <a:avLst/>
          </a:prstGeom>
          <a:ln w="73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7667640" y="2421000"/>
            <a:ext cx="0" cy="863640"/>
          </a:xfrm>
          <a:prstGeom prst="line">
            <a:avLst/>
          </a:prstGeom>
          <a:ln w="73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50920" y="3357720"/>
            <a:ext cx="2305080" cy="2838240"/>
          </a:xfrm>
          <a:prstGeom prst="rect">
            <a:avLst/>
          </a:prstGeom>
          <a:solidFill>
            <a:srgbClr val="ffff99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збранным считается кандидат, собравший абсолютное большинство голосов -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50 % + 1 голос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избира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348000" y="3357720"/>
            <a:ext cx="2305080" cy="2228400"/>
          </a:xfrm>
          <a:prstGeom prst="rect">
            <a:avLst/>
          </a:prstGeom>
          <a:solidFill>
            <a:srgbClr val="ffff99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ндидату для победы достаточно набрать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больш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сов, чем кому-либо из конкур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012000" y="3357720"/>
            <a:ext cx="2952720" cy="3018600"/>
          </a:xfrm>
          <a:prstGeom prst="rect">
            <a:avLst/>
          </a:prstGeom>
          <a:solidFill>
            <a:srgbClr val="ffff99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победы необходимо набрать заранее установленное большинство, которое выше половины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2/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3/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 т. д. Обычно применяется при решении конституционных вопр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79280" y="83664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Разновидности мажоритарной избир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Многопартийность и партийные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 u="sng">
                <a:solidFill>
                  <a:srgbClr val="009999"/>
                </a:solidFill>
                <a:uFillTx/>
                <a:latin typeface="Arial"/>
              </a:rPr>
              <a:t>Политическая парт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 объединение людей, ставящее перед собой задачу овладения государственной властью и ее удерж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79280" y="2179800"/>
            <a:ext cx="8964720" cy="4353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ризнаки политической парт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бровольное объединение граж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ель – участие в осуществлении политической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лич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личие руководящих органов, лид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личие имущества, финан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личие символов, значков, знамен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Многопартийность и партийные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95280" y="126828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Многопартийность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– наличие в обществе двух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более пар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24000" y="213372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ртии различают по разным параметр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24000" y="2637000"/>
            <a:ext cx="8135640" cy="119124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 По идеологическому признаку – ЛИБЕРАЛЬНЫЕ, КОНСЕРВАТИВНЫЕ, СОЦИАЛ-ДЕМОКРАТИЧЕСКИЕ, КОММУНИСТИЧЕСКИЕ, ФАШИСТСКИЕ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24000" y="3933720"/>
            <a:ext cx="8135640" cy="15570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По типу политических программ – ЛЕВЫЕ (коммунистические, социалистические), ПРАВЫЕ (консервативные, либеральные), ЦЕНТРИСТСКИЕ (социал-демократическ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24000" y="5648400"/>
            <a:ext cx="8135640" cy="8254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 По организационному признаку – массовые и кадро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24000" y="2637000"/>
            <a:ext cx="8135640" cy="8254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4. По отношению к власти – правящие и оппози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24000" y="3860640"/>
            <a:ext cx="8135640" cy="157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. Также можно подразделять н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лигиозные и свет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егальные и нелег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i?id=49521774-14"/>
          <p:cNvPicPr/>
          <p:nvPr/>
        </p:nvPicPr>
        <p:blipFill>
          <a:blip r:embed="rId1"/>
          <a:stretch/>
        </p:blipFill>
        <p:spPr>
          <a:xfrm>
            <a:off x="0" y="2708280"/>
            <a:ext cx="2525760" cy="3238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Fidel_Castro5_cropped"/>
          <p:cNvPicPr/>
          <p:nvPr/>
        </p:nvPicPr>
        <p:blipFill>
          <a:blip r:embed="rId2"/>
          <a:stretch/>
        </p:blipFill>
        <p:spPr>
          <a:xfrm>
            <a:off x="7013520" y="2708280"/>
            <a:ext cx="21304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08:09:39Z</dcterms:created>
  <dc:creator>Нафор Маточ</dc:creator>
  <dc:description/>
  <dc:language>en-US</dc:language>
  <cp:lastModifiedBy>Администратор</cp:lastModifiedBy>
  <dcterms:modified xsi:type="dcterms:W3CDTF">2020-03-31T17:08:15Z</dcterms:modified>
  <cp:revision>63</cp:revision>
  <dc:subject/>
  <dc:title>Демократические выборы и политические партии</dc:title>
</cp:coreProperties>
</file>