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5AB-F74E-4846-AC94-F70663E6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483-57D0-4F66-8BFB-7F959480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65F-28B0-4BA5-8435-AE473BB4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E4E-84E4-41E1-B2B0-E650B752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305-B835-4BB0-A4A7-1D548AB4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DC61-CEDC-41CB-BAD6-9DE00BE0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E81A-B7C1-40F7-A846-DA1F0C2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1B2-A0E2-4101-BF50-F4B9BF1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D8C-3AD3-4ED7-8DA4-07F8865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E8B-926A-4419-87E8-F7FB74B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AC7-52AA-41C5-A956-BAC599D9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A8D-890E-4015-9B85-3C525B4A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96B-E3DF-4B45-8A15-0CB7225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E965-6398-4486-9BE0-C344792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6B0-3CA1-4269-85A6-05A34131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27A4-7976-43EC-B519-3F7D803E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1B6B-D7B2-4140-8CBC-7023F012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937-2878-4861-88FF-BF0C4080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031-D41E-4E9B-9A29-F576A52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022-050A-461D-B383-E2636C96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E8C-73FC-48D9-8925-B32F833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E3F-F229-4DB5-AD46-70E41A6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20B-4178-4E90-AE68-C8ED148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0FC-195C-4792-9088-3B42952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BED-582A-43C0-B1FC-B42FC030E0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5D1-2741-48E7-A2AE-C39662188F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rokidelai.ru/3-sentyabrya-den-pamyati-beslana/school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rokidelai.ru/3-sentyabrya-den-pamyati-beslana/beslan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427040"/>
            <a:ext cx="7925040" cy="36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80808"/>
                </a:solidFill>
                <a:latin typeface="Bookman Old Style"/>
              </a:rPr>
              <a:t>3 сентября – </a:t>
            </a:r>
            <a:br>
              <a:rPr sz="4600"/>
            </a:br>
            <a:r>
              <a:rPr b="1" lang="ru-RU" sz="4600" spc="-1" strike="noStrike">
                <a:solidFill>
                  <a:srgbClr val="080808"/>
                </a:solidFill>
                <a:latin typeface="Bookman Old Style"/>
              </a:rPr>
              <a:t>День солидарности в борьбе с терроризмом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ch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860400"/>
            <a:ext cx="74674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амятник в г.Москв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besl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70080" y="1612800"/>
            <a:ext cx="66038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Дерево скорби» в Беслан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Дерево скорби"/>
          <p:cNvPicPr/>
          <p:nvPr/>
        </p:nvPicPr>
        <p:blipFill>
          <a:blip r:embed="rId1"/>
          <a:stretch/>
        </p:blipFill>
        <p:spPr>
          <a:xfrm>
            <a:off x="1600200" y="1219320"/>
            <a:ext cx="510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457200" y="304920"/>
            <a:ext cx="75438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мним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орби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?id=176534833-28-72&amp;n=21"/>
          <p:cNvPicPr/>
          <p:nvPr/>
        </p:nvPicPr>
        <p:blipFill>
          <a:blip r:embed="rId1"/>
          <a:stretch/>
        </p:blipFill>
        <p:spPr>
          <a:xfrm>
            <a:off x="1828800" y="914400"/>
            <a:ext cx="50864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066680" y="533520"/>
            <a:ext cx="769644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оти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рр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Праздник 3 сентября - День солидарности в борьбе с терроризмом"/>
          <p:cNvPicPr/>
          <p:nvPr/>
        </p:nvPicPr>
        <p:blipFill>
          <a:blip r:embed="rId1"/>
          <a:stretch/>
        </p:blipFill>
        <p:spPr>
          <a:xfrm>
            <a:off x="1066680" y="185760"/>
            <a:ext cx="62485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ррористический акт в Беслане — захват заложников  в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коле № 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а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сла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 (Северная Осетия), совершенный      террористами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тром 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 сентября 200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года  во время торжественной линейки, посвященной началу учебного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В течение двух с половиной дней террористы удерживали в здании более 1100  заложников (преимущественно детей, их родителей и сотрудников школы) в тяжелейших условиях, отказывая людям даже в минимальных естественных потреб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третий день около 13:05 в школе произошли взрывы, и позже возник пожар, в результате чего произошло частичное обрушение здания. После первых взрывов заложники начали выбегать из школы, и федеральными силами был предпринят штур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льшинство заложников были освобождены в ходе штурма ,но  в результате теракта 334 человека, из них 186 детей, были убиты и свыше 800 ра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Беслан, сентябрь 2004 года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i?id=242807683-37-72&amp;n=21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b5a5685b14bb04335d15770cf6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-20</cp:lastModifiedBy>
  <dcterms:modified xsi:type="dcterms:W3CDTF">2016-09-03T10:23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