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3C7-CA6D-49E3-AFAB-96BD7314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1B3-006D-459A-9956-A51C97DC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7BA-B8CA-4E3A-977F-214487D1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473-0296-4A69-959B-8A2926DA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EE9-5D9B-471F-A615-2CB435EE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01F-52DA-4C19-832A-3D6B8DA0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BB8-4C86-4EE4-B07F-DDC30085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9A08-7A7A-4A8F-B31D-EDF94514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62A-78EE-4CFC-B31F-09ECF0CB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709-B8CC-4DA5-AD80-6144B078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A3F-8226-4C33-BA29-5628B552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095-B045-456C-968C-A546D5A8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0DE8-4E95-4788-9EEE-B74474BEC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istory-ryazan.ru/system/files/images/user_images/u1/pereslavl10_0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proza.ru/pics/2012/08/24/550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m.io.ua/img_aa/medium/1868/32/18683249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ildwinds.com/coins/rsc/postumia/postumia8.10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39840" y="0"/>
            <a:ext cx="6656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47640" y="148428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еньги</a:t>
            </a:r>
            <a:endParaRPr b="1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их</a:t>
            </a:r>
            <a:endParaRPr b="1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функции</a:t>
            </a:r>
            <a:endParaRPr b="1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Как изменялись день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 21 веке все большее распространение получают </a:t>
            </a:r>
            <a:r>
              <a:rPr b="1" i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электронные кар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713800" cy="43578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омашнее 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33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. Изучить параграф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. Ответить на вопросы («Проверим себя») на стр.111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. Сделать задания № 1 и №2 на стр.111 («В классе и дома»)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ПИСЬ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3280" y="3500280"/>
            <a:ext cx="4206960" cy="3149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4195800" cy="31482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стория возникновения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Функции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ак изменялись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2714760"/>
            <a:ext cx="6913800" cy="40114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История возникновения де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460520" cy="1117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59280" y="1341360"/>
            <a:ext cx="890280" cy="11876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2340000" y="1916280"/>
            <a:ext cx="647640" cy="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1844640"/>
            <a:ext cx="647640" cy="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05264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туральный обмен (товар обменивается на товар)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овременном мире называется «бар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55640" y="2997360"/>
            <a:ext cx="1460520" cy="1117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340000" y="3573360"/>
            <a:ext cx="647640" cy="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3141720"/>
            <a:ext cx="2376720" cy="825120"/>
          </a:xfrm>
          <a:prstGeom prst="rect">
            <a:avLst/>
          </a:prstGeom>
          <a:noFill/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День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3573360"/>
            <a:ext cx="647640" cy="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3068640"/>
            <a:ext cx="865080" cy="1152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826920" y="443700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Эквивалент стоимости.  В этой роли выступал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68360" y="5013360"/>
            <a:ext cx="1150920" cy="6444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95280" y="5734080"/>
            <a:ext cx="1297080" cy="9730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763640" y="4941720"/>
            <a:ext cx="1339920" cy="839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1692360" y="5950080"/>
            <a:ext cx="1430280" cy="666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76720" y="4941720"/>
            <a:ext cx="54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кушки, скот, шкурки животных, кожи и т.п. Позже роль такого эквивалента стали выполнять слитки ме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История возникновения де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5473440" cy="381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796000" y="3573360"/>
            <a:ext cx="3166920" cy="3105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50920" y="4653000"/>
            <a:ext cx="5400720" cy="1008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ервоначально роль денег стали выполнять слитки из драгоценных металлов (серебро, золо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1773360"/>
            <a:ext cx="3097080" cy="1618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ри торговых сделках слитки ча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рубили на ч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так и возникли моне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Функции де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07920"/>
            <a:ext cx="316836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Мера сто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580000" y="907920"/>
            <a:ext cx="3024360" cy="2052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24000" y="1413000"/>
            <a:ext cx="5111640" cy="1191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Цен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сумма денег, которая уплачивается при покупке товаров ил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2565360"/>
            <a:ext cx="122400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2637000"/>
            <a:ext cx="1008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Ц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2781360"/>
            <a:ext cx="1081080" cy="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637000"/>
            <a:ext cx="431928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Средство об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141720"/>
            <a:ext cx="5111640" cy="2654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грают роль посредника при обмене. Металлические деньги могут быть заменены бумажными или кредитными (используются банковские чеки или банковская кредитная кар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80000" y="3141720"/>
            <a:ext cx="3024360" cy="2268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Функции де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836640"/>
            <a:ext cx="367164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Средство пла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508720" y="765000"/>
            <a:ext cx="1533600" cy="2160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324000" y="1413000"/>
            <a:ext cx="5111640" cy="1191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ыплата заработной платы работникам, продажа товаров в кредит, оплата штрафов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141720"/>
            <a:ext cx="417672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Средство нако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3141720"/>
            <a:ext cx="3456000" cy="3322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324000" y="3716280"/>
            <a:ext cx="417672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. Мировые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292640"/>
            <a:ext cx="5111640" cy="22885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плачиваются поставки товаров между странами, международные кредиты. Могут быть в виде золотых слитков или в твердой валюте (доллар, евро, фунт, йена и т.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64000" y="3914640"/>
            <a:ext cx="3564000" cy="2667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Как изменялись день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101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ервые металлические деньги появились  в Китае в 12 веке до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Европу металлические деньги проникли от лидийцев (Малая Азия) в 6 веке до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708280"/>
            <a:ext cx="7921800" cy="3997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Как изменялись день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ервые бумажные деньг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явились в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итае в 12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о Франции бумажные деньги появились     в 157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России бумажные деньги (ассигнации) ввели при </a:t>
            </a: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Екатерине </a:t>
            </a:r>
            <a:r>
              <a:rPr b="1" i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51640" y="692280"/>
            <a:ext cx="2016000" cy="1117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600360" cy="25495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500720" y="4149720"/>
            <a:ext cx="4248000" cy="25272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Как изменялись день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Заменителем бумажных денег может быть </a:t>
            </a:r>
            <a:r>
              <a:rPr b="1" i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банковский че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(приказ банку от имени клиента выплатить указанную в чеке сумму предъявителю ч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8640720" cy="40640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2:06:37Z</dcterms:created>
  <dc:creator>Нафор Маточ</dc:creator>
  <dc:description/>
  <dc:language>en-US</dc:language>
  <cp:lastModifiedBy>1</cp:lastModifiedBy>
  <dcterms:modified xsi:type="dcterms:W3CDTF">2019-02-24T17:46:02Z</dcterms:modified>
  <cp:revision>136</cp:revision>
  <dc:subject/>
  <dc:title>Деньги и их функции</dc:title>
</cp:coreProperties>
</file>