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DE2-E131-44C6-8B9C-0DDB3EFD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F06-51B3-4441-9B17-D8F94B28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857-20E2-4125-BA1C-A0852982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066-DDE8-46EF-8357-2E64A42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9C64-64B4-4AE8-A1BB-8BD2531E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3B70-7AC8-477A-BC32-38A21D3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8BB5-A67C-4015-8C05-232A8AF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338-CE71-43B4-8049-F92202F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8277-38C2-40A2-97D0-D2EB296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08FD-2A4D-4BE8-B148-3688B84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0E5-37D9-41B2-99BE-7742A98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A09-C88F-4A7B-8213-EE5970D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B80E-9C19-4C6A-9F57-55D2B889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FE54-1964-4FA7-8AF5-B36816EE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BA04-FE35-41B2-8C0A-58EC262B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6F6-E083-4B0C-B77D-E5CB06E6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14C-8FDA-42B0-8C1B-356D77F0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95F4-B802-40CB-AD4E-8A6EECA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437B-96ED-4C23-A10C-ABA992B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22E4-6973-486A-92A7-2CCE1193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EF4E-D054-465A-9913-DDA912AD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7FA3-6812-4B52-B5A5-F69EE31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2E8-BBE2-48DB-95E4-27F230C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5296-559B-4BBC-9850-6862EC4E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7620-0AF0-4552-BA4E-CB63BAF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263F-F40C-469C-98A7-E4434C5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6630-C79C-4D3A-8C1E-3607E34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5B1B-4B6B-4254-BA1E-04E57BF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C14D-055F-498E-A433-499D69A9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77B6-8395-4A6A-A35F-92C79E37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532D-A755-4B47-84A2-FAB5376A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C663-844B-4840-B601-C1A4E9FC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9F81-523E-4F4A-B069-160DFBB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AAF-43E2-4435-BA43-532ABEFE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1759-294C-4ACB-8FDF-C8CB2EBC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CB8E-EF81-48CF-975F-19D28A9D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A78C-DC72-4D2C-AADE-D66B015A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08CA-3D5C-4085-B14C-4FA36CF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D32B-39D0-4B9B-9520-71EB5BF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974F-969A-408E-821E-B001BB8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481E-063B-4B87-9C8E-B66219C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2A1B-BC71-49A1-8CE4-2730540F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CE01-4A04-46FF-B5B6-89B6742E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819-8FAA-4396-B757-C47C125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6A3-882F-4D5D-8843-B01EB20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7F3-DFF7-4C30-BBED-CD8E8F22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C2E4-AA1F-4AA7-BE48-EEAD6EE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634-1B99-4C96-B58F-7CEE4F3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A6BD2-20E4-4B11-86B7-3A49594B1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BFF03F-BC88-4257-A6CE-AF0BDDCEF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0FB355-4C85-45D7-A447-254EC784F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6A0466-EA64-4BB6-9139-741322D48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240" cy="3580920"/>
          </a:xfrm>
          <a:prstGeom prst="rect">
            <a:avLst/>
          </a:prstGeom>
          <a:solidFill>
            <a:schemeClr val="accent5"/>
          </a:solidFill>
          <a:ln w="38160">
            <a:solidFill>
              <a:srgbClr val="ffffff"/>
            </a:solidFill>
            <a:miter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2"/>
                </a:solidFill>
                <a:latin typeface="Times New Roman"/>
              </a:rPr>
              <a:t>Тема: Химический состав и виды акварельных красок. Гуаши. Масляные кра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dd0a89ac7112"/>
          <p:cNvPicPr/>
          <p:nvPr/>
        </p:nvPicPr>
        <p:blipFill>
          <a:blip r:embed="rId1"/>
          <a:stretch/>
        </p:blipFill>
        <p:spPr>
          <a:xfrm rot="17874600">
            <a:off x="2050200" y="3168720"/>
            <a:ext cx="2091240" cy="3767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4" descr="img20.jpg"/>
          <p:cNvPicPr/>
          <p:nvPr/>
        </p:nvPicPr>
        <p:blipFill>
          <a:blip r:embed="rId1"/>
          <a:stretch/>
        </p:blipFill>
        <p:spPr>
          <a:xfrm>
            <a:off x="0" y="46080"/>
            <a:ext cx="9133200" cy="6811560"/>
          </a:xfrm>
          <a:prstGeom prst="rect">
            <a:avLst/>
          </a:prstGeom>
          <a:ln w="9525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4" descr="img2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6" descr="img14.jpg"/>
          <p:cNvPicPr/>
          <p:nvPr/>
        </p:nvPicPr>
        <p:blipFill>
          <a:blip r:embed="rId1"/>
          <a:stretch/>
        </p:blipFill>
        <p:spPr>
          <a:xfrm>
            <a:off x="-4320" y="7920"/>
            <a:ext cx="9147960" cy="6860880"/>
          </a:xfrm>
          <a:prstGeom prst="rect">
            <a:avLst/>
          </a:prstGeom>
          <a:ln w="9525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4" descr="36e3a817485725380c52bb415apq--kartiny-i-panno-zharkij-zakat-maslo-holst-miniatyur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228600" y="1066680"/>
            <a:ext cx="480024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квар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 — это водяные краски. Основные качества акварели — прозрачность, мягкость, чистота и яркость цвета. Связующим акварельных красок являются растительные прозрачные клеи —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гуммиараби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декстрин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легко растворимые водой.     Акварельные краски  содержат также глицерин и сахар, что делает их пластичными. Глицерин удерживает влагу, не дает краскам пересыхать и становиться хрупк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2"/>
          <p:cNvPicPr/>
          <p:nvPr/>
        </p:nvPicPr>
        <p:blipFill>
          <a:blip r:embed="rId1"/>
          <a:stretch/>
        </p:blipFill>
        <p:spPr>
          <a:xfrm>
            <a:off x="5105520" y="1219320"/>
            <a:ext cx="3885840" cy="5181120"/>
          </a:xfrm>
          <a:prstGeom prst="rect">
            <a:avLst/>
          </a:prstGeom>
          <a:ln w="9525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5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Краски делятся на две группы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Group 95"/>
          <p:cNvGraphicFramePr/>
          <p:nvPr/>
        </p:nvGraphicFramePr>
        <p:xfrm>
          <a:off x="457200" y="685800"/>
          <a:ext cx="8229240" cy="44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тепл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холод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К теплым относятся желтые, оранжевые, красные, коричневые, то есть все краски, которые в основе своей содержат то или иное количество красного или желтого цвет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К группе холодных — голубые, синие, зеленые, фиолетовые, если в них преобладают холодновато-синие оттенк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Group 96"/>
          <p:cNvGraphicFramePr/>
          <p:nvPr/>
        </p:nvGraphicFramePr>
        <p:xfrm>
          <a:off x="457200" y="5257800"/>
          <a:ext cx="8229240" cy="1269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Зеленые, фиолетовые, серые и черные цвета могут быть как холодными, так и теплыми в зависимости от особенностей колера и влияния окруж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kraski-akvarelnye"/>
          <p:cNvPicPr/>
          <p:nvPr/>
        </p:nvPicPr>
        <p:blipFill>
          <a:blip r:embed="rId1"/>
          <a:stretch/>
        </p:blipFill>
        <p:spPr>
          <a:xfrm>
            <a:off x="4648320" y="152280"/>
            <a:ext cx="4325400" cy="6552720"/>
          </a:xfrm>
          <a:prstGeom prst="rect">
            <a:avLst/>
          </a:prstGeom>
          <a:ln w="9525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28600" y="533520"/>
            <a:ext cx="4190760" cy="545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Б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твердая акварель в плит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полутвердая акварель в кюветах и ту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c3300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жидкая аква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 каждого вида существует конкретный тип использования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304920" y="228600"/>
            <a:ext cx="85341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Еще бывают акварельные карандаши и мелки. Вы можете рисовать ими как обычными карандашами или мелками, но как только вы начнёте применять воду, то цвет будет рассеиваться, и вы получите акварельные краски. Акварельные карандаши содержат в себе пигмент, который распадается в в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04086b997637f3aca8b82d6788366ca5_600"/>
          <p:cNvPicPr/>
          <p:nvPr/>
        </p:nvPicPr>
        <p:blipFill>
          <a:blip r:embed="rId1"/>
          <a:stretch/>
        </p:blipFill>
        <p:spPr>
          <a:xfrm>
            <a:off x="4419720" y="2514600"/>
            <a:ext cx="4571640" cy="417780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6" descr="41870_1"/>
          <p:cNvPicPr/>
          <p:nvPr/>
        </p:nvPicPr>
        <p:blipFill>
          <a:blip r:embed="rId2"/>
          <a:srcRect l="5533" t="3689" r="7831" b="5987"/>
          <a:stretch/>
        </p:blipFill>
        <p:spPr>
          <a:xfrm>
            <a:off x="457200" y="2666880"/>
            <a:ext cx="3580920" cy="3733560"/>
          </a:xfrm>
          <a:prstGeom prst="rect">
            <a:avLst/>
          </a:prstGeom>
          <a:ln w="9525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Акварельные краски называются медовыми, потому что их изготавливают с добавлением мёда. Это делают для того, чтобы краски были более пла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295280" y="2644920"/>
            <a:ext cx="6400440" cy="3533400"/>
          </a:xfrm>
          <a:prstGeom prst="rect">
            <a:avLst/>
          </a:prstGeom>
          <a:ln w="9525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4" descr="img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4" descr="0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4" descr="slide_2.jpg"/>
          <p:cNvPicPr/>
          <p:nvPr/>
        </p:nvPicPr>
        <p:blipFill>
          <a:blip r:embed="rId1"/>
          <a:stretch/>
        </p:blipFill>
        <p:spPr>
          <a:xfrm>
            <a:off x="486000" y="533520"/>
            <a:ext cx="8171640" cy="5592240"/>
          </a:xfrm>
          <a:prstGeom prst="rect">
            <a:avLst/>
          </a:prstGeom>
          <a:ln w="9525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  <Words>18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Серега</dc:creator>
  <dc:description/>
  <dc:language>en-US</dc:language>
  <cp:lastModifiedBy>Юлия</cp:lastModifiedBy>
  <cp:lastPrinted>1601-01-01T00:00:00Z</cp:lastPrinted>
  <dcterms:modified xsi:type="dcterms:W3CDTF">2020-03-31T05:45:1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Version">
    <vt:r8>1</vt:r8>
  </property>
</Properties>
</file>