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002-9E73-4C75-A022-D25C7002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650-A3E1-43B8-84F7-50D0D73D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0E-6343-4E98-AF40-7F915E57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3B1-1397-4B70-A20E-A578CE89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1A0C-3CB0-4591-8C67-E121968F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469-F093-45B0-BA5A-2A950F9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158D-141F-4F47-B973-3387277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0D6E-C89A-4BE1-A834-C95F7CD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0E8-2BCA-403B-AC56-C10BA8B9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11C4-7653-4944-AD91-A8C7961D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9612-81E8-4112-B87C-8961EEFA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FF3-7FDF-42A2-A5AC-6B85F94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5CC9-C9F9-44B9-8D41-E16061B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2070-9F77-47B5-8DC0-D1C3EF2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B1D-66A2-4D31-861B-46581274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8AA-AC01-40D6-9634-23402858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0FB7-FDC5-4702-903B-B70B0F0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2B5-ABB5-47EC-8F51-E55C70C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C46-908D-40A9-AF12-4770548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7A3-FF8F-4566-9E57-DFE9654C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081-96FC-4A7A-B257-8582928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55D-56BC-485D-8350-0D5B110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CB1-EE4B-4924-83CD-FC2DA3E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096-8EA1-4D0F-AB10-B7DB570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59C-A237-455B-AD3F-05D085E676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D158-114A-492A-85D4-DD6BE9DA9BA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chemist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808200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я и живопись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ага – материальный носитель различных видов искус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285480"/>
            <a:ext cx="81630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умажные носители информации.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ажнейшим материальным носителем информации по-прежнему пока остаётся бумага. На отечественном рынке в настоящее время имеются сотни различных видов бумаги и изделий из неё. При выборе бумаги для документирования необходимо учитывать свойства бумаги, обусловленные технологическим процессом её производства, композиционным составом, степенью отделки поверхности и т.п. Любая бумага, изготовленная традиционным способом, характеризуется определёнными свойствами, которые необходимо принимать во внимание в процессе документирования. К числу таких важнейших свойств и показателей относятся: композиционный состав, т.е. состав и род волокон (целлюлоза, древесная масса, льнопеньковые, хлопковые и др. волокна), их процентное соотношение, степень размола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80640" y="928800"/>
            <a:ext cx="8163000" cy="55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Рисунок 2" descr="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Рисунок 2" descr="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4" name="Рисунок 2" descr="0003-003-Dukhovnaja-zhiz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0_27541_5065026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304920" y="963720"/>
            <a:ext cx="8686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 живописи применяются преимущественно минеральные пигменты. Они нерастворимы в воде, масле, спирте и, если растереть на каком-либо связующем, окрашивают только поверхность материала. Одни из самых популярных художественных красок это – красный сурик, азурит, ультрамарин, киноварь, охр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1522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Соли в палитре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художник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19040" y="191628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оли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еталлов являются пигментами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художествен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ых красок. Карбонат и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ульфат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ка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льция – грунт для основы живописи. Сульфиды – это природные соединения серы: киноварь, реальгар, аурипигмент. Хроматические пигменты: красный - свинцовый сурик, оранжевый – смесь красного с желтым, желтый – свинцовый крон, зеленый – медян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37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762120" y="533520"/>
            <a:ext cx="746748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льтрамар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льтрамарин представляет собой синтетический алюмосиликат натрия с включением полисульфидов натрия. В зависимости от своего состава может быть белым, зеленым, синим, фиолетовым и красным. Получается из лазуревого кам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3" name="Рисунок 2" descr="44.p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hello_html_6b0b19c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20-03-31T06:32:38Z</dcterms:modified>
  <cp:revision>28</cp:revision>
  <dc:subject/>
  <dc:title>PowerPoint Presentation</dc:title>
</cp:coreProperties>
</file>