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74C2-67D4-4618-94FA-9D65A458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901E-D4AC-4E63-B137-0CE7BBA2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43CF-8B4E-4E89-AAAA-913BF116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7D0-05D0-4447-98C2-272B2408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0A0E-0FCF-4E27-AAB9-1E63902D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4D76-66CE-419F-96E1-3CBACE43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A824-F2E1-41F6-BCB9-6F92E5B7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9792-3323-4F5B-A2D3-E7954042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83E8-D252-4865-97D8-883BC87D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A226-621B-4B31-A24A-B404D389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C2B5-3546-4ACF-9CF9-75DE9C8B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455-8187-4121-9918-FFF9F86B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426A-097C-41BD-B2C3-52A2EF6B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906C-2B40-4103-A6D2-0709064E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CC65-2310-4E4C-9CAB-DA248597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F102-6852-4820-B349-1A838CB0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E6D4-5FC2-47F3-962F-3B78FA86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3D33-34BC-4C7A-A6D6-27B46CAF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BE00-A5D5-4BC2-B037-BCEDDBC8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7F1-C778-49C6-AC5F-1104EA9E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ABF-BF08-4121-B101-BE55373F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98DA-C3CE-4233-A25F-502DE60D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BF3-80B5-4F4A-A5B0-14788FC9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8A8-9804-4AC5-8387-A828AEEB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1029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1030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1031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1032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34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035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037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038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040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041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043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1044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1046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1047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1048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1049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1050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1051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1052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1053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1054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1055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1056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1057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1058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1059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1060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1061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1062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1063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1064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1065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1066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1067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1068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1069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1070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1071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1072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73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74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75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076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077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078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079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080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081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082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083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1084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1085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1086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1087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1088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F1BA-7FEB-422C-97DA-1296518D445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920A-51A2-4EC8-B2E9-EC64BBD0FD9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chemist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8082000" cy="19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мия и живопись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мага – материальный носитель различных видов искусства.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2" descr="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2" descr="slid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2" descr="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285480"/>
            <a:ext cx="8163000" cy="61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умажные носители информации.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Важнейшим материальным носителем информации по-прежнему пока остаётся бумага. На отечественном рынке в настоящее время имеются сотни различных видов бумаги и изделий из неё. При выборе бумаги для документирования необходимо учитывать свойства бумаги, обусловленные технологическим процессом её производства, композиционным составом, степенью отделки поверхности и т.п. Любая бумага, изготовленная традиционным способом, характеризуется определёнными свойствами, которые необходимо принимать во внимание в процессе документирования. К числу таких важнейших свойств и показателей относятся: композиционный состав, т.е. состав и род волокон (целлюлоза, древесная масса, льнопеньковые, хлопковые и др. волокна), их процентное соотношение, степень размола.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80640" y="928800"/>
            <a:ext cx="8163000" cy="55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1" name="Рисунок 2" descr="img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3" name="Рисунок 2" descr="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2" descr="img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4" name="Рисунок 2" descr="0003-003-Dukhovnaja-zhiz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0_27541_5065026b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304920" y="963720"/>
            <a:ext cx="868680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В живописи применяются преимущественно минеральные пигменты. Они нерастворимы в воде, масле, спирте и, если растереть на каком-либо связующем, окрашивают только поверхность материала. Одни из самых популярных художественных красок это – красный сурик, азурит, ультрамарин, киноварь, охр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0" y="152280"/>
            <a:ext cx="9144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Соли в палитре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художников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419040" y="1916280"/>
            <a:ext cx="8305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Garamond"/>
              </a:rPr>
              <a:t>Соли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металлов являются пигментами </a:t>
            </a:r>
            <a:r>
              <a:rPr b="1" lang="ru-RU" sz="3200" spc="-1" strike="noStrike">
                <a:solidFill>
                  <a:srgbClr val="eaeaea"/>
                </a:solidFill>
                <a:latin typeface="Garamond"/>
              </a:rPr>
              <a:t>художествен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ных красок. Карбонат и </a:t>
            </a:r>
            <a:r>
              <a:rPr b="1" lang="ru-RU" sz="3200" spc="-1" strike="noStrike">
                <a:solidFill>
                  <a:srgbClr val="eaeaea"/>
                </a:solidFill>
                <a:latin typeface="Garamond"/>
              </a:rPr>
              <a:t>сульфат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Garamond"/>
              </a:rPr>
              <a:t>ка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льция – грунт для основы живописи. Сульфиды – это природные соединения серы: киноварь, реальгар, аурипигмент. Хроматические пигменты: красный - свинцовый сурик, оранжевый – смесь красного с желтым, желтый – свинцовый крон, зеленый – медянк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377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"/>
          <p:cNvSpPr/>
          <p:nvPr/>
        </p:nvSpPr>
        <p:spPr>
          <a:xfrm>
            <a:off x="762120" y="533520"/>
            <a:ext cx="746748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Ультрамари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Ультрамарин представляет собой синтетический алюмосиликат натрия с включением полисульфидов натрия. В зависимости от своего состава может быть белым, зеленым, синим, фиолетовым и красным. Получается из лазуревого кам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3" name="Рисунок 2" descr="44.p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2" descr="hello_html_6b0b19c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2" descr="img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ия</cp:lastModifiedBy>
  <dcterms:modified xsi:type="dcterms:W3CDTF">2020-03-31T06:32:38Z</dcterms:modified>
  <cp:revision>28</cp:revision>
  <dc:subject/>
  <dc:title>PowerPoint Presentation</dc:title>
</cp:coreProperties>
</file>