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C58-287F-44C8-A115-DE92A462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A94-959B-47AD-96C8-85566399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557-3299-453A-9B0B-00C32F91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215-E641-499E-B328-FBA2150C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1EB-160D-41C5-9B0B-A11E4708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78B3-97CB-4622-993D-EDB1AAE9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E04C-D303-4181-BF81-7308826E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F941-AEB1-408E-974E-BBC85486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8F6-C38F-4CCE-889E-6CED1AB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329-972C-4014-967B-7BFBAE37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F5B1-F36D-468F-AE4E-0225630A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946-8874-4808-98A6-50DEE97D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8A66-71D3-41A1-83F1-BCF7808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3B5-D9B0-4913-9BE2-6844388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A4DC-0046-4CB3-8F39-3CB839DC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808-9C8C-40B6-905A-39EBF052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1C8E-5CF2-4C2F-B10C-516C3042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C4B-64BC-4043-9B48-59A42EA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B49-E570-4448-8226-493A90E6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897-B9E7-4E18-8A80-E6B5EEC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77C-D157-49EC-8ED6-E54769A1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581-812D-40D4-990F-FF71815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C73-3990-4386-BA59-E63D9324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08B-FA13-4C07-8793-5E30F27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C39-F363-40C1-87EB-34C3E2DEF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302-9C5F-4E1C-B716-A09E8977592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33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Детский сад №52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Воспитатель Склярова 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.В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92000" y="2924280"/>
            <a:ext cx="6048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му нужна вода?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Без воды нет жизни!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27" name="Picture 9" descr="YuUaq8ERiK"/>
          <p:cNvPicPr/>
          <p:nvPr/>
        </p:nvPicPr>
        <p:blipFill>
          <a:blip r:embed="rId1"/>
          <a:stretch/>
        </p:blipFill>
        <p:spPr>
          <a:xfrm>
            <a:off x="971640" y="1700280"/>
            <a:ext cx="2592360" cy="244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5658"/>
          <p:cNvPicPr/>
          <p:nvPr/>
        </p:nvPicPr>
        <p:blipFill>
          <a:blip r:embed="rId2"/>
          <a:stretch/>
        </p:blipFill>
        <p:spPr>
          <a:xfrm>
            <a:off x="4500720" y="1557360"/>
            <a:ext cx="294300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1369284069_national-geographics-138"/>
          <p:cNvPicPr/>
          <p:nvPr/>
        </p:nvPicPr>
        <p:blipFill>
          <a:blip r:embed="rId3"/>
          <a:stretch/>
        </p:blipFill>
        <p:spPr>
          <a:xfrm>
            <a:off x="1116000" y="3789360"/>
            <a:ext cx="3765600" cy="284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5596bac7657a8275122c5539de0727ec"/>
          <p:cNvPicPr/>
          <p:nvPr/>
        </p:nvPicPr>
        <p:blipFill>
          <a:blip r:embed="rId4"/>
          <a:stretch/>
        </p:blipFill>
        <p:spPr>
          <a:xfrm>
            <a:off x="5148360" y="3357720"/>
            <a:ext cx="3744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99"/>
                </a:solidFill>
                <a:latin typeface="Arial Black"/>
              </a:rPr>
              <a:t>Кто сильнее всех на свете?</a:t>
            </a:r>
            <a:br>
              <a:rPr sz="1900"/>
            </a:br>
            <a:r>
              <a:rPr b="1" i="1" lang="ru-RU" sz="1900" spc="-1" strike="noStrike">
                <a:solidFill>
                  <a:srgbClr val="ffff99"/>
                </a:solidFill>
                <a:latin typeface="Arial Black"/>
              </a:rPr>
              <a:t>Что в руках не удержать?</a:t>
            </a:r>
            <a:br>
              <a:rPr sz="1900"/>
            </a:br>
            <a:r>
              <a:rPr b="1" i="1" lang="ru-RU" sz="1900" spc="-1" strike="noStrike">
                <a:solidFill>
                  <a:srgbClr val="ffff99"/>
                </a:solidFill>
                <a:latin typeface="Arial Black"/>
              </a:rPr>
              <a:t>Что в решете не унесешь?</a:t>
            </a:r>
            <a:br>
              <a:rPr sz="1900"/>
            </a:br>
            <a:r>
              <a:rPr b="1" i="1" lang="ru-RU" sz="1900" spc="-1" strike="noStrike">
                <a:solidFill>
                  <a:srgbClr val="ffff99"/>
                </a:solidFill>
                <a:latin typeface="Arial Black"/>
              </a:rPr>
              <a:t>Конечно это </a:t>
            </a:r>
            <a:r>
              <a:rPr b="1" lang="ru-RU" sz="2300" spc="-1" strike="noStrike">
                <a:solidFill>
                  <a:srgbClr val="ffff99"/>
                </a:solidFill>
                <a:latin typeface="Arial Black"/>
              </a:rPr>
              <a:t> ВОДА!</a:t>
            </a:r>
            <a:endParaRPr b="0" lang="en-US" sz="23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2" name="Picture 5" descr="YuUaq8ERiK"/>
          <p:cNvPicPr/>
          <p:nvPr/>
        </p:nvPicPr>
        <p:blipFill>
          <a:blip r:embed="rId1"/>
          <a:stretch/>
        </p:blipFill>
        <p:spPr>
          <a:xfrm>
            <a:off x="1116000" y="1628640"/>
            <a:ext cx="7777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Вода необходима животным для жизни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4" name="Picture 6" descr="i?id=502232258-53-72&amp;n=21"/>
          <p:cNvPicPr/>
          <p:nvPr/>
        </p:nvPicPr>
        <p:blipFill>
          <a:blip r:embed="rId1"/>
          <a:stretch/>
        </p:blipFill>
        <p:spPr>
          <a:xfrm>
            <a:off x="1332000" y="1916280"/>
            <a:ext cx="5472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369284069_national-geographics-138"/>
          <p:cNvPicPr/>
          <p:nvPr/>
        </p:nvPicPr>
        <p:blipFill>
          <a:blip r:embed="rId1"/>
          <a:stretch/>
        </p:blipFill>
        <p:spPr>
          <a:xfrm>
            <a:off x="971640" y="189000"/>
            <a:ext cx="7921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тички без воды не смогут летать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7" name="Picture 6" descr="5658"/>
          <p:cNvPicPr/>
          <p:nvPr/>
        </p:nvPicPr>
        <p:blipFill>
          <a:blip r:embed="rId1"/>
          <a:stretch/>
        </p:blipFill>
        <p:spPr>
          <a:xfrm>
            <a:off x="1042920" y="1628640"/>
            <a:ext cx="7850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Вода живёт в стакане,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9" name="Picture 5" descr="5596bac7657a8275122c5539de0727ec"/>
          <p:cNvPicPr/>
          <p:nvPr/>
        </p:nvPicPr>
        <p:blipFill>
          <a:blip r:embed="rId1"/>
          <a:stretch/>
        </p:blipFill>
        <p:spPr>
          <a:xfrm>
            <a:off x="1116000" y="1628640"/>
            <a:ext cx="777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И в водопроводном кране!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21" name="Picture 5" descr="09febe461c61a94e9462c030ba0d848f"/>
          <p:cNvPicPr/>
          <p:nvPr/>
        </p:nvPicPr>
        <p:blipFill>
          <a:blip r:embed="rId1"/>
          <a:stretch/>
        </p:blipFill>
        <p:spPr>
          <a:xfrm>
            <a:off x="1187280" y="1557360"/>
            <a:ext cx="7705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5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Цветочки и травка без воды погибнут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24" name="Объект 1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309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0322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2:51:17Z</dcterms:created>
  <dc:creator>-</dc:creator>
  <dc:description/>
  <dc:language>en-US</dc:language>
  <cp:lastModifiedBy>Дом</cp:lastModifiedBy>
  <dcterms:modified xsi:type="dcterms:W3CDTF">2020-03-30T07:13:50Z</dcterms:modified>
  <cp:revision>7</cp:revision>
  <dc:subject/>
  <dc:title>«Кому нужна водичка?»</dc:title>
</cp:coreProperties>
</file>