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1.jpeg" ContentType="image/jpeg"/>
  <Override PartName="/ppt/media/image14.jpeg" ContentType="image/jpeg"/>
  <Override PartName="/ppt/media/image8.png" ContentType="image/png"/>
  <Override PartName="/ppt/media/image39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6.jpeg" ContentType="image/jpeg"/>
  <Override PartName="/ppt/media/image28.png" ContentType="image/png"/>
  <Override PartName="/ppt/media/image38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24C-F167-42F8-8854-3E13AE8D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C5BB-8D13-4C82-A069-97F2E481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17E-B211-4BA0-A45F-B5EE3716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AFD-B209-47AC-A4A4-6371EE75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72AB-812B-4217-A3B5-B84FA19C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1B2B-A93D-4B06-A924-902C5A6B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3A3B-D59A-4DA0-9BE2-51D0C73B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C25C-2257-4431-B98D-55172C40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9D3F-1A86-448D-ACC0-3A0BBD86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6861-57CF-4611-9BA5-05F04DD0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0800-5A55-4791-94AA-03225951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B2F-9F2B-40FD-B955-B160C6E4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1F07-04C1-42B9-8FB1-08BBE74C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DEC3-CE6E-47BC-B08C-F04616A8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F187-F8B4-4CF6-A17C-13047785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0EF1-9402-42C4-9663-C51FA561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D72F-2BDB-4F82-84B3-6883C33A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E4D4F-C888-43B7-A091-261EEC76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4A1A6-C544-4363-9A93-2867F7F1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1FA59-57A9-4FD7-A9E6-B9E980A8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A610C-741D-45CC-98E5-F26FC543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9AB43-4F2B-454D-AD08-AB21E35C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C4B-CFA0-4BA3-82DF-D4E0EA20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19DB7-6791-4F2F-92D8-01781163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4F113-DD8D-4734-A51A-F54A6CDE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6892E-3D8D-4FB3-A9E7-134189C6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22AEC-A037-4158-965D-44A6BE73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1A7C7-3DEC-4330-8539-7E5FEE11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6135E-3746-418B-AD9B-D99839C3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2FD53-D387-4252-AB1C-79CA9A6F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F1D00-3670-4B97-A1BC-2E74111D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6EA0F-10FA-430B-B413-9093F5A1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168B5-D36D-4706-9F2C-823044D9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6E3-F6F6-477F-ADEC-7E17D395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ED862-9449-4796-84AB-282497D3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F113A-9BBD-40D4-AEE6-D230D801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BA801-39C2-463C-A6FE-1F11097E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2F3F1-9547-4A3B-AF5D-AA899EAC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8EEE1-8310-40C5-8EAD-3FD750C1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A180E-5E18-4CA1-A912-C3B1F759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F6D13-CAD0-4803-9A76-605B375C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60C72-DF99-40E0-A703-C1564693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E2EAF-1DA6-4AD9-97E2-42CB2585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1AF2-CA19-49FE-A7AC-69BB9483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D8D-52F2-4CE2-B99D-1D12DDE6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BECC-A243-4863-8CF9-2DD3DFA6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366-81D3-43F5-AB12-18B2F441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000-F113-4000-BCBA-0BBC8321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357A-787D-4931-B531-AA880433E6D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4EAE-ED5B-48C0-B95C-0FDE3063078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373C-47AE-4F06-A569-946A1C171B5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CCCB-B37E-4A06-8B62-988B084FA31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566640" y="1407960"/>
            <a:ext cx="7864560" cy="30718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419640" y="4579560"/>
            <a:ext cx="4495680" cy="1235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Музыкальный руководител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амодурова  Ангелина Хасановн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Прямоугольник 3"/>
          <p:cNvSpPr/>
          <p:nvPr/>
        </p:nvSpPr>
        <p:spPr>
          <a:xfrm>
            <a:off x="179280" y="647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№ 14 «Красная шапочка»  г. Котовска Тамбовской облас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Прямоугольник 5"/>
          <p:cNvSpPr/>
          <p:nvPr/>
        </p:nvSpPr>
        <p:spPr>
          <a:xfrm>
            <a:off x="3214800" y="1785960"/>
            <a:ext cx="56782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ализация воспитательного компонента дошкольного образования средствами кружковой деятельности художественно-эстетической  направленности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Прямоугольник 20"/>
          <p:cNvSpPr/>
          <p:nvPr/>
        </p:nvSpPr>
        <p:spPr>
          <a:xfrm>
            <a:off x="3771360" y="628668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отовск 201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Рисунок 7" descr=""/>
          <p:cNvPicPr/>
          <p:nvPr/>
        </p:nvPicPr>
        <p:blipFill>
          <a:blip r:embed="rId2"/>
          <a:stretch/>
        </p:blipFill>
        <p:spPr>
          <a:xfrm>
            <a:off x="785880" y="2143080"/>
            <a:ext cx="2327040" cy="350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"/>
          <p:cNvSpPr/>
          <p:nvPr/>
        </p:nvSpPr>
        <p:spPr>
          <a:xfrm>
            <a:off x="285840" y="683640"/>
            <a:ext cx="84294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Деятельность вокального кружка является непосредственным воспитательным компонентом в образовательной деятельности ДОУ. Участие воспитанников в различных городских мероприятиях и конкурсах таких как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- торжественном открытии городского стадион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-участие воспитанников в открытом общем родительском собрании на тему: «Дошкольное детство- реалии и перспективы»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- музыкальные поздравления в городском отделе ЗАГС на мероприятиях: «Имянаречение», «День матери», «Золотые юбиляры» и т. д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-  поздравления детей для пациентов отделения сестринского ухода ко Дню пожилого челове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- участие воспитанников в музыкально-литературном вечере «Сердце матери», подготовленном школой искусств «Интеллект» совместно с отделом ЗАГС г. Котовска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- участие воспитанников в городском фестивале «Покрова Богородицы»,  «Рождественская свеча»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- участие воспитанников в городском празднике «Всех праздников Праздник!»  как нельзя лучше отражает важность и значение кружковой деятельности в воспитании подрастающего поколе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1" descr="C:\Users\детский сад 14\Desktop\DSC_0463.JPG"/>
          <p:cNvPicPr/>
          <p:nvPr/>
        </p:nvPicPr>
        <p:blipFill>
          <a:blip r:embed="rId1"/>
          <a:stretch/>
        </p:blipFill>
        <p:spPr>
          <a:xfrm>
            <a:off x="5508720" y="476280"/>
            <a:ext cx="3000240" cy="197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2" name="Picture 2" descr="J:\фото\DSC01684.JPG"/>
          <p:cNvPicPr/>
          <p:nvPr/>
        </p:nvPicPr>
        <p:blipFill>
          <a:blip r:embed="rId2"/>
          <a:stretch/>
        </p:blipFill>
        <p:spPr>
          <a:xfrm>
            <a:off x="250920" y="3573360"/>
            <a:ext cx="2666880" cy="18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3" name="Picture 2" descr="J:\фото\фестиваль Рождественская свеча\DSC_0740.JPG"/>
          <p:cNvPicPr/>
          <p:nvPr/>
        </p:nvPicPr>
        <p:blipFill>
          <a:blip r:embed="rId3"/>
          <a:stretch/>
        </p:blipFill>
        <p:spPr>
          <a:xfrm>
            <a:off x="611280" y="549360"/>
            <a:ext cx="2900160" cy="19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4" name="Picture 4" descr="J:\фото\Изображение 025.jpg"/>
          <p:cNvPicPr/>
          <p:nvPr/>
        </p:nvPicPr>
        <p:blipFill>
          <a:blip r:embed="rId4"/>
          <a:stretch/>
        </p:blipFill>
        <p:spPr>
          <a:xfrm>
            <a:off x="6300720" y="3645000"/>
            <a:ext cx="2679840" cy="17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5" name="Picture 5" descr="E:\ФОТО\педагог года 2015\Recoverd_jpg_file(270).jpg"/>
          <p:cNvPicPr/>
          <p:nvPr/>
        </p:nvPicPr>
        <p:blipFill>
          <a:blip r:embed="rId5"/>
          <a:stretch/>
        </p:blipFill>
        <p:spPr>
          <a:xfrm>
            <a:off x="3419640" y="4653000"/>
            <a:ext cx="2666880" cy="20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6" name="Прямоугольник 7"/>
          <p:cNvSpPr/>
          <p:nvPr/>
        </p:nvSpPr>
        <p:spPr>
          <a:xfrm>
            <a:off x="2627280" y="2637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000"/>
                            </p:stCondLst>
                            <p:childTnLst>
                              <p:par>
                                <p:cTn id="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"/>
          <p:cNvSpPr/>
          <p:nvPr/>
        </p:nvSpPr>
        <p:spPr>
          <a:xfrm>
            <a:off x="142920" y="1428840"/>
            <a:ext cx="87868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настоящее время в образовательном пространстве дошкольного образовательного учреждения особое внимание уделяется художественно-эстетическому развитию дошкольников.  ФГОС ДО ориентировал педагогов на признание  самоценности  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дошкольного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детства  как уникального периода в жизни человека, исходя из этого, задача педагога состоит не только в подготовке ребенка к школе, но и в обеспечении условий для полноценного проживания этого уникального период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Прямоугольник 2"/>
          <p:cNvSpPr/>
          <p:nvPr/>
        </p:nvSpPr>
        <p:spPr>
          <a:xfrm>
            <a:off x="324000" y="333360"/>
            <a:ext cx="857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a0c"/>
                </a:solidFill>
                <a:latin typeface="Constantia"/>
              </a:rPr>
              <a:t>«Реализация воспитательного компонента дошкольного образования средствами кружковой деятельности художественно-эстетической  направленности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1" descr="C:\Users\Анатолий\Desktop\thumb_1936_content_gallery_main.jpeg"/>
          <p:cNvPicPr/>
          <p:nvPr/>
        </p:nvPicPr>
        <p:blipFill>
          <a:blip r:embed="rId1"/>
          <a:stretch/>
        </p:blipFill>
        <p:spPr>
          <a:xfrm>
            <a:off x="2556000" y="3645000"/>
            <a:ext cx="4333680" cy="285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-256320" y="642960"/>
            <a:ext cx="9880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художественно-эстетического развития: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Прямоугольник 2"/>
          <p:cNvSpPr/>
          <p:nvPr/>
        </p:nvSpPr>
        <p:spPr>
          <a:xfrm>
            <a:off x="857160" y="1285920"/>
            <a:ext cx="7500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пособствует обогащению чувственного опы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огащению эмоциональной сферы лич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лияет на познание нравственной стороны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йствитель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вышает  познавательную актив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3" descr="I:\ДЛЯ САЙТА\картинки\592.png"/>
          <p:cNvPicPr/>
          <p:nvPr/>
        </p:nvPicPr>
        <p:blipFill>
          <a:blip r:embed="rId1"/>
          <a:stretch/>
        </p:blipFill>
        <p:spPr>
          <a:xfrm>
            <a:off x="214200" y="4286160"/>
            <a:ext cx="3394080" cy="2419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4"/>
          <p:cNvSpPr/>
          <p:nvPr/>
        </p:nvSpPr>
        <p:spPr>
          <a:xfrm>
            <a:off x="2357280" y="2928960"/>
            <a:ext cx="52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2428"/>
                </a:solidFill>
                <a:latin typeface="Constantia"/>
              </a:rPr>
              <a:t>Кружки эстетическо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2428"/>
                </a:solidFill>
                <a:latin typeface="Constantia"/>
              </a:rPr>
              <a:t>направленност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Схема 17" descr=""/>
          <p:cNvPicPr/>
          <p:nvPr/>
        </p:nvPicPr>
        <p:blipFill>
          <a:blip r:embed="rId1"/>
          <a:stretch/>
        </p:blipFill>
        <p:spPr>
          <a:xfrm>
            <a:off x="907920" y="353880"/>
            <a:ext cx="7602840" cy="6222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214200" y="714240"/>
            <a:ext cx="578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onstantia"/>
              </a:rPr>
              <a:t>Цель кружковой работы 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-обогащение духовного мира детей различными средствами; формирование эстетического отношения к окружающему миру; развитие природных  данных  детей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11" descr="J:\КОНКУРС 2015\ДЛЯ САЙТА\фото 14 сад работа\DSC_0222.JPG"/>
          <p:cNvPicPr/>
          <p:nvPr/>
        </p:nvPicPr>
        <p:blipFill>
          <a:blip r:embed="rId1"/>
          <a:stretch/>
        </p:blipFill>
        <p:spPr>
          <a:xfrm>
            <a:off x="4067280" y="3789360"/>
            <a:ext cx="1857240" cy="279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0" name="Picture 3" descr="C:\Users\Анатолий\Desktop\КОНФЕРЕНЦИЯ\13.jpg"/>
          <p:cNvPicPr/>
          <p:nvPr/>
        </p:nvPicPr>
        <p:blipFill>
          <a:blip r:embed="rId2"/>
          <a:stretch/>
        </p:blipFill>
        <p:spPr>
          <a:xfrm>
            <a:off x="6300720" y="765000"/>
            <a:ext cx="2382840" cy="17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1" name="Picture 12" descr="C:\Users\Анатолий\Desktop\detsad-43340-1443447136.jpg"/>
          <p:cNvPicPr/>
          <p:nvPr/>
        </p:nvPicPr>
        <p:blipFill>
          <a:blip r:embed="rId3"/>
          <a:stretch/>
        </p:blipFill>
        <p:spPr>
          <a:xfrm>
            <a:off x="6443640" y="3284640"/>
            <a:ext cx="2500200" cy="19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2" name="Picture 9" descr="C:\Users\Анатолий\Desktop\Как заинтересовать ребёнка занятиями музыкой.jpeg"/>
          <p:cNvPicPr/>
          <p:nvPr/>
        </p:nvPicPr>
        <p:blipFill>
          <a:blip r:embed="rId4"/>
          <a:stretch/>
        </p:blipFill>
        <p:spPr>
          <a:xfrm>
            <a:off x="900000" y="4941720"/>
            <a:ext cx="2681280" cy="17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3" name="Picture 8" descr="C:\Users\Анатолий\Desktop\experiment21_clip_image002.jpg"/>
          <p:cNvPicPr/>
          <p:nvPr/>
        </p:nvPicPr>
        <p:blipFill>
          <a:blip r:embed="rId5"/>
          <a:stretch/>
        </p:blipFill>
        <p:spPr>
          <a:xfrm>
            <a:off x="179280" y="2997360"/>
            <a:ext cx="2594160" cy="17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3"/>
          <p:cNvSpPr/>
          <p:nvPr/>
        </p:nvSpPr>
        <p:spPr>
          <a:xfrm>
            <a:off x="2878200" y="142920"/>
            <a:ext cx="37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сёлые нотки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4" descr="J:\фото\фестиваль Рождественская свеча\DSC_0721.JPG"/>
          <p:cNvPicPr/>
          <p:nvPr/>
        </p:nvPicPr>
        <p:blipFill>
          <a:blip r:embed="rId1"/>
          <a:stretch/>
        </p:blipFill>
        <p:spPr>
          <a:xfrm>
            <a:off x="642960" y="714240"/>
            <a:ext cx="2651040" cy="1762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6" name="Рисунок 5" descr="C:\Users\детский сад 14\Desktop\DSC_0458.JPG"/>
          <p:cNvPicPr/>
          <p:nvPr/>
        </p:nvPicPr>
        <p:blipFill>
          <a:blip r:embed="rId2"/>
          <a:stretch/>
        </p:blipFill>
        <p:spPr>
          <a:xfrm>
            <a:off x="6429240" y="2786040"/>
            <a:ext cx="2500560" cy="17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7" name="Picture 10" descr="E:\Foto\КОНКУРС ПЕДАГОГ 2015\DSC_0856.JPG"/>
          <p:cNvPicPr/>
          <p:nvPr/>
        </p:nvPicPr>
        <p:blipFill>
          <a:blip r:embed="rId3"/>
          <a:stretch/>
        </p:blipFill>
        <p:spPr>
          <a:xfrm>
            <a:off x="4857840" y="4786200"/>
            <a:ext cx="2685960" cy="18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8" name="Picture 7" descr="E:\ФОТО\педагог года 2015\Recoverd_jpg_file(1397).jpg"/>
          <p:cNvPicPr/>
          <p:nvPr/>
        </p:nvPicPr>
        <p:blipFill>
          <a:blip r:embed="rId4"/>
          <a:stretch/>
        </p:blipFill>
        <p:spPr>
          <a:xfrm>
            <a:off x="357120" y="2786040"/>
            <a:ext cx="2476440" cy="185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9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10" descr="C:\Users\Анатолий\Desktop\image (3).jpg"/>
          <p:cNvPicPr/>
          <p:nvPr/>
        </p:nvPicPr>
        <p:blipFill>
          <a:blip r:embed="rId5"/>
          <a:stretch/>
        </p:blipFill>
        <p:spPr>
          <a:xfrm>
            <a:off x="6000840" y="785880"/>
            <a:ext cx="2500200" cy="1874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1" name="Picture 11" descr="C:\Users\Анатолий\Desktop\image (4).jpg"/>
          <p:cNvPicPr/>
          <p:nvPr/>
        </p:nvPicPr>
        <p:blipFill>
          <a:blip r:embed="rId6"/>
          <a:stretch/>
        </p:blipFill>
        <p:spPr>
          <a:xfrm>
            <a:off x="3635280" y="1628640"/>
            <a:ext cx="2036880" cy="271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2" name="Picture 12" descr="C:\Users\Анатолий\Desktop\image (1).jpg"/>
          <p:cNvPicPr/>
          <p:nvPr/>
        </p:nvPicPr>
        <p:blipFill>
          <a:blip r:embed="rId7"/>
          <a:stretch/>
        </p:blipFill>
        <p:spPr>
          <a:xfrm>
            <a:off x="1643040" y="4786200"/>
            <a:ext cx="2857680" cy="19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3"/>
          <p:cNvSpPr/>
          <p:nvPr/>
        </p:nvSpPr>
        <p:spPr>
          <a:xfrm>
            <a:off x="365760" y="57168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граммы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Rectangle 1"/>
          <p:cNvSpPr/>
          <p:nvPr/>
        </p:nvSpPr>
        <p:spPr>
          <a:xfrm>
            <a:off x="0" y="1573920"/>
            <a:ext cx="845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1221120"/>
            <a:ext cx="900108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Прямоугольник 7"/>
          <p:cNvSpPr/>
          <p:nvPr/>
        </p:nvSpPr>
        <p:spPr>
          <a:xfrm>
            <a:off x="285840" y="928800"/>
            <a:ext cx="8496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развитие певческих способностей в условиях дополнительного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образования    детей в ДО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289440" y="164304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граммы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Прямоугольник 7"/>
          <p:cNvSpPr/>
          <p:nvPr/>
        </p:nvSpPr>
        <p:spPr>
          <a:xfrm>
            <a:off x="357120" y="2143080"/>
            <a:ext cx="8496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р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азвивать музыкальные способности детей и эмоциональную отзывчивость дошкольник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оспитывать у детей чуткость, восприимчивость к музыке, любовь к русским народным песням и интерес к песням современных автор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вершенствовать певческий голос и вокально-слуховую координацию, качество звучания голоса (тембра, звукового и динамического диапазона, чистоты интонирования, четкости дикции, подвижности голоса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асширять певческий диапазон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ормировать навыки выразительности исполнения вокальных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оизведений, активному выражению своих чувств и настроений в пении, сопереживанию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пособствовать пробуждению творческой активности детей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креплять здоровье детей (охранять детский певческий голос) через здоровьесберегающую технологию – дыхательную гимнастику (дыхательные упражнения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ивлекать родителей к совместному участию и поддержке вокального исполнительства дошкольник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3" descr="I:\ДЛЯ САЙТА\картинки\592.png"/>
          <p:cNvPicPr/>
          <p:nvPr/>
        </p:nvPicPr>
        <p:blipFill>
          <a:blip r:embed="rId1"/>
          <a:stretch/>
        </p:blipFill>
        <p:spPr>
          <a:xfrm>
            <a:off x="6929280" y="5214960"/>
            <a:ext cx="2038680" cy="164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1538280" y="500040"/>
            <a:ext cx="6040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onstantia"/>
              </a:rPr>
              <a:t>Результаты кружковой деятельности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3" descr="C:\Users\Анатолий\Documents\работа Ангела\Мои скрины дипломы сертификаты\img001.jpg"/>
          <p:cNvPicPr/>
          <p:nvPr/>
        </p:nvPicPr>
        <p:blipFill>
          <a:blip r:embed="rId1"/>
          <a:stretch/>
        </p:blipFill>
        <p:spPr>
          <a:xfrm>
            <a:off x="324000" y="692280"/>
            <a:ext cx="1487160" cy="2143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C:\Users\Анатолий\Documents\работа Ангела\Мои скрины дипломы сертификаты\img015.jpg"/>
          <p:cNvPicPr/>
          <p:nvPr/>
        </p:nvPicPr>
        <p:blipFill>
          <a:blip r:embed="rId2"/>
          <a:stretch/>
        </p:blipFill>
        <p:spPr>
          <a:xfrm>
            <a:off x="324000" y="4508640"/>
            <a:ext cx="1530360" cy="2143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8" descr=""/>
          <p:cNvPicPr/>
          <p:nvPr/>
        </p:nvPicPr>
        <p:blipFill>
          <a:blip r:embed="rId3"/>
          <a:stretch/>
        </p:blipFill>
        <p:spPr>
          <a:xfrm>
            <a:off x="7429680" y="714240"/>
            <a:ext cx="1379520" cy="2173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Users\Анатолий\Documents\работа Ангела\Мои скрины дипломы сертификаты\img012.jpg"/>
          <p:cNvPicPr/>
          <p:nvPr/>
        </p:nvPicPr>
        <p:blipFill>
          <a:blip r:embed="rId4"/>
          <a:stretch/>
        </p:blipFill>
        <p:spPr>
          <a:xfrm>
            <a:off x="6286680" y="2571840"/>
            <a:ext cx="1404720" cy="2000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C:\Users\Анатолий\Documents\работа Ангела\Мои скрины дипломы сертификаты\0c74cc_490afd428d734d7ab3417dc897488129.jpg_srz_p_260_358_75_22_0.50_1.20_0.jpeg"/>
          <p:cNvPicPr/>
          <p:nvPr/>
        </p:nvPicPr>
        <p:blipFill>
          <a:blip r:embed="rId5"/>
          <a:stretch/>
        </p:blipFill>
        <p:spPr>
          <a:xfrm>
            <a:off x="2916360" y="4508640"/>
            <a:ext cx="1569960" cy="2143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5" descr=""/>
          <p:cNvPicPr/>
          <p:nvPr/>
        </p:nvPicPr>
        <p:blipFill>
          <a:blip r:embed="rId6"/>
          <a:stretch/>
        </p:blipFill>
        <p:spPr>
          <a:xfrm>
            <a:off x="5003640" y="4508640"/>
            <a:ext cx="1560600" cy="2146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"/>
          <p:cNvPicPr/>
          <p:nvPr/>
        </p:nvPicPr>
        <p:blipFill>
          <a:blip r:embed="rId7"/>
          <a:stretch/>
        </p:blipFill>
        <p:spPr>
          <a:xfrm>
            <a:off x="1403280" y="2492280"/>
            <a:ext cx="155412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"/>
          <p:cNvPicPr/>
          <p:nvPr/>
        </p:nvPicPr>
        <p:blipFill>
          <a:blip r:embed="rId8"/>
          <a:stretch/>
        </p:blipFill>
        <p:spPr>
          <a:xfrm>
            <a:off x="7429680" y="4572000"/>
            <a:ext cx="1523880" cy="210348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12" descr="C:\Users\Анатолий\Desktop\image (1).jpg"/>
          <p:cNvPicPr/>
          <p:nvPr/>
        </p:nvPicPr>
        <p:blipFill>
          <a:blip r:embed="rId9"/>
          <a:stretch/>
        </p:blipFill>
        <p:spPr>
          <a:xfrm>
            <a:off x="3071880" y="1643040"/>
            <a:ext cx="303516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428760" y="35712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Работаем в тесном контакте с социокультурными учреждениями город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4" descr="C:\Users\Анатолий\Desktop\muzei(1).jpg"/>
          <p:cNvPicPr/>
          <p:nvPr/>
        </p:nvPicPr>
        <p:blipFill>
          <a:blip r:embed="rId1"/>
          <a:stretch/>
        </p:blipFill>
        <p:spPr>
          <a:xfrm>
            <a:off x="857160" y="200016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Users\Анатолий\Desktop\i.jpg"/>
          <p:cNvPicPr/>
          <p:nvPr/>
        </p:nvPicPr>
        <p:blipFill>
          <a:blip r:embed="rId2"/>
          <a:stretch/>
        </p:blipFill>
        <p:spPr>
          <a:xfrm>
            <a:off x="5072040" y="2000160"/>
            <a:ext cx="2870280" cy="1714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C:\Users\Анатолий\Desktop\57900033.jpg"/>
          <p:cNvPicPr/>
          <p:nvPr/>
        </p:nvPicPr>
        <p:blipFill>
          <a:blip r:embed="rId3"/>
          <a:stretch/>
        </p:blipFill>
        <p:spPr>
          <a:xfrm>
            <a:off x="5076720" y="4221000"/>
            <a:ext cx="2857680" cy="2143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C:\Users\Анатолий\Desktop\68_big.jpg"/>
          <p:cNvPicPr/>
          <p:nvPr/>
        </p:nvPicPr>
        <p:blipFill>
          <a:blip r:embed="rId4"/>
          <a:stretch/>
        </p:blipFill>
        <p:spPr>
          <a:xfrm>
            <a:off x="785880" y="44290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0"/>
          <p:cNvSpPr/>
          <p:nvPr/>
        </p:nvSpPr>
        <p:spPr>
          <a:xfrm>
            <a:off x="214200" y="13572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Музейный историко-просветительный образовательный комплекс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Прямоугольник 11"/>
          <p:cNvSpPr/>
          <p:nvPr/>
        </p:nvSpPr>
        <p:spPr>
          <a:xfrm>
            <a:off x="5328000" y="1428840"/>
            <a:ext cx="289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Дом детского творчеств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Прямоугольник 12"/>
          <p:cNvSpPr/>
          <p:nvPr/>
        </p:nvSpPr>
        <p:spPr>
          <a:xfrm>
            <a:off x="530280" y="4071960"/>
            <a:ext cx="34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городская детская библиотек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Прямоугольник 13"/>
          <p:cNvSpPr/>
          <p:nvPr/>
        </p:nvSpPr>
        <p:spPr>
          <a:xfrm>
            <a:off x="5040720" y="400068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городской Дворец культуры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5T20:36:44Z</dcterms:created>
  <dc:creator>Анатолий</dc:creator>
  <dc:description/>
  <dc:language>en-US</dc:language>
  <cp:lastModifiedBy>Анатолий</cp:lastModifiedBy>
  <dcterms:modified xsi:type="dcterms:W3CDTF">2020-03-31T10:24:44Z</dcterms:modified>
  <cp:revision>145</cp:revision>
  <dc:subject/>
  <dc:title>Слайд 1</dc:title>
</cp:coreProperties>
</file>