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5E21-2B20-4ECF-A854-432E5582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8929-6392-437E-BFB4-A4B1DED6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AE52-6A2B-4A52-BA3E-0C6ACF0C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96A2-9AAC-4FB8-AFA3-7CF1BF57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D80A-96CB-4872-87B9-91F9D9DD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E4A3-4DCE-4D02-9211-DE3B1716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55E2-6812-4E83-8444-26E9BE62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ACE2-89B1-4B65-934B-E6976E5C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7F68-D72A-4CC0-8D9C-7D33DB91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4A7A-7B80-465E-993A-ED6B40D0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C295-2B14-4C45-B10D-294A5DFC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E662-94D8-474F-B727-18615E27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530D-C7F9-40C5-84D1-DFD3471C8C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Лингвистические раскопк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 русского языка в 7 классе. Учитель – Иванова Е.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зей – заповедник Арка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зей пе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 Долгополов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4876920" y="2819520"/>
            <a:ext cx="4029120" cy="3695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4276800" cy="297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 вам запомнился уро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пробуйте выразить свои мысли об увиденном в поэтической форм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ять морфологический разбор причас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ходить в предложениях причастные обор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тавлять запятые в предложениях с причастными оборо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ять предложения с причастиями и причастными оборо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519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вадцатый 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полным основанием можно считать веком археологических откры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последним – крайне редким событиям науки – относится открытие Аркаима и «Страны городов» в Южном Зауралье, на самом пограничье Азии и Европы. Одним из наиболее изученных остаётся поселение Аркаим, где археологическими раскопками вскрыта почти половина жилой площад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 Black"/>
              </a:rPr>
              <a:t>Составьте предложения по фо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креплен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се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рка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крепл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с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уйс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343400" cy="3009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4952880" y="3438360"/>
            <a:ext cx="3867120" cy="341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делить графически и расставить знаки препинания в предложе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лище каменного век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ет-реконстру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созданное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ческом пар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зея-заповед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ка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952800" cy="4048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 Black"/>
              </a:rPr>
              <a:t>В предложениях найти причастия и причастные обороты, выделить; выполнить морфологический разбор причас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менное изваяние эпо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ннего средневек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ходящееся в историче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ке изображено с оконту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нной головой. Чер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ца переда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лубле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324480" y="1523880"/>
            <a:ext cx="2667240" cy="5181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 Black"/>
              </a:rPr>
              <a:t>Составьте предложения по фото, используя причастия и причастные обор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етря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ель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у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733920" cy="3809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4343400" y="2666880"/>
            <a:ext cx="4572000" cy="394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ставить предложения с причастиями и причастными оборот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кинская степ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 с самой выс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ы юга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мятник прир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учший по сохра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ок степ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оны Челябин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886200" cy="4190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писать предложения, расставляя знаки препинания. Выполнить синтаксический разбор пред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ёл-моги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ищник из отря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колообраз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несё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Международ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расную Кни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мах крыльев пт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нездящихся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рритории Аркаи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ставляет бол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вух мет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334040" cy="4876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Елена</cp:lastModifiedBy>
  <dcterms:modified xsi:type="dcterms:W3CDTF">2020-03-31T06:10:1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