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wmf" ContentType="image/x-wmf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10237788" cy="7105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F16-3B1B-4918-9980-67D8A605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9F4-03E5-4E7E-81C6-77C3B3C8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AB8-B87F-47EF-9D98-3E60F8BE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0E3-32A0-4564-9DF3-A695C9A0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82F4-25A3-4096-B8DC-FAA3A216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9E0D-F21D-4EA4-932E-9C850671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BE5C-CE79-4DCB-AD71-B880DC54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B32A-DE09-4D38-BA55-BB250053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B642-67B2-4E3C-9C12-9CEE1674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648B-AE1C-4A35-9B5D-7F925155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05DF-7C88-45C4-83AE-1D28A99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FAD-2247-4AE9-A68B-D10F95B3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C152-040E-491A-B2EE-FE8958AE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1771-7D04-4FF7-B5F1-E57356B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7AD6-429D-4BCF-8CCB-5BAABF07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F114-E927-4201-9ECA-BF0CE186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B49D-CA07-4DC2-9BC4-D1B4C5C7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0FF-A49A-4F9E-A6E5-A4BABD22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258-5456-4E16-A914-ADA13854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F38-C553-41F5-B4ED-3AB4CC22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23F-1878-46BC-A7A7-23AF561E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5C6-F3A1-4B2A-AD09-640DA7C6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8BA-FAEB-4F49-89DD-5FBF989B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28A-8810-4FE6-99F4-A49FDE35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DD08B2-D74B-4585-AC67-9A74E9EA8F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20CD58-8E42-4E9E-9FE2-DC0A1789A5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1"/>
          <p:cNvSpPr txBox="1"/>
          <p:nvPr/>
        </p:nvSpPr>
        <p:spPr>
          <a:xfrm>
            <a:off x="900000" y="189000"/>
            <a:ext cx="7129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Не верь глазам своим! "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219320" y="44197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39640" y="5373720"/>
            <a:ext cx="784872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 ГБОУ гимназии №15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а Санкт-Петербурга Литвинова Ирина Никола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 к уроку по учебному предмету «Математика» в 6-ом классе на тему «Параллельные прямы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0" descr="iP0B5Q2OT"/>
          <p:cNvPicPr/>
          <p:nvPr/>
        </p:nvPicPr>
        <p:blipFill>
          <a:blip r:embed="rId1"/>
          <a:stretch/>
        </p:blipFill>
        <p:spPr>
          <a:xfrm>
            <a:off x="971640" y="1700280"/>
            <a:ext cx="5113080" cy="2917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iP0B5Q2OT"/>
          <p:cNvPicPr/>
          <p:nvPr/>
        </p:nvPicPr>
        <p:blipFill>
          <a:blip r:embed="rId2"/>
          <a:stretch/>
        </p:blipFill>
        <p:spPr>
          <a:xfrm>
            <a:off x="971640" y="1700280"/>
            <a:ext cx="511308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2209680" y="1828800"/>
            <a:ext cx="6416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Georgia"/>
              </a:rPr>
              <a:t>  </a:t>
            </a:r>
            <a:r>
              <a:rPr b="1" i="1" lang="ru-RU" sz="4000" spc="-1" strike="noStrike">
                <a:solidFill>
                  <a:srgbClr val="660066"/>
                </a:solidFill>
                <a:latin typeface="Georgia"/>
              </a:rPr>
              <a:t>Параллельные прямые -это прямые, лежащие в одной плоскости и не пересекающиеся.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WordArt 2"/>
          <p:cNvSpPr txBox="1"/>
          <p:nvPr/>
        </p:nvSpPr>
        <p:spPr>
          <a:xfrm>
            <a:off x="1981080" y="990720"/>
            <a:ext cx="553428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реме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WordArt 3"/>
          <p:cNvSpPr txBox="1"/>
          <p:nvPr/>
        </p:nvSpPr>
        <p:spPr>
          <a:xfrm>
            <a:off x="2057400" y="4724280"/>
            <a:ext cx="553392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реде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696080" y="60958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1508040" y="225252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"/>
          <p:cNvSpPr/>
          <p:nvPr/>
        </p:nvSpPr>
        <p:spPr>
          <a:xfrm>
            <a:off x="1763640" y="836640"/>
            <a:ext cx="1447920" cy="4495680"/>
          </a:xfrm>
          <a:prstGeom prst="line">
            <a:avLst/>
          </a:prstGeom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"/>
          <p:cNvSpPr/>
          <p:nvPr/>
        </p:nvSpPr>
        <p:spPr>
          <a:xfrm>
            <a:off x="611280" y="1052640"/>
            <a:ext cx="1447560" cy="4495680"/>
          </a:xfrm>
          <a:prstGeom prst="line">
            <a:avLst/>
          </a:prstGeom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5840" y="9079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050920" y="692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564000" y="5084640"/>
            <a:ext cx="477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19"/>
          <p:cNvGrpSpPr/>
          <p:nvPr/>
        </p:nvGrpSpPr>
        <p:grpSpPr>
          <a:xfrm>
            <a:off x="4140360" y="5084640"/>
            <a:ext cx="862920" cy="916920"/>
            <a:chOff x="4140360" y="5084640"/>
            <a:chExt cx="862920" cy="916920"/>
          </a:xfrm>
        </p:grpSpPr>
        <p:sp>
          <p:nvSpPr>
            <p:cNvPr id="258" name="Line 7"/>
            <p:cNvSpPr/>
            <p:nvPr/>
          </p:nvSpPr>
          <p:spPr>
            <a:xfrm>
              <a:off x="4140360" y="5425200"/>
              <a:ext cx="10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>
              <a:off x="4317840" y="5425200"/>
              <a:ext cx="14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9"/>
            <p:cNvSpPr/>
            <p:nvPr/>
          </p:nvSpPr>
          <p:spPr>
            <a:xfrm>
              <a:off x="4458240" y="5084640"/>
              <a:ext cx="54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Georgia"/>
                </a:rPr>
                <a:t>b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Text Box 10"/>
          <p:cNvSpPr/>
          <p:nvPr/>
        </p:nvSpPr>
        <p:spPr>
          <a:xfrm>
            <a:off x="2843280" y="620640"/>
            <a:ext cx="110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a=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11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784520" cy="2667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2"/>
          <p:cNvSpPr/>
          <p:nvPr/>
        </p:nvSpPr>
        <p:spPr>
          <a:xfrm>
            <a:off x="67658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WordArt 13"/>
          <p:cNvSpPr txBox="1"/>
          <p:nvPr/>
        </p:nvSpPr>
        <p:spPr>
          <a:xfrm>
            <a:off x="4211640" y="6237360"/>
            <a:ext cx="3467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. Оутред ( 1575-1660 )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2"/>
          <a:stretch/>
        </p:blipFill>
        <p:spPr>
          <a:xfrm>
            <a:off x="6877080" y="3645000"/>
            <a:ext cx="1770120" cy="25905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15"/>
          <p:cNvSpPr txBox="1"/>
          <p:nvPr/>
        </p:nvSpPr>
        <p:spPr>
          <a:xfrm>
            <a:off x="2771640" y="3068640"/>
            <a:ext cx="6086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Герон и Папп Александрийские,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3 в. до н.3.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1143000" y="6019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1447920" y="57913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1" descr="Heron Of Alexandria"/>
          <p:cNvPicPr/>
          <p:nvPr/>
        </p:nvPicPr>
        <p:blipFill>
          <a:blip r:embed="rId3"/>
          <a:stretch/>
        </p:blipFill>
        <p:spPr>
          <a:xfrm>
            <a:off x="4140360" y="260280"/>
            <a:ext cx="18954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682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132000" y="691920"/>
            <a:ext cx="6012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8ae8"/>
              </a:solidFill>
              <a:latin typeface="Arial"/>
            </a:endParaRPr>
          </a:p>
        </p:txBody>
      </p:sp>
      <p:pic>
        <p:nvPicPr>
          <p:cNvPr id="272" name="Group 11" descr=""/>
          <p:cNvPicPr/>
          <p:nvPr/>
        </p:nvPicPr>
        <p:blipFill>
          <a:blip r:embed="rId2"/>
          <a:stretch/>
        </p:blipFill>
        <p:spPr>
          <a:xfrm>
            <a:off x="249120" y="1122480"/>
            <a:ext cx="3054600" cy="3406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CRCTR058"/>
          <p:cNvPicPr/>
          <p:nvPr/>
        </p:nvPicPr>
        <p:blipFill>
          <a:blip r:embed="rId3"/>
          <a:stretch/>
        </p:blipFill>
        <p:spPr>
          <a:xfrm>
            <a:off x="1979640" y="4581360"/>
            <a:ext cx="1481040" cy="2016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5" descr="CRCTR067"/>
          <p:cNvPicPr/>
          <p:nvPr/>
        </p:nvPicPr>
        <p:blipFill>
          <a:blip r:embed="rId4"/>
          <a:stretch/>
        </p:blipFill>
        <p:spPr>
          <a:xfrm flipH="1">
            <a:off x="250560" y="4581360"/>
            <a:ext cx="1579320" cy="195444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12"/>
          <p:cNvSpPr/>
          <p:nvPr/>
        </p:nvSpPr>
        <p:spPr>
          <a:xfrm>
            <a:off x="3357720" y="1000080"/>
            <a:ext cx="5429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Пете и Маше на уроке геометрии учительница дала задание найти на чертеже куба параллельные прямые. Петя сказал: «Я думаю, что это прямые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СС1 и  А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 ». Маша ответила: «Но они совсем не похожи на параллельные прямые. Ведь одна расположена вертикально, а другая – горизонтально». Петя предложил: «Давай посмотрим определение в учебник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13"/>
          <p:cNvSpPr/>
          <p:nvPr/>
        </p:nvSpPr>
        <p:spPr>
          <a:xfrm>
            <a:off x="3429000" y="3500280"/>
            <a:ext cx="528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Смотри:</a:t>
            </a:r>
            <a:r>
              <a:rPr b="0" lang="ru-RU" sz="1800" spc="-1" strike="noStrike">
                <a:solidFill>
                  <a:srgbClr val="008ae8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«Две прямые на плоскости называются параллельными, если они не пересекаются».  </a:t>
            </a:r>
            <a:r>
              <a:rPr b="0" lang="ru-RU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Прямые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C1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  и  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D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не пересекаются, следовательно, они параллельн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250920" y="333360"/>
            <a:ext cx="822960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с другой стороны мы столкнулись со странным явлением: устремляя взгляд далеко в бесконечность, можно увидеть пересечение      параллельных прямых! Если же посмотреть на предмет очень близко, то параллельные прямые расходятс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Group 3"/>
          <p:cNvGrpSpPr/>
          <p:nvPr/>
        </p:nvGrpSpPr>
        <p:grpSpPr>
          <a:xfrm>
            <a:off x="395280" y="2349360"/>
            <a:ext cx="3600360" cy="2232000"/>
            <a:chOff x="395280" y="2349360"/>
            <a:chExt cx="3600360" cy="2232000"/>
          </a:xfrm>
        </p:grpSpPr>
        <p:pic>
          <p:nvPicPr>
            <p:cNvPr id="279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2349360"/>
              <a:ext cx="360036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5"/>
            <p:cNvSpPr/>
            <p:nvPr/>
          </p:nvSpPr>
          <p:spPr>
            <a:xfrm>
              <a:off x="395280" y="2349360"/>
              <a:ext cx="360036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Text Box 6"/>
          <p:cNvSpPr/>
          <p:nvPr/>
        </p:nvSpPr>
        <p:spPr>
          <a:xfrm>
            <a:off x="900000" y="5589720"/>
            <a:ext cx="68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755640" y="62373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1304"/>
                </a:solidFill>
                <a:latin typeface="Tahoma"/>
              </a:rPr>
              <a:t>В чем же дело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07"/>
          <p:cNvPicPr/>
          <p:nvPr/>
        </p:nvPicPr>
        <p:blipFill>
          <a:blip r:embed="rId2"/>
          <a:stretch/>
        </p:blipFill>
        <p:spPr>
          <a:xfrm>
            <a:off x="4572000" y="2060640"/>
            <a:ext cx="3429000" cy="181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03"/>
          <p:cNvPicPr/>
          <p:nvPr/>
        </p:nvPicPr>
        <p:blipFill>
          <a:blip r:embed="rId3"/>
          <a:stretch/>
        </p:blipFill>
        <p:spPr>
          <a:xfrm>
            <a:off x="4572000" y="3933720"/>
            <a:ext cx="30481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ecff"/>
                </a:solidFill>
                <a:latin typeface="Arial"/>
              </a:rPr>
              <a:t>Параллельные прямые в живописи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250920" y="4508640"/>
            <a:ext cx="8229600" cy="1944720"/>
          </a:xfrm>
          <a:prstGeom prst="rect">
            <a:avLst/>
          </a:prstGeom>
          <a:solidFill>
            <a:srgbClr val="cbbd83">
              <a:alpha val="31000"/>
            </a:srgbClr>
          </a:solidFill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Положительный момент: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благодаря зрительным искажениям существует живопись. В живописи существует два способа изображений: в прямой и обратной перспективе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obratn_perspect_1_sml"/>
          <p:cNvPicPr/>
          <p:nvPr/>
        </p:nvPicPr>
        <p:blipFill>
          <a:blip r:embed="rId1"/>
          <a:stretch/>
        </p:blipFill>
        <p:spPr>
          <a:xfrm>
            <a:off x="5651640" y="1125360"/>
            <a:ext cx="2095200" cy="252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pic23"/>
          <p:cNvPicPr/>
          <p:nvPr/>
        </p:nvPicPr>
        <p:blipFill>
          <a:blip r:embed="rId2"/>
          <a:stretch/>
        </p:blipFill>
        <p:spPr>
          <a:xfrm>
            <a:off x="324000" y="1052640"/>
            <a:ext cx="4373280" cy="31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2209680" y="182880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Georgi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7696080" y="60958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Параллельные прямые.mp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90160" cy="5175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219564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 вы думаете, почему параллельные прямые не пересекаю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математические ошибки вы заметили в видеороли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Задание 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Group 11" descr=""/>
          <p:cNvPicPr/>
          <p:nvPr/>
        </p:nvPicPr>
        <p:blipFill>
          <a:blip r:embed="rId1"/>
          <a:stretch/>
        </p:blipFill>
        <p:spPr>
          <a:xfrm>
            <a:off x="5870520" y="1195560"/>
            <a:ext cx="3048120" cy="3406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CRCTR058"/>
          <p:cNvPicPr/>
          <p:nvPr/>
        </p:nvPicPr>
        <p:blipFill>
          <a:blip r:embed="rId2"/>
          <a:stretch/>
        </p:blipFill>
        <p:spPr>
          <a:xfrm>
            <a:off x="1979640" y="4581360"/>
            <a:ext cx="1481040" cy="2016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5" descr="CRCTR067"/>
          <p:cNvPicPr/>
          <p:nvPr/>
        </p:nvPicPr>
        <p:blipFill>
          <a:blip r:embed="rId3"/>
          <a:stretch/>
        </p:blipFill>
        <p:spPr>
          <a:xfrm flipH="1">
            <a:off x="250560" y="4581360"/>
            <a:ext cx="1579320" cy="19544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68360" y="1268280"/>
            <a:ext cx="511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) В рабочий лист запишите два вертикальных реб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Являются ли они параллельными, если да, то запишите при помощи соответствующего знака параллельность отрез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) Если куб наклонить, то сохранится ли вертикальность ребер? А параллель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Задание 5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тя и Маша изготавливали коробку для чайного сервиза и Маша дала Пете зада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исать непересекающиеся прямы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исать параллельные прямы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х пар прямых получилось больше и поче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призма"/>
          <p:cNvPicPr/>
          <p:nvPr/>
        </p:nvPicPr>
        <p:blipFill>
          <a:blip r:embed="rId1"/>
          <a:stretch/>
        </p:blipFill>
        <p:spPr>
          <a:xfrm>
            <a:off x="4643280" y="1916280"/>
            <a:ext cx="3961080" cy="32414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CRCTR058"/>
          <p:cNvPicPr/>
          <p:nvPr/>
        </p:nvPicPr>
        <p:blipFill>
          <a:blip r:embed="rId2"/>
          <a:stretch/>
        </p:blipFill>
        <p:spPr>
          <a:xfrm>
            <a:off x="1979640" y="4581360"/>
            <a:ext cx="1481040" cy="2016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5" descr="CRCTR067"/>
          <p:cNvPicPr/>
          <p:nvPr/>
        </p:nvPicPr>
        <p:blipFill>
          <a:blip r:embed="rId3"/>
          <a:stretch/>
        </p:blipFill>
        <p:spPr>
          <a:xfrm flipH="1">
            <a:off x="250560" y="4581360"/>
            <a:ext cx="15793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1508040" y="225252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WordArt 5"/>
          <p:cNvSpPr txBox="1"/>
          <p:nvPr/>
        </p:nvSpPr>
        <p:spPr>
          <a:xfrm>
            <a:off x="2050920" y="0"/>
            <a:ext cx="505944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    бы не был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раллельных прямых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8" name="Picture 6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2514600" cy="1955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2"/>
          <a:stretch/>
        </p:blipFill>
        <p:spPr>
          <a:xfrm>
            <a:off x="6372360" y="1413000"/>
            <a:ext cx="2447640" cy="23367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5904000" y="3645000"/>
            <a:ext cx="32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660066"/>
                </a:solidFill>
                <a:latin typeface="Georgia"/>
              </a:rPr>
              <a:t>замык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Georgia"/>
              </a:rPr>
              <a:t>нет электр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179280" y="357336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Georgia"/>
              </a:rPr>
              <a:t>крушение поез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i-main-pic" descr="Картинка 6 из 16648"/>
          <p:cNvPicPr/>
          <p:nvPr/>
        </p:nvPicPr>
        <p:blipFill>
          <a:blip r:embed="rId3"/>
          <a:stretch/>
        </p:blipFill>
        <p:spPr>
          <a:xfrm>
            <a:off x="3492360" y="1413000"/>
            <a:ext cx="2401920" cy="2663640"/>
          </a:xfrm>
          <a:prstGeom prst="rect">
            <a:avLst/>
          </a:prstGeom>
          <a:ln w="0">
            <a:noFill/>
          </a:ln>
        </p:spPr>
      </p:pic>
      <p:pic>
        <p:nvPicPr>
          <p:cNvPr id="313" name="i-main-pic" descr="Картинка 457 из 16645"/>
          <p:cNvPicPr/>
          <p:nvPr/>
        </p:nvPicPr>
        <p:blipFill>
          <a:blip r:embed="rId4"/>
          <a:stretch/>
        </p:blipFill>
        <p:spPr>
          <a:xfrm>
            <a:off x="468360" y="4149720"/>
            <a:ext cx="3168720" cy="2516040"/>
          </a:xfrm>
          <a:prstGeom prst="rect">
            <a:avLst/>
          </a:prstGeom>
          <a:ln w="0">
            <a:noFill/>
          </a:ln>
        </p:spPr>
      </p:pic>
      <p:pic>
        <p:nvPicPr>
          <p:cNvPr id="314" name="i-main-pic" descr="Картинка 440 из 16509"/>
          <p:cNvPicPr/>
          <p:nvPr/>
        </p:nvPicPr>
        <p:blipFill>
          <a:blip r:embed="rId5"/>
          <a:stretch/>
        </p:blipFill>
        <p:spPr>
          <a:xfrm>
            <a:off x="5867280" y="4437000"/>
            <a:ext cx="232596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араллельные прямы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урока: 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ние новых зн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ть понятие параллельных прям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идаемые результа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вести определение параллельных прямых; символику для обозначения параллельности двух прям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иучить учащихся распознавать, изображать параллельные прямые, отрезки и лучи на чертеж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пространственного мыш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предмет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формировать умение распознавать параллельные прямые в окружающем мире (определять понятие, относить объект к понятию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оставлять письменные и устные монологические высказы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ормирование познавательных УУД (умение выделять свойства, подведение под понятие, умение анализировать текст, графические и изображения, проверять информацию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ормирование регулятивных УУД (оценка выполнения учебной задачи, умения формулировать и аргументировать собственные сужде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ост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амопозн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эмоционально-положительное отношение обучающихся к математическим знани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7504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, что вы находитесь у шлагбаума рядом с железной дорогой. Опишите отношения параллельности между прямыми, моделями которых являются шпалы, рельсы, шлагбау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7" descr="train"/>
          <p:cNvPicPr/>
          <p:nvPr/>
        </p:nvPicPr>
        <p:blipFill>
          <a:blip r:embed="rId1"/>
          <a:stretch/>
        </p:blipFill>
        <p:spPr>
          <a:xfrm>
            <a:off x="324000" y="3860640"/>
            <a:ext cx="4248000" cy="2656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product"/>
          <p:cNvPicPr/>
          <p:nvPr/>
        </p:nvPicPr>
        <p:blipFill>
          <a:blip r:embed="rId2"/>
          <a:stretch/>
        </p:blipFill>
        <p:spPr>
          <a:xfrm>
            <a:off x="4788000" y="3716280"/>
            <a:ext cx="377964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1508040" y="225252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1403280" y="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611280" y="1197000"/>
            <a:ext cx="7596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Изучив вопросы по данной теме мы пришли к вывода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1) параллельные прямые часто встречаются в окружающем нас мир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2) жизнь без параллельных прямых невозмож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3) параллельные прямые при их изображении могут пересекаться, а могут расходитс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4) </a:t>
            </a: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параллельные прямые не пересекаются на плоскост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Как вы думаете , почему наш урок называется «Не верь глаза своим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ослушайте отрывок из произведения современного российского писателя Бориса Евсеева и представьте траекторию полета сокол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Сокол шел стремительно, шел равнобежно земле, шел ни на метр не снижаясь. Стадо гусей, которое сопровождал он от египетских низовий до средней Волги и из которого во время перелета скупо выдергивал по птице, по годовалому гусенку в сутки, стадо по дороге (из-за вернувшейся внезапно зимы) наполовину перемерзшее — это самое стадо сегодня с утра куда-то запропало. Он летел, и впереди него летела зима: в легких пёрушках, остатняя, злая! Лишь сейчас по-настоящему ощутив зиму грудкой и лапами, сокол дважды тревожно дернул крылом, как бы сообщая себе: тронулся он из Египта рано, рано!…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поняли из текста, что значит  «сокол летел равнобежно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: какая сегодня тема ур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iP0B5Q2OT"/>
          <p:cNvPicPr/>
          <p:nvPr/>
        </p:nvPicPr>
        <p:blipFill>
          <a:blip r:embed="rId1"/>
          <a:stretch/>
        </p:blipFill>
        <p:spPr>
          <a:xfrm>
            <a:off x="1547640" y="3573360"/>
            <a:ext cx="5113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1"/>
          <p:cNvSpPr txBox="1"/>
          <p:nvPr/>
        </p:nvSpPr>
        <p:spPr>
          <a:xfrm>
            <a:off x="684360" y="260280"/>
            <a:ext cx="431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50920" y="1341360"/>
            <a:ext cx="396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Без параллельных прям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невозмож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наша жизн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i-main-pic" descr="Картинка 158 из 16509"/>
          <p:cNvPicPr/>
          <p:nvPr/>
        </p:nvPicPr>
        <p:blipFill>
          <a:blip r:embed="rId1"/>
          <a:stretch/>
        </p:blipFill>
        <p:spPr>
          <a:xfrm>
            <a:off x="4932360" y="1197000"/>
            <a:ext cx="3600360" cy="2365200"/>
          </a:xfrm>
          <a:prstGeom prst="rect">
            <a:avLst/>
          </a:prstGeom>
          <a:ln w="0">
            <a:noFill/>
          </a:ln>
        </p:spPr>
      </p:pic>
      <p:pic>
        <p:nvPicPr>
          <p:cNvPr id="224" name="i-main-pic" descr="Картинка 219 из 16645"/>
          <p:cNvPicPr/>
          <p:nvPr/>
        </p:nvPicPr>
        <p:blipFill>
          <a:blip r:embed="rId2"/>
          <a:stretch/>
        </p:blipFill>
        <p:spPr>
          <a:xfrm>
            <a:off x="324000" y="3933720"/>
            <a:ext cx="4105080" cy="27370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" descr="http://statics.photodom.com/photos/2007/03/10/255548.jpg"/>
          <p:cNvPicPr/>
          <p:nvPr/>
        </p:nvPicPr>
        <p:blipFill>
          <a:blip r:embed="rId3"/>
          <a:stretch/>
        </p:blipFill>
        <p:spPr>
          <a:xfrm>
            <a:off x="4932360" y="4149720"/>
            <a:ext cx="3598920" cy="23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1"/>
          <p:cNvSpPr txBox="1"/>
          <p:nvPr/>
        </p:nvSpPr>
        <p:spPr>
          <a:xfrm>
            <a:off x="1187280" y="333360"/>
            <a:ext cx="6477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много из истории...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684360" y="234936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«параллелой», «</a:t>
            </a: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parallhloz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рядом идущие</a:t>
            </a: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”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«друг подле друга проведенны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(перевод с греческого языка) </a:t>
            </a:r>
            <a:br>
              <a:rPr sz="3600"/>
            </a:b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Стало употребляться 2500 лет назад в школе Пифагор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"/>
          <p:cNvGrpSpPr/>
          <p:nvPr/>
        </p:nvGrpSpPr>
        <p:grpSpPr>
          <a:xfrm>
            <a:off x="1042920" y="1413000"/>
            <a:ext cx="2733840" cy="1869480"/>
            <a:chOff x="1042920" y="1413000"/>
            <a:chExt cx="2733840" cy="1869480"/>
          </a:xfrm>
        </p:grpSpPr>
        <p:pic>
          <p:nvPicPr>
            <p:cNvPr id="229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2733840" cy="186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6"/>
            <p:cNvSpPr/>
            <p:nvPr/>
          </p:nvSpPr>
          <p:spPr>
            <a:xfrm>
              <a:off x="1042920" y="1413000"/>
              <a:ext cx="2733840" cy="18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7"/>
          <p:cNvGrpSpPr/>
          <p:nvPr/>
        </p:nvGrpSpPr>
        <p:grpSpPr>
          <a:xfrm>
            <a:off x="4932360" y="1197000"/>
            <a:ext cx="3107880" cy="1969560"/>
            <a:chOff x="4932360" y="1197000"/>
            <a:chExt cx="3107880" cy="1969560"/>
          </a:xfrm>
        </p:grpSpPr>
        <p:pic>
          <p:nvPicPr>
            <p:cNvPr id="232" name="Picture 8" descr=""/>
            <p:cNvPicPr/>
            <p:nvPr/>
          </p:nvPicPr>
          <p:blipFill>
            <a:blip r:embed="rId2"/>
            <a:stretch/>
          </p:blipFill>
          <p:spPr>
            <a:xfrm>
              <a:off x="4932360" y="1197000"/>
              <a:ext cx="3107880" cy="196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9"/>
            <p:cNvSpPr/>
            <p:nvPr/>
          </p:nvSpPr>
          <p:spPr>
            <a:xfrm>
              <a:off x="4932360" y="1197000"/>
              <a:ext cx="3107880" cy="19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4" name="Picture 10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2808360" cy="2017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4"/>
          <a:stretch/>
        </p:blipFill>
        <p:spPr>
          <a:xfrm>
            <a:off x="4932360" y="3933720"/>
            <a:ext cx="3240000" cy="2159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7"/>
          <p:cNvSpPr/>
          <p:nvPr/>
        </p:nvSpPr>
        <p:spPr>
          <a:xfrm>
            <a:off x="826920" y="26028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бъединяет эти изображен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1"/>
          <p:cNvSpPr txBox="1"/>
          <p:nvPr/>
        </p:nvSpPr>
        <p:spPr>
          <a:xfrm>
            <a:off x="1219320" y="457200"/>
            <a:ext cx="7543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ные определения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ллельных прямых...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940360" y="2205000"/>
            <a:ext cx="2594160" cy="2394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324000" y="2057400"/>
            <a:ext cx="54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«Параллельные суть прямы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торые, находясь в одной плоскости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удучи продолжены в об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ороны неограничен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и с той, ни с друг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ороны меж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бой не встречаютс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4876920" y="5791320"/>
            <a:ext cx="4000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вкли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в lll в. до н. э.)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1"/>
          <p:cNvSpPr txBox="1"/>
          <p:nvPr/>
        </p:nvSpPr>
        <p:spPr>
          <a:xfrm>
            <a:off x="1219320" y="457200"/>
            <a:ext cx="7543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ные определения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ллельных прямых...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1508040" y="3313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422440" y="3009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143000" y="2135160"/>
            <a:ext cx="556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«Две прямые, лежащ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в одной плоскос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и равностоящ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друг от друга.»</a:t>
            </a: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5943600" y="2743200"/>
            <a:ext cx="2090880" cy="2743200"/>
          </a:xfrm>
          <a:prstGeom prst="rect">
            <a:avLst/>
          </a:prstGeom>
          <a:ln w="0">
            <a:noFill/>
          </a:ln>
        </p:spPr>
      </p:pic>
      <p:sp>
        <p:nvSpPr>
          <p:cNvPr id="246" name="WordArt 6"/>
          <p:cNvSpPr txBox="1"/>
          <p:nvPr/>
        </p:nvSpPr>
        <p:spPr>
          <a:xfrm>
            <a:off x="4800600" y="5638680"/>
            <a:ext cx="4038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идони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 I в. до н.э. )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20-03-31T10:24:16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