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224-6ECC-4F7A-BFBD-45820BB0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901-73C0-4153-9F50-73FD5F7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237-5759-42F5-94AA-001C3AE0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9C4-A2CA-4623-ADC1-36E6CF75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3D4-8CFF-4FA2-AF9A-AA18DD10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064-B37B-4ACC-A527-4B8FCFE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56BE-E889-4AE0-B629-5763497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E4A8-FCF1-4964-86F1-A446CDE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8DB-0CED-4E33-99F2-3065310A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FBF9-4DB7-46E1-A0A7-D79B0D49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254B-E4FD-4F3D-84A5-77EEDFD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5A6-7899-489C-8202-241596D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9A7D-2C1D-4944-AA84-A86F53A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9B11-AF2A-43D4-A00E-9B09E3A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66A-9BAD-418A-8D8A-6CBDA3AD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EBF-21E4-40EF-973B-275FDB9B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E32-FA75-428C-ADFC-DC11786F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D659-F952-402A-8D34-A1EA42E7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DD82-D2AF-4250-A404-4C64465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B20A-3BEC-40B4-9B31-191AB111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6DEB-8363-4A8B-880E-3EC20D7F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C326-4971-4F6B-813A-B73961FA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8CB-AE77-43B6-ABCD-C5944CA7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7DCD-B05C-4224-ACCC-9B0E99E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BCDA-8043-4C20-98EA-0D1AA24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BB43-04B5-4C5A-B7A9-60C0989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6A2D-540A-46C0-8EC6-C0B3263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27F1-EB2D-44D5-BD82-3E51343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9512-945F-4104-916E-723EC8AC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A467-B7A8-4CC0-B3E1-C1BF0F4A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39938-579E-43FA-B4D9-7B5EA0F0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92F2A-BE48-4D54-BA9D-797EF9C7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2BB26-3682-4C43-84D0-82C059E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214-EE98-4166-918D-6F0E7F6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96B33-1666-4816-B086-533F3DC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6D7FD-8C4A-49E5-864D-48DE0E6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9B440-B3C2-48A2-A19E-E0273078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05C37-45A4-4AEE-93BE-6FEF9DC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75137-A341-4245-A763-804F926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A8CA7-4E21-4EC5-8C76-8367A2A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383C3-B38A-4624-9324-9E236389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AB9D7-AFC3-4E4C-8B50-94CC1F28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7373C-4F77-48A9-8B03-446D3E30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BE8-B2EC-4CBD-9237-1C2ECA1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5DB-9D37-43F2-AD0A-71506F8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76C-3A97-40B6-9CEC-2884B09E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E4F-FE7A-4F62-92CD-C192380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B52-07F8-4E49-BCE8-2E41EB2F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ADF7-0C82-4980-86DD-7E51F141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A64-B53C-40CD-B261-6FFF2DF5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D887-678C-4C12-9F55-077943754B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BC1E-2CEF-4CAC-A94C-DF7859D4B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9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2303280" cy="2708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2016360" cy="270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700360" y="3645000"/>
            <a:ext cx="2158920" cy="3213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859280" y="3645000"/>
            <a:ext cx="2376720" cy="3213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7236000" y="3645000"/>
            <a:ext cx="1908000" cy="321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340000" cy="2708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0" y="3645000"/>
            <a:ext cx="2700360" cy="3213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6659640" y="0"/>
            <a:ext cx="2484360" cy="270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0" y="3214800"/>
            <a:ext cx="9144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Тренировка лыжников-двоеборцев старших разрядов в подготовительном период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2708280"/>
            <a:ext cx="7632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ула Роман Эдуардович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Слайд № 1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А к т у а л ь н о с т 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бранной темы обусловле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обходимостью пересмотра содержания и методики тренировки лыжников двоеборцев в связи с низкими спортивными результа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ребностью в установлении сбалансированного соотношения тренировочной деятельности в видах специальной подготовки двоеборца – в лыжных гонках и прыжках с трампл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качестве рабоч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г и п о т е з 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ыло принято предположение о том, что построение тренировочного процесса лыжников-двоеборцев старших разрядов в подготовительном периоде по плану, направленному в большей степени на гоночную подготовку,  может дать больший тренировочный эффект, по сравнению с параллельным и равномерным совершенствованием мастерства в обоих видах двоебор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О б ъ е к т   и с с л е д о в а н и 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бно-тренировочный процесс лыжников-двоеборц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П р е д м е т   и с с л е д о в а н и 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содержание и методика подготовки лыжников - двоеборцев старших разрядов в подготовительном перио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Ц е л ь   и с с л е д о в а н и 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теоретическое обоснование, разработка и экспериментальная проверка эффективности методики тренировки  лыжников-двоеборцев старших разрядов в подготовительном периоде подгот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941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e941c"/>
                </a:solidFill>
                <a:latin typeface="Arial"/>
              </a:rPr>
              <a:t>З а д а ч и    и с с л е д о в а н и 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анализировать результаты выступления лыжников – двоеборцев России и методику их трениров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аботать план тренировки лыжников – двоеборцев старших разрядов  в подготовительном периоде подгот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верить эффективность предложенного плана в условиях реального тренировоч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Изменение показателей функционального состояния и специальной        физической подготовленности  у двоеборцев контрольной группы (М</a:t>
            </a:r>
            <a:r>
              <a:rPr b="1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+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1280" y="1413000"/>
          <a:ext cx="8229600" cy="3132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/п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ба Штанге (с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.4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.2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1.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.4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1.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-тест (ед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.8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2.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4.1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2.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6.4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2.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осс 3 км (с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2.2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9.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5.2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9.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1.6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9.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искок (см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21 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12.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16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4.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50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13.2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25923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419640" cy="227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2916360" cy="2276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492360" y="4724280"/>
            <a:ext cx="259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зменение показателей функционального состояния и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специальной  физической подготовленности  у двоеборцев </a:t>
            </a:r>
            <a:br>
              <a:rPr sz="2000"/>
            </a:b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экспериментальной группы (М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+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9640" y="1341360"/>
          <a:ext cx="8229600" cy="3925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след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ба Штанге (с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7.9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2.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2.6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2.9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4.4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2.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-тест (е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8.9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2.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20.2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2.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27.3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2.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осс 3 км (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31.1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5.4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58.8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5.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41.6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5.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ятискок (см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229 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13.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285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1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308 </a:t>
                      </a:r>
                      <a:r>
                        <a:rPr b="1" lang="en-US" sz="1600" spc="-1" strike="noStrike" u="sng" baseline="30000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13.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3564000" cy="155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564000" y="5300640"/>
            <a:ext cx="252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084720" y="5300640"/>
            <a:ext cx="305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5107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Протокол результатов контрольных испытаний лыжников-двоеборцев экспериментальной и контрольных групп в  начале подготовительного периода.15-16 ИЮНЯ 2008года.  Прыжки на лыжах и лыжероллеры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8000" y="1197000"/>
          <a:ext cx="8734320" cy="5457960"/>
        </p:xfrm>
        <a:graphic>
          <a:graphicData uri="http://schemas.openxmlformats.org/drawingml/2006/table">
            <a:tbl>
              <a:tblPr/>
              <a:tblGrid>
                <a:gridCol w="1617480"/>
                <a:gridCol w="1422360"/>
                <a:gridCol w="1424160"/>
                <a:gridCol w="1424160"/>
                <a:gridCol w="1422360"/>
                <a:gridCol w="1423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ки за прыж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в гонке (мин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су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.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.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арифметическая велич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.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,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,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.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.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,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.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.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арифметическая велич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Протокол результатов контрольных испытаний лыжников-двоеборцев экспериментальной и контрольных групп в  конце подготовительного   начале соревновательного периода. 9-10  октября 2008 года. Прыжки на лыжах и лыжероллеры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413000"/>
          <a:ext cx="9074160" cy="5367240"/>
        </p:xfrm>
        <a:graphic>
          <a:graphicData uri="http://schemas.openxmlformats.org/drawingml/2006/table">
            <a:tbl>
              <a:tblPr/>
              <a:tblGrid>
                <a:gridCol w="1690560"/>
                <a:gridCol w="1422360"/>
                <a:gridCol w="1424160"/>
                <a:gridCol w="1424160"/>
                <a:gridCol w="1422360"/>
                <a:gridCol w="1690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ки за прыж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в гонке(мин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су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.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.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.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.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,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1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перимент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.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3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арифметическая велич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.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,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.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,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2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.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,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.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.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.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арифметическая велич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941c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Анализ литературных источников и результатов выступления лыжников-двоеборцев в международных соревнованиях свидетельствуют о том, что в настоящее время результаты наших спортсменов очень низ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четание видов подготовки у лыжников – двоеборцев высших разрядов – это волнообразное чередование концентрированных нагрузок гоночной и прыжковой направл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В основу оптимизации тренировочного процесса двоеборцев старших разрядов в подготовительном периоде была положена идея, что в это время двоеборцу нужно тренироваться по плану лыжника-гонщика с включением специальных упражнений прыгуна в отдельные занятия и отдельных занятий по совершенствованию прыжков на лыжах с трампл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Результаты педагогического эксперимента свидетельствуют об эффективности предложенной методики. Рациональное распределение средств и методов подготовки, обеспечило достоверно значимое преимущество в ЭГ по сравнению с КГ в показателях физического и функционального состояния молодых лыжников-двоеборцев (кросс на 3км, «степ-тест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В качестве главного внешнего критерия  эффективности были использованы результаты выступления на соревнованиях в сезоне 2008-2009 годов спортсменов экспериментальной группы, которые оказались выше, чем у спортсменов контрольной груп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940360" y="5589720"/>
            <a:ext cx="3203640" cy="1268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5805360"/>
            <a:ext cx="3203640" cy="1052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3640" y="5805360"/>
            <a:ext cx="2736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941c"/>
                </a:solidFill>
                <a:latin typeface="Arial"/>
              </a:rPr>
              <a:t>ПРАКТИЧЕСКИЕ РЕКОМЕНДАЦИ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183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При составлении плана подготовки лыжников-двоеборцев к новому сезону планировать систематические тренировки в переходном периоде, что позволит начать тренировочный процесс к новому сезону имея более высокие начальные показатели физического и функционального состоя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При подборе содержания,  средств и методов тренировки в подготовительном периоде учитывать преобладающее значение гоночной подготовки на результат в сумме двоебор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Повышение уровня прыжковой подготовки добиваться за счет включения в занятия большого количества специальных (прыжковых) упражнений прыгуна с трамплина и отдельных занятий по совершенствованию прыжков на трамплине с искусственным покрыт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98920" y="4221000"/>
            <a:ext cx="3745080" cy="263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2916360" cy="263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916360" y="4221000"/>
            <a:ext cx="2447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2:21:22Z</dcterms:created>
  <dc:creator>user</dc:creator>
  <dc:description/>
  <dc:language>en-US</dc:language>
  <cp:lastModifiedBy>223</cp:lastModifiedBy>
  <dcterms:modified xsi:type="dcterms:W3CDTF">2014-12-17T10:50:56Z</dcterms:modified>
  <cp:revision>9</cp:revision>
  <dc:subject/>
  <dc:title>Слайд 1</dc:title>
</cp:coreProperties>
</file>