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41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743-C984-40DD-AA19-96AD2D6A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369-1857-4BEA-9A14-956B96CD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F00-905D-4AFC-9A78-D4E2734E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2B0-6715-4402-A757-34F12634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4B1-77FC-4E69-8A18-CE96CAE9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F0A0-A8FE-4BCD-BA47-21808570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8DB8-394A-4B03-A1D2-F364276D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AED2-3CC5-4059-B908-40D5ADC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6757-CB9E-4E89-BA7C-8F1E20AB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BDC1-BCD8-4BE2-B15F-85AF3BED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285F-AF9F-4B26-A664-DDDD037A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760-3CA3-42B4-90A8-455DD1C9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6956-EBB8-4635-8B10-9DD5075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E4B-A99E-4F63-A2DA-756C630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B19-5DB3-459C-B91B-FB4D1F89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EA4E-2906-40D5-850A-2EB43E60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01E8-B6B2-4230-8C62-FB3603B2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416-A97A-4CF5-AA90-A545AEE0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A18-58D5-44B1-9AFA-C3671E2B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F7E-0F40-4CA3-9F9F-7F8D48A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945-F0CE-4FE1-83B8-066A96D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41E-B50D-49D8-AC72-4905BCE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25B-7622-4F7C-A424-38785D0B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A60-FE2F-43BC-A5C3-C5697E3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2320" y="64080"/>
              <a:ext cx="2109960" cy="6618600"/>
              <a:chOff x="6952320" y="64080"/>
              <a:chExt cx="2109960" cy="661860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2320" y="66600"/>
                <a:ext cx="2008440" cy="6616080"/>
                <a:chOff x="6952320" y="66600"/>
                <a:chExt cx="2008440" cy="661608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4000" y="14148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3520" y="2259720"/>
                  <a:ext cx="1031760" cy="1126800"/>
                  <a:chOff x="7553520" y="2259720"/>
                  <a:chExt cx="1031760" cy="112680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6160"/>
                    <a:ext cx="9882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9480" y="2367360"/>
                    <a:ext cx="699840" cy="91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6680" y="922320"/>
                  <a:ext cx="874080" cy="885240"/>
                  <a:chOff x="8086680" y="922320"/>
                  <a:chExt cx="874080" cy="8852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6000" y="922320"/>
                    <a:ext cx="775800" cy="88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840" y="1059480"/>
                    <a:ext cx="61776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1160"/>
                  <a:ext cx="1003680" cy="1195920"/>
                  <a:chOff x="7328520" y="3971160"/>
                  <a:chExt cx="1003680" cy="119592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1160"/>
                    <a:ext cx="1003680" cy="11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480" y="4071240"/>
                    <a:ext cx="773640" cy="99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5320" y="5139360"/>
                  <a:ext cx="1354320" cy="1543320"/>
                  <a:chOff x="7465320" y="5139360"/>
                  <a:chExt cx="1354320" cy="154332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720"/>
                    <a:ext cx="1298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9560" y="5261760"/>
                    <a:ext cx="1005840" cy="129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2320" y="1848600"/>
                  <a:ext cx="874080" cy="879120"/>
                  <a:chOff x="6952320" y="1848600"/>
                  <a:chExt cx="87408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120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480" y="1980720"/>
                    <a:ext cx="61740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27680" y="78120"/>
                <a:ext cx="1434600" cy="5131800"/>
                <a:chOff x="7627680" y="78120"/>
                <a:chExt cx="1434600" cy="513180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49080" y="4016520"/>
                  <a:ext cx="989280" cy="1193400"/>
                  <a:chOff x="7849080" y="4016520"/>
                  <a:chExt cx="989280" cy="119340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8240" y="4037400"/>
                    <a:ext cx="93168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1200" y="4098600"/>
                    <a:ext cx="724680" cy="102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27680" y="1013400"/>
                  <a:ext cx="1091160" cy="1144800"/>
                  <a:chOff x="7627680" y="1013400"/>
                  <a:chExt cx="1091160" cy="114480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000" cy="11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5480" y="1115640"/>
                    <a:ext cx="655560" cy="93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1440" y="78120"/>
                  <a:ext cx="870840" cy="971640"/>
                  <a:chOff x="8191440" y="78120"/>
                  <a:chExt cx="870840" cy="97164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3280" y="121320"/>
                    <a:ext cx="76788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6240" y="162720"/>
                    <a:ext cx="56088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0400" y="3231360"/>
                  <a:ext cx="3776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200" y="900000"/>
                  <a:ext cx="29520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880" y="64080"/>
                <a:ext cx="1555200" cy="6003000"/>
                <a:chOff x="7472880" y="64080"/>
                <a:chExt cx="1555200" cy="600300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960" y="4843800"/>
                  <a:ext cx="95652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0240" y="153360"/>
                  <a:ext cx="66960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2120" y="3769560"/>
                  <a:ext cx="59256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9360" y="1771200"/>
                  <a:ext cx="71028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2240"/>
              <a:ext cx="982440" cy="1349280"/>
              <a:chOff x="8150400" y="271224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224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2200" y="2810880"/>
                <a:ext cx="80208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560" y="5900760"/>
                <a:ext cx="1194120" cy="85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520" y="6207480"/>
              <a:ext cx="90432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1D0D-D323-4AE0-B76D-1CD4E06FF00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2320" y="64080"/>
              <a:ext cx="2109960" cy="6618600"/>
              <a:chOff x="6952320" y="64080"/>
              <a:chExt cx="2109960" cy="661860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2320" y="66600"/>
                <a:ext cx="2008440" cy="6616080"/>
                <a:chOff x="6952320" y="66600"/>
                <a:chExt cx="2008440" cy="661608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4000" y="14148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3520" y="2259720"/>
                  <a:ext cx="1031760" cy="1126800"/>
                  <a:chOff x="7553520" y="2259720"/>
                  <a:chExt cx="1031760" cy="112680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6160"/>
                    <a:ext cx="9882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9480" y="2367360"/>
                    <a:ext cx="699840" cy="91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6680" y="922320"/>
                  <a:ext cx="874080" cy="885240"/>
                  <a:chOff x="8086680" y="922320"/>
                  <a:chExt cx="874080" cy="8852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6000" y="922320"/>
                    <a:ext cx="775800" cy="88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840" y="1059480"/>
                    <a:ext cx="61776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1160"/>
                  <a:ext cx="1003680" cy="1195920"/>
                  <a:chOff x="7328520" y="3971160"/>
                  <a:chExt cx="1003680" cy="119592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1160"/>
                    <a:ext cx="1003680" cy="11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480" y="4071240"/>
                    <a:ext cx="773640" cy="99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5320" y="5139360"/>
                  <a:ext cx="1354320" cy="1543320"/>
                  <a:chOff x="7465320" y="5139360"/>
                  <a:chExt cx="1354320" cy="154332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720"/>
                    <a:ext cx="1298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9560" y="5261760"/>
                    <a:ext cx="1005840" cy="129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2320" y="1848600"/>
                  <a:ext cx="874080" cy="879120"/>
                  <a:chOff x="6952320" y="1848600"/>
                  <a:chExt cx="87408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120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480" y="1980720"/>
                    <a:ext cx="617400" cy="6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27680" y="78120"/>
                <a:ext cx="1434600" cy="5131800"/>
                <a:chOff x="7627680" y="78120"/>
                <a:chExt cx="1434600" cy="513180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49080" y="4016520"/>
                  <a:ext cx="989280" cy="1193400"/>
                  <a:chOff x="7849080" y="4016520"/>
                  <a:chExt cx="989280" cy="119340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8240" y="4037400"/>
                    <a:ext cx="93168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1200" y="4098600"/>
                    <a:ext cx="724680" cy="102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27680" y="1013400"/>
                  <a:ext cx="1091160" cy="1144800"/>
                  <a:chOff x="7627680" y="1013400"/>
                  <a:chExt cx="1091160" cy="114480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000" cy="11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5480" y="1115640"/>
                    <a:ext cx="655560" cy="93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1440" y="78120"/>
                  <a:ext cx="870840" cy="971640"/>
                  <a:chOff x="8191440" y="78120"/>
                  <a:chExt cx="870840" cy="97164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3280" y="121320"/>
                    <a:ext cx="76788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6240" y="162720"/>
                    <a:ext cx="56088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0400" y="3231360"/>
                  <a:ext cx="3776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200" y="900000"/>
                  <a:ext cx="29520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880" y="64080"/>
                <a:ext cx="1555200" cy="6003000"/>
                <a:chOff x="7472880" y="64080"/>
                <a:chExt cx="1555200" cy="600300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960" y="4843800"/>
                  <a:ext cx="95652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0240" y="153360"/>
                  <a:ext cx="66960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2120" y="3769560"/>
                  <a:ext cx="59256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9360" y="1771200"/>
                  <a:ext cx="71028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2240"/>
              <a:ext cx="982440" cy="1349280"/>
              <a:chOff x="8150400" y="271224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224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2200" y="2810880"/>
                <a:ext cx="80208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560" y="5900760"/>
                <a:ext cx="1194120" cy="85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520" y="6207480"/>
              <a:ext cx="90432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AFA-E7FA-4F39-A41E-38572A5B647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542360" cy="46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26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ОРОЖНО – ЭЛЕКТРОПРИБОРЫ!!!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10253f"/>
                </a:solidFill>
                <a:latin typeface="Verdana"/>
              </a:rPr>
              <a:t>Воспитатель: Бакланова.А.В.</a:t>
            </a:r>
            <a:br>
              <a:rPr sz="1800"/>
            </a:br>
            <a:r>
              <a:rPr b="0" lang="ru-RU" sz="1800" spc="-1" strike="noStrike">
                <a:solidFill>
                  <a:srgbClr val="10253f"/>
                </a:solidFill>
                <a:latin typeface="Verdana"/>
              </a:rPr>
              <a:t>                                           </a:t>
            </a:r>
            <a:r>
              <a:rPr b="0" lang="en-US" sz="1800" spc="-1" strike="noStrike">
                <a:solidFill>
                  <a:srgbClr val="10253f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000" y="620280"/>
            <a:ext cx="4608360" cy="53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гости к нам пришла сосед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ы резвились с ней полдн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пицу вставили в розетк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з розетки – столб огн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ы с соседкой еле-е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ыгнуть в сторону успе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апа мой, большой знато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м сказал: “В розетке – то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м розетку эту 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рогать не совету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тюги и пров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 хватайте никогда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ок невидимый без ру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с ударить может вдруг!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894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20e5e"/>
                </a:solidFill>
                <a:latin typeface="Verdana"/>
              </a:rPr>
              <a:t>Чтоб не случилась с тобою беда</a:t>
            </a:r>
            <a:br>
              <a:rPr sz="2800"/>
            </a:br>
            <a:r>
              <a:rPr b="1" lang="ru-RU" sz="2800" spc="-1" strike="noStrike">
                <a:solidFill>
                  <a:srgbClr val="120e5e"/>
                </a:solidFill>
                <a:latin typeface="Verdana"/>
              </a:rPr>
              <a:t>Правила эти помни всегда!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22222"/>
          <p:cNvPicPr/>
          <p:nvPr/>
        </p:nvPicPr>
        <p:blipFill>
          <a:blip r:embed="rId1"/>
          <a:stretch/>
        </p:blipFill>
        <p:spPr>
          <a:xfrm>
            <a:off x="2484360" y="1557360"/>
            <a:ext cx="3657600" cy="3556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611280" y="5444640"/>
            <a:ext cx="76327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 заливай водой горящие электроприбо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ffffff"/>
                </a:solidFill>
                <a:latin typeface="Tahoma"/>
              </a:rPr>
              <a:t>Не играй с розетками!!!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5555"/>
          <p:cNvPicPr/>
          <p:nvPr/>
        </p:nvPicPr>
        <p:blipFill>
          <a:blip r:embed="rId1"/>
          <a:stretch/>
        </p:blipFill>
        <p:spPr>
          <a:xfrm>
            <a:off x="1979640" y="1989000"/>
            <a:ext cx="4416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 дотрагивайся до проводов и электроприборов мокрыми руками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4" descr="111141"/>
          <p:cNvPicPr/>
          <p:nvPr/>
        </p:nvPicPr>
        <p:blipFill>
          <a:blip r:embed="rId1"/>
          <a:stretch/>
        </p:blipFill>
        <p:spPr>
          <a:xfrm>
            <a:off x="2487600" y="1806480"/>
            <a:ext cx="41688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 оставляйте без присмотра включенные электроприборы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4" descr="3333333"/>
          <p:cNvPicPr/>
          <p:nvPr/>
        </p:nvPicPr>
        <p:blipFill>
          <a:blip r:embed="rId1"/>
          <a:stretch/>
        </p:blipFill>
        <p:spPr>
          <a:xfrm>
            <a:off x="2487600" y="1806480"/>
            <a:ext cx="41688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се приборы разо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ы в одну розетку включишь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о пожар проводки сразу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этой комнате получишь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3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4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розетку ни в коем случае нельзя втыкать посторонние предметы (особенно металлические)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4" descr="kids2"/>
          <p:cNvPicPr/>
          <p:nvPr/>
        </p:nvPicPr>
        <p:blipFill>
          <a:blip r:embed="rId1"/>
          <a:stretch/>
        </p:blipFill>
        <p:spPr>
          <a:xfrm>
            <a:off x="2413080" y="2252520"/>
            <a:ext cx="431784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137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льзя тянуть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 электрический провод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ключая электроприбор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зьмись за вилку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4" descr="kids3"/>
          <p:cNvPicPr/>
          <p:nvPr/>
        </p:nvPicPr>
        <p:blipFill>
          <a:blip r:embed="rId1"/>
          <a:stretch/>
        </p:blipFill>
        <p:spPr>
          <a:xfrm>
            <a:off x="2381400" y="2722680"/>
            <a:ext cx="438120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50920" y="2060640"/>
            <a:ext cx="835344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5e1fe"/>
                </a:solidFill>
                <a:latin typeface="Tahoma"/>
              </a:rPr>
              <a:t>Внимание! Внимание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5e1fe"/>
                </a:solidFill>
                <a:latin typeface="Tahoma"/>
              </a:rPr>
              <a:t>Соблюдайте правила,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5e1fe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c5e1fe"/>
                </a:solidFill>
                <a:latin typeface="Tahoma"/>
              </a:rPr>
              <a:t>чтоб не было возгорания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гадки об электроприбор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440208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Белый шкаф стоит в углу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ашей кухни на полу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 нем немало льда и снега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 нем всегда мороз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Может быть, снег белый с неба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Кто-нибудь принес?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Здесь морозно даже летом..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Кто мне скажет, что же это?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657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1092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521000" indent="2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c5e1fe"/>
                </a:solidFill>
                <a:latin typeface="Arial"/>
              </a:rPr>
              <a:t>Ток бежит по проводам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1521000" indent="2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c5e1fe"/>
                </a:solidFill>
                <a:latin typeface="Arial"/>
              </a:rPr>
              <a:t>Свет несёт в квартиру нам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1521000" indent="2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c5e1fe"/>
                </a:solidFill>
                <a:latin typeface="Arial"/>
              </a:rPr>
              <a:t>Чтоб работали приборы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1521000" indent="2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c5e1fe"/>
                </a:solidFill>
                <a:latin typeface="Arial"/>
              </a:rPr>
              <a:t>Холодильник, мониторы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1521000" indent="2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c5e1fe"/>
                </a:solidFill>
                <a:latin typeface="Arial"/>
              </a:rPr>
              <a:t>Кофемолки, пылесос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1521000" indent="2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c5e1fe"/>
                </a:solidFill>
                <a:latin typeface="Arial"/>
              </a:rPr>
              <a:t>Ток энергию принёс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9640" y="54936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сть у меня в квартире робот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У него огромный хобот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Любит робот чистот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И гудит, как лайнер "ТУ"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н охотно пыль глотает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е болеет, не чихает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Что говорить – не солнце я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о освещать умею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Меня лишь включите, друзья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И станет жизнь светлее.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е будет времени для сна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сегда, когда я включена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9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rcRect l="35567" t="36106" r="36312" b="35669"/>
          <a:stretch/>
        </p:blipFill>
        <p:spPr>
          <a:xfrm>
            <a:off x="4932360" y="549360"/>
            <a:ext cx="215748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519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8000" y="1052280"/>
            <a:ext cx="3887640" cy="48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560" y="836640"/>
            <a:ext cx="770580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Я и важен, я и нужен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Лишь включите вы мен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сли только захочу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Кипяточку вскипяч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И вас чаем напою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Захотите, вы, ребята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Я вам песенку спою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Если песню не хотите –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Я вам сказку расскажу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68360" y="11970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620640"/>
            <a:ext cx="799128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Только я, только я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Я на кухне главна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Без меня, как ни трудитесь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Без обеда насидитесь.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а столе я нахожусь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ам, ребята, пригожусь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Меня вечером включит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Когда читать вы захотите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rcRect l="68528" t="39168" r="2384" b="35754"/>
          <a:stretch/>
        </p:blipFill>
        <p:spPr>
          <a:xfrm>
            <a:off x="4859280" y="260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2"/>
          <a:stretch/>
        </p:blipFill>
        <p:spPr>
          <a:xfrm>
            <a:off x="1258920" y="319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По сатиновому полю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 рейс пошел электроход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н плывет, с волнами споря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То назад, а то вперед…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Там, где он оставил след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Ни одной морщинки нет!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от так дом —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Одно окно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Каждый ден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 окне кино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595680" cy="277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rcRect l="3246" t="36389" r="67482" b="36682"/>
          <a:stretch/>
        </p:blipFill>
        <p:spPr>
          <a:xfrm>
            <a:off x="4859280" y="33336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11280" y="404640"/>
            <a:ext cx="820872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ерез поле и лесо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ается голос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н бежит по проводам —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кажешь здес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слышно та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смотри на бочо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 мне вертится волч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и кого он не бьё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то всё собьё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2995920" cy="2244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rcRect l="4906" t="11640" r="66545" b="63964"/>
          <a:stretch/>
        </p:blipFill>
        <p:spPr>
          <a:xfrm>
            <a:off x="755640" y="3213000"/>
            <a:ext cx="2879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Игра с мячом «Для чего это нужно?»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640" y="9079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вайте вместе вспомним, какие действия совершают разными электроприбор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тюгом – гладят бельё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иксером – взбивают кре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еном – сушат волос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ампой – освещают книг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ылесосом – пылесосят ковр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ентилятором – охлаждают возду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холодильнике – хранят продукт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микроволновке – разогревают ед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чайнике – кипятят вод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лектроплите – готовят ед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 телефону – звонят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магнитофоне – слушают музык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0560" y="475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83b2a"/>
                </a:solidFill>
                <a:latin typeface="Tahoma"/>
              </a:rPr>
              <a:t>Главное правило пользования электроприборами для дошкольник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5e1fe"/>
                </a:solidFill>
                <a:latin typeface="Tahoma"/>
              </a:rPr>
              <a:t>Нельзя включать электроприборы без разрешения взросл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5e1fe"/>
                </a:solidFill>
                <a:latin typeface="Tahoma"/>
              </a:rPr>
              <a:t>и в их отсутств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83b2a"/>
                </a:solidFill>
                <a:latin typeface="Tahoma"/>
              </a:rPr>
              <a:t>И если вы будете соблюдать все эти правила, то электричество будет  всегда вашим друг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Дети, будьте бдительны!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Очень заняты ваши родители.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Помните о своей безопасности –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Вокруг не мало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</a:rPr>
              <a:t>опасностей!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kids4"/>
          <p:cNvPicPr/>
          <p:nvPr/>
        </p:nvPicPr>
        <p:blipFill>
          <a:blip r:embed="rId1"/>
          <a:stretch/>
        </p:blipFill>
        <p:spPr>
          <a:xfrm>
            <a:off x="2124000" y="2421000"/>
            <a:ext cx="365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928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Жизнь опасна если рядом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Зажигалки, спички, ток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Не бери их в руки, детка,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Вот тогда и будет толк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905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928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Газ на кухне, пылесос,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Телевизор, тостер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усть включает взрослый.</a:t>
            </a: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2567160" y="1806480"/>
            <a:ext cx="4009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И девочка, и мальчик,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Не суй в розетку пальчик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В розетке круглый год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Живет опасный ток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535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928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ельзя играться с утюгом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тюг бывает тоже злом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е приключиться чтоб беде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тюг нельзя включать тебе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0001"/>
          <p:cNvPicPr/>
          <p:nvPr/>
        </p:nvPicPr>
        <p:blipFill>
          <a:blip r:embed="rId1"/>
          <a:stretch/>
        </p:blipFill>
        <p:spPr>
          <a:xfrm>
            <a:off x="1403280" y="2637000"/>
            <a:ext cx="60134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61136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сли ты включил утюг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бегать не надо вдруг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крывая в доме дверь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ли выключил, проверь.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5" descr="4444"/>
          <p:cNvPicPr/>
          <p:nvPr/>
        </p:nvPicPr>
        <p:blipFill>
          <a:blip r:embed="rId1"/>
          <a:stretch/>
        </p:blipFill>
        <p:spPr>
          <a:xfrm>
            <a:off x="1979640" y="2246400"/>
            <a:ext cx="50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7708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92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от докрасна утюг раскалилс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озяин ушел, а пожар приключилс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кажем, друзья вам, дружно и ясно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тюг и розетку трогать опасно.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124000" y="2023920"/>
            <a:ext cx="48960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0:05:32Z</dcterms:created>
  <dc:creator>Admin</dc:creator>
  <dc:description/>
  <dc:language>en-US</dc:language>
  <cp:lastModifiedBy>ВОВА</cp:lastModifiedBy>
  <dcterms:modified xsi:type="dcterms:W3CDTF">2018-10-25T16:09:52Z</dcterms:modified>
  <cp:revision>33</cp:revision>
  <dc:subject/>
  <dc:title>Огонь в картинках и загадках.</dc:title>
</cp:coreProperties>
</file>