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BC57-B939-4EE8-827D-D54A9C8F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E331-3B84-4B46-9804-C2735D4B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C62E-CAAC-472C-9E50-28A17DD2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BE3-DEFE-4E66-BF94-FAF61421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682-5926-4F2F-9A00-A2ACFC10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10A-3D1E-4FD3-9EE0-98837D34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E46-215C-4590-BE9E-01F4799B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7DA4-A30F-4DA1-83AD-8B11E2D7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135-9F24-46A8-BF70-8CC64DDA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788E-D2A3-41C9-92EA-2AC7DC05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7306-6A3A-4A38-B87F-26947F19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D5B-66CC-4F03-8FE1-E2C6C66B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D3D3-5393-4E00-8A94-83DDAF7384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480" y="476280"/>
            <a:ext cx="864396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Урок математики</a:t>
            </a:r>
            <a:br>
              <a:rPr sz="4800"/>
            </a:br>
            <a:r>
              <a:rPr b="0" lang="ru-RU" sz="4800" spc="-1" strike="noStrike">
                <a:solidFill>
                  <a:srgbClr val="b00000"/>
                </a:solidFill>
                <a:latin typeface="Times New Roman"/>
              </a:rPr>
              <a:t>Тема: «Квадратный дециметр»</a:t>
            </a:r>
            <a:br>
              <a:rPr sz="4800"/>
            </a:b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3 класс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2801880" y="4626000"/>
            <a:ext cx="100821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928440"/>
            <a:ext cx="828036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Соедини линиями равные друг другу именованные числ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дм²                                  8 дм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 дм²                                 900 см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9 дм²                                100 см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00 см²                             5 дм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00 см²                             600 см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оценка: 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товарища:   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Прямая со стрелкой 6"/>
          <p:cNvCxnSpPr/>
          <p:nvPr/>
        </p:nvCxnSpPr>
        <p:spPr>
          <a:xfrm>
            <a:off x="1499760" y="2357280"/>
            <a:ext cx="3072600" cy="1215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1" name="Прямая со стрелкой 9"/>
          <p:cNvCxnSpPr/>
          <p:nvPr/>
        </p:nvCxnSpPr>
        <p:spPr>
          <a:xfrm>
            <a:off x="1428480" y="3071880"/>
            <a:ext cx="3215160" cy="1643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2" name="Прямая со стрелкой 11"/>
          <p:cNvCxnSpPr/>
          <p:nvPr/>
        </p:nvCxnSpPr>
        <p:spPr>
          <a:xfrm flipV="1">
            <a:off x="1499760" y="2928960"/>
            <a:ext cx="3143880" cy="643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3" name="Прямая со стрелкой 14"/>
          <p:cNvCxnSpPr/>
          <p:nvPr/>
        </p:nvCxnSpPr>
        <p:spPr>
          <a:xfrm flipV="1">
            <a:off x="1785960" y="2356560"/>
            <a:ext cx="3000960" cy="1786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" name="Прямая со стрелкой 16"/>
          <p:cNvCxnSpPr/>
          <p:nvPr/>
        </p:nvCxnSpPr>
        <p:spPr>
          <a:xfrm flipV="1">
            <a:off x="1714320" y="4143240"/>
            <a:ext cx="2929320" cy="643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Вычисли и сравни площади прямоугольник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357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 д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дм                                                        2 д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д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3500280" y="1928880"/>
            <a:ext cx="4286520" cy="1714320"/>
          </a:xfrm>
          <a:prstGeom prst="rect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428760" y="3143160"/>
            <a:ext cx="2857320" cy="285768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Прямоугольник 6" descr=""/>
          <p:cNvPicPr/>
          <p:nvPr/>
        </p:nvPicPr>
        <p:blipFill>
          <a:blip r:embed="rId1"/>
          <a:stretch/>
        </p:blipFill>
        <p:spPr>
          <a:xfrm>
            <a:off x="5194440" y="2060640"/>
            <a:ext cx="1298520" cy="11588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7" descr=""/>
          <p:cNvPicPr/>
          <p:nvPr/>
        </p:nvPicPr>
        <p:blipFill>
          <a:blip r:embed="rId2"/>
          <a:stretch/>
        </p:blipFill>
        <p:spPr>
          <a:xfrm>
            <a:off x="1189080" y="3706920"/>
            <a:ext cx="129852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Продолжи предложени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годня я узнал(а)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ыло интересно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приобрел(а)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ня удивило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е понравилось 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е хотелос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Тема: «Квадратный дециметр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Познакомиться с новой единицей измерения площади дм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Узнать, как дм² связан с см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Учиться решать задачи с использованием новой единицы площад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ГИМНАСТИКА ДЛЯ УМ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659640" y="907920"/>
            <a:ext cx="2708280" cy="27021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179280" y="1859040"/>
            <a:ext cx="777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сегодня числ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еличьте его на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дм в 1 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число следует за числом 59, 88, 99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еличьте 9 в 6 ра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еличьте 9 на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ьшить 42 на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ьшить 42 в 7 ра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см в 1 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см в 1д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5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щ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6 + 2) ·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13 – 8) ·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8 – 60 +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6 : 6 +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18 – 18) ·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29 – 28) ·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70 – 40) :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5148360" y="1844640"/>
            <a:ext cx="27064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00000"/>
                </a:solidFill>
                <a:latin typeface="Times New Roman"/>
              </a:rPr>
              <a:t>1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0 </a:t>
            </a:r>
            <a:r>
              <a:rPr b="1" lang="en-US" sz="4400" spc="-1" strike="noStrike">
                <a:solidFill>
                  <a:srgbClr val="b00000"/>
                </a:solidFill>
                <a:latin typeface="Times New Roman"/>
              </a:rPr>
              <a:t>c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м = 1 д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76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 д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 д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1214280" y="1571760"/>
            <a:ext cx="4357800" cy="4357440"/>
          </a:xfrm>
          <a:prstGeom prst="rect">
            <a:avLst/>
          </a:prstGeom>
          <a:solidFill>
            <a:srgbClr val="ff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395280" y="0"/>
            <a:ext cx="8229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Квадратный децимет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673680" y="836640"/>
            <a:ext cx="27068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C:\Users\1\Desktop\2624596941.jpg"/>
          <p:cNvPicPr/>
          <p:nvPr/>
        </p:nvPicPr>
        <p:blipFill>
          <a:blip r:embed="rId1"/>
          <a:stretch/>
        </p:blipFill>
        <p:spPr>
          <a:xfrm>
            <a:off x="179280" y="115920"/>
            <a:ext cx="778824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Администратор\Desktop\Открытый урок\550px-21-12-15.jpg"/>
          <p:cNvPicPr/>
          <p:nvPr/>
        </p:nvPicPr>
        <p:blipFill>
          <a:blip r:embed="rId1"/>
          <a:srcRect l="0" t="0" r="38091" b="0"/>
          <a:stretch/>
        </p:blipFill>
        <p:spPr>
          <a:xfrm>
            <a:off x="1000080" y="1143000"/>
            <a:ext cx="5143680" cy="5121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71840" y="214200"/>
            <a:ext cx="46432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1 дм ²= 100 см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840" y="642600"/>
            <a:ext cx="200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Единицы </a:t>
            </a:r>
            <a:br>
              <a:rPr sz="3200"/>
            </a:b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дли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                      кг                  см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м                    т                    м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м                    г                    мм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м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3357720" y="642960"/>
            <a:ext cx="200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Единицы </a:t>
            </a:r>
            <a:br>
              <a:rPr sz="3200"/>
            </a:b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мас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6429240" y="642960"/>
            <a:ext cx="2000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Единицы </a:t>
            </a:r>
            <a:br>
              <a:rPr sz="3200"/>
            </a:b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площад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3219480" y="4127400"/>
            <a:ext cx="27064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Правила работы в групп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Обсуждать тих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Не перебиват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Выслушать каждог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Обобщить и выбрать выступающег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C:\Users\1\Desktop\unnamed.jpg"/>
          <p:cNvPicPr/>
          <p:nvPr/>
        </p:nvPicPr>
        <p:blipFill>
          <a:blip r:embed="rId1"/>
          <a:stretch/>
        </p:blipFill>
        <p:spPr>
          <a:xfrm>
            <a:off x="6364440" y="1047600"/>
            <a:ext cx="271908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ользователь</cp:lastModifiedBy>
  <dcterms:modified xsi:type="dcterms:W3CDTF">2020-03-31T13:39:10Z</dcterms:modified>
  <cp:revision>82</cp:revision>
  <dc:subject/>
  <dc:title>Слайд 1</dc:title>
</cp:coreProperties>
</file>